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9.png" ContentType="image/png"/>
  <Override PartName="/ppt/media/image39.png" ContentType="image/png"/>
  <Override PartName="/ppt/media/image41.png" ContentType="image/png"/>
  <Override PartName="/ppt/media/image40.png" ContentType="image/png"/>
  <Override PartName="/ppt/media/image30.png" ContentType="image/png"/>
  <Override PartName="/ppt/media/image48.wmf" ContentType="image/x-wmf"/>
  <Override PartName="/ppt/media/image42.png" ContentType="image/png"/>
  <Override PartName="/ppt/media/image31.png" ContentType="image/png"/>
  <Override PartName="/ppt/media/image14.wmf" ContentType="image/x-wmf"/>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3.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rbe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ea typeface="ＭＳ Ｐゴシック"/>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move the slide</a:t>
            </a:r>
            <a:endParaRPr b="0" lang="en-US" sz="4400" spc="-1" strike="noStrike">
              <a:solidFill>
                <a:srgbClr val="975c1e"/>
              </a:solidFill>
              <a:latin typeface="Calibri"/>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0BCF1-C4DD-4519-B9A4-2B6B03FB8AAC}"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a:endParaRPr>
          </a:p>
        </p:txBody>
      </p:sp>
      <p:sp>
        <p:nvSpPr>
          <p:cNvPr id="743"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6A128-4AFF-44D6-BA4F-77D0F0363EF9}"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a:endParaRPr>
          </a:p>
        </p:txBody>
      </p:sp>
      <p:sp>
        <p:nvSpPr>
          <p:cNvPr id="740"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A70EC-C9C5-48BD-8E34-45571B02B0F1}"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BF1FC-507E-4E28-971A-55419C1E6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6"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7"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ACF8E-9A0D-40E7-B340-F5DDAA025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25"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26"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70CFE0B-7E24-49D3-87C3-647643C328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631EA5A-605A-49A7-AC44-94CE6A1FF2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7440218-A937-466A-BBD3-2F9A88CA69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30"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31"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32"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7999C53-DE94-407A-8D5B-C39CCD826C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34"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35"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36"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01BB94F-D3CC-4F17-B08C-F1943B35B0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38"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39"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40"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4497AC4-414B-4DF3-AC06-2914F36FCD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42"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43"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D9A0C62-B31F-4C13-BDD8-22F02569A7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45"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46"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47"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48"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8B954FB-FED3-434E-B032-62C2716DF7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50"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51"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52"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53"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54"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55"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0CE4E8C-2A01-4355-8BF3-69C53D5448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DB25D6-CFFB-420E-9056-D7860FB656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9"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0"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1"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2"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EAC1C-680F-4C5E-92EB-46BAD07F6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71"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5F0909-B1AF-4139-8D15-18C8688BF5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73"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199CA8-BB0B-40FF-B673-D2A3A8C12D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75"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76"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8D1129-D157-4D8C-8A1B-B209DEEDB6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C58EDA-DBDF-45D9-AE80-CEE6DEB713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68C88D-DB9D-4ED9-8E25-F382EA015E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80"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81"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82"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7EBDCF-8A0B-491D-A775-B694FAF2FF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84"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85"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86"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7D4E5A-37AF-4D72-9D4C-23D968F9F6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88"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89"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90"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C31AA1-958D-4248-A2EB-A65175BE4F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92"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93"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2EC7C6-03BA-4185-857D-6A3AD169E9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95"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96"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97"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98"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A0065B-634D-4F59-BCB3-2877298E50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4"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5"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6"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7"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8"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9"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FF82F-B19C-44D1-87AE-EEF58D427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00"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01"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02"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03"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04"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05"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96A408-3326-4107-B4CE-C4B3B993E3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47C3FA-FFCD-475D-AECD-71657CE00E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21"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86EB01-372B-4733-86B0-44697665F8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23"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81E8DF-C36E-4CFF-B243-3938FB1FAF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25"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26"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7D4204-D5BD-42B7-B065-BE53F7DE62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B51699-E26B-4E07-96A5-675BF3F0A0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4E6FB2-64EC-4E69-957A-6CD838F55B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30"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31"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32"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EA3B2C-7F36-4BE0-BD2E-CD63288C48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34"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35"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36"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D81111-2349-497C-8529-5610391A02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38"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39"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40"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7C3DF0-8F54-46B3-AD02-F913ECEF4A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9F5E8-E621-4D12-9B71-85CC6E89B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42"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43"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4376FD-47DE-4790-BC91-4A22576ACC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45"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46"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47"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48"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771D57-6B6E-42C3-B18D-65BAA48E8F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50"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51"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52"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53"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54"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55"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8B1595-EB0D-495F-99B2-03FE6963C8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6BF3AD-F1FE-4779-878B-018A049DA6A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71"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8295D9-C5CF-4DD8-B017-379D5E1C94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73"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E23A3D-EBEF-47F8-B9E4-F830D7AA1A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75"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76"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213BAD-1D25-47A7-9935-83F76097D7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4A585B-8F55-4E6C-8B1E-D203E1D8B8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AF91B7-EC31-4E4E-A6E7-42D26C2741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80"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81"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82"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5B10B6-68AD-44CE-A578-67BE8DEEA3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67"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74A34-3234-48A6-96BC-ED2021A13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84"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85"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86"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D045A8-6E08-4F85-A4A9-E9B717ECE3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88"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89"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90"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984795-99F4-4D72-9702-6D3B95BDBA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92"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93"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1910BA-1727-4E99-969B-F7FFD3EC5A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595"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96"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97"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98"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37A9D9-FF0F-4ADF-8674-50EDD27B19C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600"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01"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02"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03"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04"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05"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EF9A7B-BABD-40F0-9DA6-EE98782855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69"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A57C5-7A0A-4299-A379-F415CC6BF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71"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2"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EA0B1-8770-42DD-B6BC-BB61C15FA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1F76A-3C4B-4414-A246-A27E29906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B3DA9-D56C-42AE-8277-906F0BE5F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76"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7"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8"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2ED1F-F460-405F-9ECF-785ACBDE4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5"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A0AC8-D7F4-4ADE-8686-4A08D30DF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80"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81"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82"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2E0A6-2A78-4424-A92D-4ACAB14B3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84"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85"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86"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69ED8-4999-4DF7-A334-649A1A32C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88"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89"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B0C7A-DE76-4EF6-A4E8-44D9ACE31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91"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2"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3"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4"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6E6FC-1359-4C73-BA96-A1950CDB5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96"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7"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8"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9"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00"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01"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710DD-F503-4985-8A99-34D4B8C3E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C048D8-42C8-42E7-9E12-FCF25E8F70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17"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3D6BE-F795-4435-B726-0D1D8BCDF0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19"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0918B-FCFB-4646-A6DB-F750B48E9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21"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22"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3963BB-2BD1-4C53-996E-8BD49061B1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7AC9A-80E5-4B4D-B184-20FDF8C5FA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7"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E8C55-7F9E-497E-B7E6-6786A1847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683E7-BA61-4FCD-A8A4-648A444E76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26"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27"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28"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DAF04-8011-409B-8D79-CB9988A44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30"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31"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32"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E61C6-56E2-4F0C-A43E-7A31D8FB8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34"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35"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36"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CBC56-E70F-4528-A07D-2D63043CE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38"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39"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40599-4563-4CDD-94EE-D51BE2D63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41"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42"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43"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44"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28CA6D-CC3F-4048-A424-2AD1513ACA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46"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47"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48"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49"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50"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51"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932375-00D5-4FA9-A781-D0DDF0A513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47232D-7D20-4BED-A577-02872DE74A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71"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8900E6-D361-48CE-84FC-6B7106BFCD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73"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FECD9F-6CFD-497D-B16B-67DC7D58C9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9"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0"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AB3CC-DE97-437F-9256-5F0136A2A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75"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76"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F9DF4E-73D5-464D-95EE-3FD3BE5EAF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A8174-E998-468E-8E9A-9BEA4400CA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29E0D3-F473-4524-B6EA-08BF79F71F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80"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81"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82"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50FAD-EC40-4511-9C57-CCD2F2835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84"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85"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86"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BB8E5-8470-48AD-A844-EF19912C9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88"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89"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90"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B83C0-F201-4B35-AC1F-248567528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92"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93"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F24E92-1DA2-4A70-B4A9-76DBD6F550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195"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96"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97"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198"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35792-07E3-4ED3-9890-CB1E7C9033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00"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01"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02"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03"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04"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05"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9B9FC1-19C5-419C-9EBF-873C404CA8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81177A-F61D-4FD6-8D79-1BF3A90963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A0109-1DBE-479A-A9DB-1A53172DD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21"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9F6642-AB15-4094-9A3C-46F11A153C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23"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42F99A-06E6-48C6-BB25-06F819A560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25"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26"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11C25F-D6B7-4924-BB14-C48A14CA6B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4D92F1-A1E6-40AF-A2F6-F6F6CD4A96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9C7D32-8B5B-453E-8290-A2718BE6A1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30"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31"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32"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4CF79-D3E5-41E8-836C-860DCD369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34"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35"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36"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2A08A-DA38-45F8-B8D0-CF891CA25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38"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39"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40"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F9E010-0735-4E30-90BA-1DCFE8A7D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42"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43"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D3D200-75D9-4681-9236-BAAEC04733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45"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46"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47"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48"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624195-7D9F-4BB7-8E7C-BCCF6D4861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FDB23-95EA-4F8E-BB8B-A5137C19D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50"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51"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52"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53"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54"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55"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13A30B-7250-4DC6-AFAF-448C4A0B4A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4C287B-B056-4D8F-8644-F9032D2188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71"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636549-E625-4E20-9C9D-079B75A7E3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73"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54DF8C-8464-48FF-A541-170155105E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75"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76"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24625D-A752-4958-ABA3-5DA28C0490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759C8C-4837-4C85-A2D7-1EF26B08CE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D8C133-DC05-424D-87D7-47F0045694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80"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81"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82"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FD3E00-8E36-4E82-92C9-2C9F2FE20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84"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85"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86"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FA2698-A914-40B3-949C-754E0C47C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88"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89"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90"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BA65F-E586-478E-B054-16324774CF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4"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5"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6"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35628-397C-4A38-9ED1-42B9BC00A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92"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93"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C5CAEF-52A2-41A7-B20D-B6561EC424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95"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96"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97"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98"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C3939B-441F-40B4-8351-FDEC532335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00"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01"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02"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03"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04"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05"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0618DE-8044-4D3B-84FB-398E0B0532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58F1C1-018F-4C3C-8ADC-EDF438E5EA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21"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77C62C-D9B2-40C4-8480-FAD939A12A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23"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517DF8-41A0-438F-88B9-8D230C6913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25"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26"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FF1993-8E2D-4F57-9B6A-DE47BC4BC5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C047E9-3061-4E05-A26C-9EB251EACC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1A0B79-1198-478F-AF88-FE906EBE80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30"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31"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32"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630414-1F78-47FD-8DC0-E12E447827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28"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29"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0"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56134-71BF-416C-91C6-EDC61E2E9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34"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35"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36"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CD57D-2A33-4725-8755-FA31E8CB26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38"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39"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40"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6BE2B-26EB-4635-A9BA-E31609B0FE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42"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43"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580D5B-69DF-4DD9-AC3F-1C37626AC0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45"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46"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47"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48"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568B17-1D3F-4A4A-A3B8-E6C76E68E7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50"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51"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52"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53"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54"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55"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F881A3-A89B-4E89-BC6A-77C9B10436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C7C292-0914-437F-95BD-66C0BACADC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71"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FB8E42-C047-4B0A-92E4-367BA5C538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73"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DDD7EE-0817-4C58-8D11-ECDBA5B25E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75"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76"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E9C6A0-674D-47A0-A7FC-F0A9676AA8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7A4BB0-8791-4699-9A69-13DF2B30A4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2"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3"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4"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C0599-6A78-42F8-A880-4FDF7D361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4284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B67A86-C99D-4ECC-B5B0-7969ACFBEC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80"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81" name="PlaceHolder 3"/>
          <p:cNvSpPr>
            <a:spLocks noGrp="1"/>
          </p:cNvSpPr>
          <p:nvPr>
            <p:ph/>
          </p:nvPr>
        </p:nvSpPr>
        <p:spPr>
          <a:xfrm>
            <a:off x="467424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82"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6BB0E9-12CA-4F63-9E06-F29EEAE7B6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84" name="PlaceHolder 2"/>
          <p:cNvSpPr>
            <a:spLocks noGrp="1"/>
          </p:cNvSpPr>
          <p:nvPr>
            <p:ph/>
          </p:nvPr>
        </p:nvSpPr>
        <p:spPr>
          <a:xfrm>
            <a:off x="457200" y="1601640"/>
            <a:ext cx="40158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85"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86" name="PlaceHolder 4"/>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9E245C-4467-4CA8-8918-A7CE5C35E3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88"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89"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90" name="PlaceHolder 4"/>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59414D-7E47-4905-A429-77A3502C2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92" name="PlaceHolder 2"/>
          <p:cNvSpPr>
            <a:spLocks noGrp="1"/>
          </p:cNvSpPr>
          <p:nvPr>
            <p:ph/>
          </p:nvPr>
        </p:nvSpPr>
        <p:spPr>
          <a:xfrm>
            <a:off x="457200" y="160164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93" name="PlaceHolder 3"/>
          <p:cNvSpPr>
            <a:spLocks noGrp="1"/>
          </p:cNvSpPr>
          <p:nvPr>
            <p:ph/>
          </p:nvPr>
        </p:nvSpPr>
        <p:spPr>
          <a:xfrm>
            <a:off x="457200" y="4048920"/>
            <a:ext cx="822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DE5029-8217-49D9-BEFC-61D4339164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395" name="PlaceHolder 2"/>
          <p:cNvSpPr>
            <a:spLocks noGrp="1"/>
          </p:cNvSpPr>
          <p:nvPr>
            <p:ph/>
          </p:nvPr>
        </p:nvSpPr>
        <p:spPr>
          <a:xfrm>
            <a:off x="45720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96" name="PlaceHolder 3"/>
          <p:cNvSpPr>
            <a:spLocks noGrp="1"/>
          </p:cNvSpPr>
          <p:nvPr>
            <p:ph/>
          </p:nvPr>
        </p:nvSpPr>
        <p:spPr>
          <a:xfrm>
            <a:off x="4674240" y="160164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97" name="PlaceHolder 4"/>
          <p:cNvSpPr>
            <a:spLocks noGrp="1"/>
          </p:cNvSpPr>
          <p:nvPr>
            <p:ph/>
          </p:nvPr>
        </p:nvSpPr>
        <p:spPr>
          <a:xfrm>
            <a:off x="45720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398" name="PlaceHolder 5"/>
          <p:cNvSpPr>
            <a:spLocks noGrp="1"/>
          </p:cNvSpPr>
          <p:nvPr>
            <p:ph/>
          </p:nvPr>
        </p:nvSpPr>
        <p:spPr>
          <a:xfrm>
            <a:off x="4674240" y="4048920"/>
            <a:ext cx="40158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53D091-1423-4C98-8CE6-C07F5967E0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00" name="PlaceHolder 2"/>
          <p:cNvSpPr>
            <a:spLocks noGrp="1"/>
          </p:cNvSpPr>
          <p:nvPr>
            <p:ph/>
          </p:nvPr>
        </p:nvSpPr>
        <p:spPr>
          <a:xfrm>
            <a:off x="45720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01" name="PlaceHolder 3"/>
          <p:cNvSpPr>
            <a:spLocks noGrp="1"/>
          </p:cNvSpPr>
          <p:nvPr>
            <p:ph/>
          </p:nvPr>
        </p:nvSpPr>
        <p:spPr>
          <a:xfrm>
            <a:off x="323964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02" name="PlaceHolder 4"/>
          <p:cNvSpPr>
            <a:spLocks noGrp="1"/>
          </p:cNvSpPr>
          <p:nvPr>
            <p:ph/>
          </p:nvPr>
        </p:nvSpPr>
        <p:spPr>
          <a:xfrm>
            <a:off x="6022080" y="160164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03" name="PlaceHolder 5"/>
          <p:cNvSpPr>
            <a:spLocks noGrp="1"/>
          </p:cNvSpPr>
          <p:nvPr>
            <p:ph/>
          </p:nvPr>
        </p:nvSpPr>
        <p:spPr>
          <a:xfrm>
            <a:off x="45720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04" name="PlaceHolder 6"/>
          <p:cNvSpPr>
            <a:spLocks noGrp="1"/>
          </p:cNvSpPr>
          <p:nvPr>
            <p:ph/>
          </p:nvPr>
        </p:nvSpPr>
        <p:spPr>
          <a:xfrm>
            <a:off x="323964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05" name="PlaceHolder 7"/>
          <p:cNvSpPr>
            <a:spLocks noGrp="1"/>
          </p:cNvSpPr>
          <p:nvPr>
            <p:ph/>
          </p:nvPr>
        </p:nvSpPr>
        <p:spPr>
          <a:xfrm>
            <a:off x="6022080" y="4048920"/>
            <a:ext cx="2649600" cy="223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6368FF-B2BE-468A-A72D-86B7F25EE2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BAD6FACA-C65C-4896-A5CD-2186AACA9F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21" name="PlaceHolder 2"/>
          <p:cNvSpPr>
            <a:spLocks noGrp="1"/>
          </p:cNvSpPr>
          <p:nvPr>
            <p:ph type="subTitle"/>
          </p:nvPr>
        </p:nvSpPr>
        <p:spPr>
          <a:xfrm>
            <a:off x="457200" y="1601640"/>
            <a:ext cx="8229600" cy="468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797DCA7-CB05-4E75-861B-57CCF5B128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75c1e"/>
              </a:solidFill>
              <a:latin typeface="Calibri"/>
            </a:endParaRPr>
          </a:p>
        </p:txBody>
      </p:sp>
      <p:sp>
        <p:nvSpPr>
          <p:cNvPr id="423" name="PlaceHolder 2"/>
          <p:cNvSpPr>
            <a:spLocks noGrp="1"/>
          </p:cNvSpPr>
          <p:nvPr>
            <p:ph/>
          </p:nvPr>
        </p:nvSpPr>
        <p:spPr>
          <a:xfrm>
            <a:off x="457200" y="1601640"/>
            <a:ext cx="8229600" cy="468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75c1e"/>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0878CA7-FE9B-4D7B-BBE5-CF02D28484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60" y="-360"/>
            <a:ext cx="213372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2522E-39A1-4F62-A014-997FF0089E79}"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2198520" y="-360"/>
            <a:ext cx="4500720" cy="361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 name="PlaceHolder 3"/>
          <p:cNvSpPr>
            <a:spLocks noGrp="1"/>
          </p:cNvSpPr>
          <p:nvPr>
            <p:ph type="sldNum" idx="3"/>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2D42C-DFDB-47D6-9D7C-E5A1A26A6C37}"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grpSp>
        <p:nvGrpSpPr>
          <p:cNvPr id="3" name="図形グループ 1"/>
          <p:cNvGrpSpPr/>
          <p:nvPr/>
        </p:nvGrpSpPr>
        <p:grpSpPr>
          <a:xfrm>
            <a:off x="-28440" y="0"/>
            <a:ext cx="9171360" cy="6855480"/>
            <a:chOff x="-28440" y="0"/>
            <a:chExt cx="9171360" cy="6855480"/>
          </a:xfrm>
        </p:grpSpPr>
        <p:sp>
          <p:nvSpPr>
            <p:cNvPr id="4" name="フリーフォーム 17"/>
            <p:cNvSpPr/>
            <p:nvPr/>
          </p:nvSpPr>
          <p:spPr>
            <a:xfrm>
              <a:off x="-28440" y="5010120"/>
              <a:ext cx="5669640" cy="1821960"/>
            </a:xfrm>
            <a:custGeom>
              <a:avLst/>
              <a:gdLst>
                <a:gd name="textAreaLeft" fmla="*/ 0 w 5669640"/>
                <a:gd name="textAreaRight" fmla="*/ 5670000 w 5669640"/>
                <a:gd name="textAreaTop" fmla="*/ 0 h 1821960"/>
                <a:gd name="textAreaBottom" fmla="*/ 1822320 h 1821960"/>
              </a:gdLst>
              <a:ahLst/>
              <a:rect l="textAreaLeft" t="textAreaTop" r="textAreaRight" b="textAreaBottom"/>
              <a:pathLst>
                <a:path w="991" h="300">
                  <a:moveTo>
                    <a:pt x="0" y="0"/>
                  </a:moveTo>
                  <a:lnTo>
                    <a:pt x="15" y="14"/>
                  </a:lnTo>
                  <a:lnTo>
                    <a:pt x="32" y="33"/>
                  </a:lnTo>
                  <a:lnTo>
                    <a:pt x="57" y="54"/>
                  </a:lnTo>
                  <a:lnTo>
                    <a:pt x="92" y="79"/>
                  </a:lnTo>
                  <a:lnTo>
                    <a:pt x="132" y="106"/>
                  </a:lnTo>
                  <a:lnTo>
                    <a:pt x="182" y="133"/>
                  </a:lnTo>
                  <a:lnTo>
                    <a:pt x="236" y="163"/>
                  </a:lnTo>
                  <a:lnTo>
                    <a:pt x="301" y="192"/>
                  </a:lnTo>
                  <a:lnTo>
                    <a:pt x="374" y="219"/>
                  </a:lnTo>
                  <a:lnTo>
                    <a:pt x="457" y="244"/>
                  </a:lnTo>
                  <a:lnTo>
                    <a:pt x="501" y="255"/>
                  </a:lnTo>
                  <a:lnTo>
                    <a:pt x="545" y="267"/>
                  </a:lnTo>
                  <a:lnTo>
                    <a:pt x="595" y="275"/>
                  </a:lnTo>
                  <a:lnTo>
                    <a:pt x="647" y="282"/>
                  </a:lnTo>
                  <a:lnTo>
                    <a:pt x="699" y="290"/>
                  </a:lnTo>
                  <a:lnTo>
                    <a:pt x="752" y="294"/>
                  </a:lnTo>
                  <a:lnTo>
                    <a:pt x="810" y="298"/>
                  </a:lnTo>
                  <a:lnTo>
                    <a:pt x="868" y="300"/>
                  </a:lnTo>
                  <a:lnTo>
                    <a:pt x="927" y="298"/>
                  </a:lnTo>
                  <a:lnTo>
                    <a:pt x="991" y="296"/>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 name="フリーフォーム 18"/>
            <p:cNvSpPr/>
            <p:nvPr/>
          </p:nvSpPr>
          <p:spPr>
            <a:xfrm>
              <a:off x="4782240" y="0"/>
              <a:ext cx="3907800" cy="6855480"/>
            </a:xfrm>
            <a:custGeom>
              <a:avLst/>
              <a:gdLst>
                <a:gd name="textAreaLeft" fmla="*/ 0 w 3907800"/>
                <a:gd name="textAreaRight" fmla="*/ 3908160 w 3907800"/>
                <a:gd name="textAreaTop" fmla="*/ 0 h 6855480"/>
                <a:gd name="textAreaBottom" fmla="*/ 6855840 h 6855480"/>
              </a:gdLst>
              <a:ahLst/>
              <a:rect l="textAreaLeft" t="textAreaTop" r="textAreaRight" b="textAreaBottom"/>
              <a:pathLst>
                <a:path w="539" h="1129">
                  <a:moveTo>
                    <a:pt x="0" y="1129"/>
                  </a:moveTo>
                  <a:lnTo>
                    <a:pt x="42" y="1125"/>
                  </a:lnTo>
                  <a:lnTo>
                    <a:pt x="132" y="1115"/>
                  </a:lnTo>
                  <a:lnTo>
                    <a:pt x="188" y="1106"/>
                  </a:lnTo>
                  <a:lnTo>
                    <a:pt x="241" y="1094"/>
                  </a:lnTo>
                  <a:lnTo>
                    <a:pt x="289" y="1079"/>
                  </a:lnTo>
                  <a:lnTo>
                    <a:pt x="311" y="1071"/>
                  </a:lnTo>
                  <a:lnTo>
                    <a:pt x="328" y="1062"/>
                  </a:lnTo>
                  <a:lnTo>
                    <a:pt x="339" y="1056"/>
                  </a:lnTo>
                  <a:lnTo>
                    <a:pt x="351" y="1048"/>
                  </a:lnTo>
                  <a:lnTo>
                    <a:pt x="366" y="1037"/>
                  </a:lnTo>
                  <a:lnTo>
                    <a:pt x="385" y="1019"/>
                  </a:lnTo>
                  <a:lnTo>
                    <a:pt x="405" y="998"/>
                  </a:lnTo>
                  <a:lnTo>
                    <a:pt x="426" y="969"/>
                  </a:lnTo>
                  <a:lnTo>
                    <a:pt x="449" y="939"/>
                  </a:lnTo>
                  <a:lnTo>
                    <a:pt x="470" y="898"/>
                  </a:lnTo>
                  <a:lnTo>
                    <a:pt x="489" y="848"/>
                  </a:lnTo>
                  <a:lnTo>
                    <a:pt x="506" y="793"/>
                  </a:lnTo>
                  <a:lnTo>
                    <a:pt x="520" y="727"/>
                  </a:lnTo>
                  <a:lnTo>
                    <a:pt x="531" y="655"/>
                  </a:lnTo>
                  <a:lnTo>
                    <a:pt x="537" y="572"/>
                  </a:lnTo>
                  <a:lnTo>
                    <a:pt x="539" y="530"/>
                  </a:lnTo>
                  <a:lnTo>
                    <a:pt x="537" y="482"/>
                  </a:lnTo>
                  <a:lnTo>
                    <a:pt x="535" y="432"/>
                  </a:lnTo>
                  <a:lnTo>
                    <a:pt x="533" y="378"/>
                  </a:lnTo>
                  <a:lnTo>
                    <a:pt x="531" y="357"/>
                  </a:lnTo>
                  <a:lnTo>
                    <a:pt x="524" y="286"/>
                  </a:lnTo>
                  <a:lnTo>
                    <a:pt x="516" y="232"/>
                  </a:lnTo>
                  <a:lnTo>
                    <a:pt x="503" y="169"/>
                  </a:lnTo>
                  <a:lnTo>
                    <a:pt x="487" y="90"/>
                  </a:lnTo>
                  <a:lnTo>
                    <a:pt x="466"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6" name="フリーフォーム 19"/>
            <p:cNvSpPr/>
            <p:nvPr/>
          </p:nvSpPr>
          <p:spPr>
            <a:xfrm>
              <a:off x="0" y="0"/>
              <a:ext cx="9131040" cy="6473880"/>
            </a:xfrm>
            <a:custGeom>
              <a:avLst/>
              <a:gdLst>
                <a:gd name="textAreaLeft" fmla="*/ 0 w 9131040"/>
                <a:gd name="textAreaRight" fmla="*/ 9131400 w 9131040"/>
                <a:gd name="textAreaTop" fmla="*/ 0 h 6473880"/>
                <a:gd name="textAreaBottom" fmla="*/ 6474240 h 6473880"/>
              </a:gdLst>
              <a:ahLst/>
              <a:rect l="textAreaLeft" t="textAreaTop" r="textAreaRight" b="textAreaBottom"/>
              <a:pathLst>
                <a:path w="1607" h="1085">
                  <a:moveTo>
                    <a:pt x="0" y="929"/>
                  </a:moveTo>
                  <a:lnTo>
                    <a:pt x="40" y="941"/>
                  </a:lnTo>
                  <a:lnTo>
                    <a:pt x="148" y="966"/>
                  </a:lnTo>
                  <a:lnTo>
                    <a:pt x="305" y="1000"/>
                  </a:lnTo>
                  <a:lnTo>
                    <a:pt x="399" y="1019"/>
                  </a:lnTo>
                  <a:lnTo>
                    <a:pt x="501" y="1037"/>
                  </a:lnTo>
                  <a:lnTo>
                    <a:pt x="608" y="1052"/>
                  </a:lnTo>
                  <a:lnTo>
                    <a:pt x="718" y="1067"/>
                  </a:lnTo>
                  <a:lnTo>
                    <a:pt x="827" y="1077"/>
                  </a:lnTo>
                  <a:lnTo>
                    <a:pt x="937" y="1083"/>
                  </a:lnTo>
                  <a:lnTo>
                    <a:pt x="991" y="1085"/>
                  </a:lnTo>
                  <a:lnTo>
                    <a:pt x="1044" y="1085"/>
                  </a:lnTo>
                  <a:lnTo>
                    <a:pt x="1096" y="1083"/>
                  </a:lnTo>
                  <a:lnTo>
                    <a:pt x="1146" y="1079"/>
                  </a:lnTo>
                  <a:lnTo>
                    <a:pt x="1194" y="1073"/>
                  </a:lnTo>
                  <a:lnTo>
                    <a:pt x="1240" y="1065"/>
                  </a:lnTo>
                  <a:lnTo>
                    <a:pt x="1284" y="1058"/>
                  </a:lnTo>
                  <a:lnTo>
                    <a:pt x="1327" y="1046"/>
                  </a:lnTo>
                  <a:lnTo>
                    <a:pt x="1338" y="1042"/>
                  </a:lnTo>
                  <a:lnTo>
                    <a:pt x="1371" y="1031"/>
                  </a:lnTo>
                  <a:lnTo>
                    <a:pt x="1392" y="1019"/>
                  </a:lnTo>
                  <a:lnTo>
                    <a:pt x="1415" y="1008"/>
                  </a:lnTo>
                  <a:lnTo>
                    <a:pt x="1444" y="990"/>
                  </a:lnTo>
                  <a:lnTo>
                    <a:pt x="1469" y="971"/>
                  </a:lnTo>
                  <a:lnTo>
                    <a:pt x="1496" y="950"/>
                  </a:lnTo>
                  <a:lnTo>
                    <a:pt x="1520" y="923"/>
                  </a:lnTo>
                  <a:lnTo>
                    <a:pt x="1544" y="893"/>
                  </a:lnTo>
                  <a:lnTo>
                    <a:pt x="1565" y="854"/>
                  </a:lnTo>
                  <a:lnTo>
                    <a:pt x="1582" y="814"/>
                  </a:lnTo>
                  <a:lnTo>
                    <a:pt x="1590" y="791"/>
                  </a:lnTo>
                  <a:lnTo>
                    <a:pt x="1595" y="768"/>
                  </a:lnTo>
                  <a:lnTo>
                    <a:pt x="1601" y="743"/>
                  </a:lnTo>
                  <a:lnTo>
                    <a:pt x="1605" y="716"/>
                  </a:lnTo>
                  <a:lnTo>
                    <a:pt x="1607" y="689"/>
                  </a:lnTo>
                  <a:lnTo>
                    <a:pt x="1607" y="660"/>
                  </a:lnTo>
                  <a:lnTo>
                    <a:pt x="1607" y="643"/>
                  </a:lnTo>
                  <a:lnTo>
                    <a:pt x="1607" y="599"/>
                  </a:lnTo>
                  <a:lnTo>
                    <a:pt x="1599" y="530"/>
                  </a:lnTo>
                  <a:lnTo>
                    <a:pt x="1593" y="487"/>
                  </a:lnTo>
                  <a:lnTo>
                    <a:pt x="1586" y="441"/>
                  </a:lnTo>
                  <a:lnTo>
                    <a:pt x="1574" y="391"/>
                  </a:lnTo>
                  <a:lnTo>
                    <a:pt x="1559" y="340"/>
                  </a:lnTo>
                  <a:lnTo>
                    <a:pt x="1542" y="282"/>
                  </a:lnTo>
                  <a:lnTo>
                    <a:pt x="1519" y="226"/>
                  </a:lnTo>
                  <a:lnTo>
                    <a:pt x="1492" y="171"/>
                  </a:lnTo>
                  <a:lnTo>
                    <a:pt x="1461" y="113"/>
                  </a:lnTo>
                  <a:lnTo>
                    <a:pt x="1424" y="56"/>
                  </a:lnTo>
                  <a:lnTo>
                    <a:pt x="1378"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7" name="フリーフォーム 21"/>
            <p:cNvSpPr/>
            <p:nvPr/>
          </p:nvSpPr>
          <p:spPr>
            <a:xfrm>
              <a:off x="16920" y="2575080"/>
              <a:ext cx="9126000" cy="3989520"/>
            </a:xfrm>
            <a:custGeom>
              <a:avLst/>
              <a:gdLst>
                <a:gd name="textAreaLeft" fmla="*/ 0 w 9126000"/>
                <a:gd name="textAreaRight" fmla="*/ 9126360 w 9126000"/>
                <a:gd name="textAreaTop" fmla="*/ 0 h 3989520"/>
                <a:gd name="textAreaBottom" fmla="*/ 3989880 h 3989520"/>
              </a:gdLst>
              <a:ahLst/>
              <a:rect l="textAreaLeft" t="textAreaTop" r="textAreaRight" b="textAreaBottom"/>
              <a:pathLst>
                <a:path w="1620" h="657">
                  <a:moveTo>
                    <a:pt x="0" y="584"/>
                  </a:moveTo>
                  <a:lnTo>
                    <a:pt x="29" y="590"/>
                  </a:lnTo>
                  <a:lnTo>
                    <a:pt x="109" y="605"/>
                  </a:lnTo>
                  <a:lnTo>
                    <a:pt x="234" y="624"/>
                  </a:lnTo>
                  <a:lnTo>
                    <a:pt x="303" y="634"/>
                  </a:lnTo>
                  <a:lnTo>
                    <a:pt x="382" y="642"/>
                  </a:lnTo>
                  <a:lnTo>
                    <a:pt x="468" y="649"/>
                  </a:lnTo>
                  <a:lnTo>
                    <a:pt x="557" y="653"/>
                  </a:lnTo>
                  <a:lnTo>
                    <a:pt x="651" y="657"/>
                  </a:lnTo>
                  <a:lnTo>
                    <a:pt x="743" y="655"/>
                  </a:lnTo>
                  <a:lnTo>
                    <a:pt x="835" y="651"/>
                  </a:lnTo>
                  <a:lnTo>
                    <a:pt x="927" y="643"/>
                  </a:lnTo>
                  <a:lnTo>
                    <a:pt x="1017" y="630"/>
                  </a:lnTo>
                  <a:lnTo>
                    <a:pt x="1062" y="620"/>
                  </a:lnTo>
                  <a:lnTo>
                    <a:pt x="1104" y="611"/>
                  </a:lnTo>
                  <a:lnTo>
                    <a:pt x="1117" y="607"/>
                  </a:lnTo>
                  <a:lnTo>
                    <a:pt x="1156" y="597"/>
                  </a:lnTo>
                  <a:lnTo>
                    <a:pt x="1213" y="576"/>
                  </a:lnTo>
                  <a:lnTo>
                    <a:pt x="1246" y="563"/>
                  </a:lnTo>
                  <a:lnTo>
                    <a:pt x="1280" y="547"/>
                  </a:lnTo>
                  <a:lnTo>
                    <a:pt x="1319" y="528"/>
                  </a:lnTo>
                  <a:lnTo>
                    <a:pt x="1355" y="507"/>
                  </a:lnTo>
                  <a:lnTo>
                    <a:pt x="1394" y="482"/>
                  </a:lnTo>
                  <a:lnTo>
                    <a:pt x="1434" y="451"/>
                  </a:lnTo>
                  <a:lnTo>
                    <a:pt x="1471" y="419"/>
                  </a:lnTo>
                  <a:lnTo>
                    <a:pt x="1503" y="380"/>
                  </a:lnTo>
                  <a:lnTo>
                    <a:pt x="1536" y="338"/>
                  </a:lnTo>
                  <a:lnTo>
                    <a:pt x="1549" y="317"/>
                  </a:lnTo>
                  <a:lnTo>
                    <a:pt x="1563" y="294"/>
                  </a:lnTo>
                  <a:lnTo>
                    <a:pt x="1572" y="265"/>
                  </a:lnTo>
                  <a:lnTo>
                    <a:pt x="1582" y="235"/>
                  </a:lnTo>
                  <a:lnTo>
                    <a:pt x="1593" y="196"/>
                  </a:lnTo>
                  <a:lnTo>
                    <a:pt x="1605" y="150"/>
                  </a:lnTo>
                  <a:lnTo>
                    <a:pt x="1615" y="102"/>
                  </a:lnTo>
                  <a:lnTo>
                    <a:pt x="1620" y="52"/>
                  </a:lnTo>
                  <a:lnTo>
                    <a:pt x="1620" y="25"/>
                  </a:lnTo>
                  <a:lnTo>
                    <a:pt x="162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8" name="フリーフォーム 22"/>
            <p:cNvSpPr/>
            <p:nvPr/>
          </p:nvSpPr>
          <p:spPr>
            <a:xfrm>
              <a:off x="2408040" y="0"/>
              <a:ext cx="6533640" cy="6832080"/>
            </a:xfrm>
            <a:custGeom>
              <a:avLst/>
              <a:gdLst>
                <a:gd name="textAreaLeft" fmla="*/ 0 w 6533640"/>
                <a:gd name="textAreaRight" fmla="*/ 6534000 w 6533640"/>
                <a:gd name="textAreaTop" fmla="*/ 0 h 6832080"/>
                <a:gd name="textAreaBottom" fmla="*/ 6832440 h 6832080"/>
              </a:gdLst>
              <a:ahLst/>
              <a:rect l="textAreaLeft" t="textAreaTop" r="textAreaRight" b="textAreaBottom"/>
              <a:pathLst>
                <a:path w="1142" h="1146">
                  <a:moveTo>
                    <a:pt x="0" y="1144"/>
                  </a:moveTo>
                  <a:lnTo>
                    <a:pt x="36" y="1146"/>
                  </a:lnTo>
                  <a:lnTo>
                    <a:pt x="132" y="1144"/>
                  </a:lnTo>
                  <a:lnTo>
                    <a:pt x="200" y="1142"/>
                  </a:lnTo>
                  <a:lnTo>
                    <a:pt x="274" y="1136"/>
                  </a:lnTo>
                  <a:lnTo>
                    <a:pt x="355" y="1131"/>
                  </a:lnTo>
                  <a:lnTo>
                    <a:pt x="438" y="1119"/>
                  </a:lnTo>
                  <a:lnTo>
                    <a:pt x="526" y="1106"/>
                  </a:lnTo>
                  <a:lnTo>
                    <a:pt x="614" y="1087"/>
                  </a:lnTo>
                  <a:lnTo>
                    <a:pt x="658" y="1075"/>
                  </a:lnTo>
                  <a:lnTo>
                    <a:pt x="701" y="1064"/>
                  </a:lnTo>
                  <a:lnTo>
                    <a:pt x="743" y="1050"/>
                  </a:lnTo>
                  <a:lnTo>
                    <a:pt x="783" y="1035"/>
                  </a:lnTo>
                  <a:lnTo>
                    <a:pt x="822" y="1017"/>
                  </a:lnTo>
                  <a:lnTo>
                    <a:pt x="860" y="998"/>
                  </a:lnTo>
                  <a:lnTo>
                    <a:pt x="895" y="979"/>
                  </a:lnTo>
                  <a:lnTo>
                    <a:pt x="927" y="958"/>
                  </a:lnTo>
                  <a:lnTo>
                    <a:pt x="958" y="935"/>
                  </a:lnTo>
                  <a:lnTo>
                    <a:pt x="985" y="910"/>
                  </a:lnTo>
                  <a:lnTo>
                    <a:pt x="1012" y="883"/>
                  </a:lnTo>
                  <a:lnTo>
                    <a:pt x="1033" y="852"/>
                  </a:lnTo>
                  <a:lnTo>
                    <a:pt x="1040" y="841"/>
                  </a:lnTo>
                  <a:lnTo>
                    <a:pt x="1060" y="808"/>
                  </a:lnTo>
                  <a:lnTo>
                    <a:pt x="1073" y="783"/>
                  </a:lnTo>
                  <a:lnTo>
                    <a:pt x="1085" y="751"/>
                  </a:lnTo>
                  <a:lnTo>
                    <a:pt x="1098" y="712"/>
                  </a:lnTo>
                  <a:lnTo>
                    <a:pt x="1112" y="664"/>
                  </a:lnTo>
                  <a:lnTo>
                    <a:pt x="1123" y="610"/>
                  </a:lnTo>
                  <a:lnTo>
                    <a:pt x="1133" y="551"/>
                  </a:lnTo>
                  <a:lnTo>
                    <a:pt x="1140" y="482"/>
                  </a:lnTo>
                  <a:lnTo>
                    <a:pt x="1142" y="403"/>
                  </a:lnTo>
                  <a:lnTo>
                    <a:pt x="1142" y="317"/>
                  </a:lnTo>
                  <a:lnTo>
                    <a:pt x="1136" y="219"/>
                  </a:lnTo>
                  <a:lnTo>
                    <a:pt x="1127" y="115"/>
                  </a:lnTo>
                  <a:lnTo>
                    <a:pt x="111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9" name="フリーフォーム 23"/>
            <p:cNvSpPr/>
            <p:nvPr/>
          </p:nvSpPr>
          <p:spPr>
            <a:xfrm>
              <a:off x="7448400" y="0"/>
              <a:ext cx="1694160" cy="1494000"/>
            </a:xfrm>
            <a:custGeom>
              <a:avLst/>
              <a:gdLst>
                <a:gd name="textAreaLeft" fmla="*/ 0 w 1694160"/>
                <a:gd name="textAreaRight" fmla="*/ 1694520 w 1694160"/>
                <a:gd name="textAreaTop" fmla="*/ 0 h 1494000"/>
                <a:gd name="textAreaBottom" fmla="*/ 1494360 h 1494000"/>
              </a:gdLst>
              <a:ahLst/>
              <a:rect l="textAreaLeft" t="textAreaTop" r="textAreaRight" b="textAreaBottom"/>
              <a:pathLst>
                <a:path w="309" h="263">
                  <a:moveTo>
                    <a:pt x="0" y="0"/>
                  </a:moveTo>
                  <a:lnTo>
                    <a:pt x="39" y="19"/>
                  </a:lnTo>
                  <a:lnTo>
                    <a:pt x="79" y="42"/>
                  </a:lnTo>
                  <a:lnTo>
                    <a:pt x="131" y="73"/>
                  </a:lnTo>
                  <a:lnTo>
                    <a:pt x="156" y="90"/>
                  </a:lnTo>
                  <a:lnTo>
                    <a:pt x="183" y="111"/>
                  </a:lnTo>
                  <a:lnTo>
                    <a:pt x="209" y="132"/>
                  </a:lnTo>
                  <a:lnTo>
                    <a:pt x="232" y="155"/>
                  </a:lnTo>
                  <a:lnTo>
                    <a:pt x="257" y="180"/>
                  </a:lnTo>
                  <a:lnTo>
                    <a:pt x="277" y="205"/>
                  </a:lnTo>
                  <a:lnTo>
                    <a:pt x="296" y="234"/>
                  </a:lnTo>
                  <a:lnTo>
                    <a:pt x="309" y="263"/>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0" name="フリーフォーム 24"/>
            <p:cNvSpPr/>
            <p:nvPr/>
          </p:nvSpPr>
          <p:spPr>
            <a:xfrm>
              <a:off x="0" y="5877720"/>
              <a:ext cx="5439960" cy="954360"/>
            </a:xfrm>
            <a:custGeom>
              <a:avLst/>
              <a:gdLst>
                <a:gd name="textAreaLeft" fmla="*/ 0 w 5439960"/>
                <a:gd name="textAreaRight" fmla="*/ 5440320 w 5439960"/>
                <a:gd name="textAreaTop" fmla="*/ 0 h 954360"/>
                <a:gd name="textAreaBottom" fmla="*/ 954720 h 954360"/>
              </a:gdLst>
              <a:ahLst/>
              <a:rect l="textAreaLeft" t="textAreaTop" r="textAreaRight" b="textAreaBottom"/>
              <a:pathLst>
                <a:path w="960" h="157">
                  <a:moveTo>
                    <a:pt x="0" y="0"/>
                  </a:moveTo>
                  <a:lnTo>
                    <a:pt x="98" y="27"/>
                  </a:lnTo>
                  <a:lnTo>
                    <a:pt x="209" y="53"/>
                  </a:lnTo>
                  <a:lnTo>
                    <a:pt x="340" y="84"/>
                  </a:lnTo>
                  <a:lnTo>
                    <a:pt x="493" y="113"/>
                  </a:lnTo>
                  <a:lnTo>
                    <a:pt x="572" y="126"/>
                  </a:lnTo>
                  <a:lnTo>
                    <a:pt x="654" y="138"/>
                  </a:lnTo>
                  <a:lnTo>
                    <a:pt x="735" y="146"/>
                  </a:lnTo>
                  <a:lnTo>
                    <a:pt x="812" y="153"/>
                  </a:lnTo>
                  <a:lnTo>
                    <a:pt x="887" y="157"/>
                  </a:lnTo>
                  <a:lnTo>
                    <a:pt x="960" y="155"/>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grpSp>
      <p:sp>
        <p:nvSpPr>
          <p:cNvPr id="11" name="PlaceHolder 4"/>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12" name="PlaceHolder 5"/>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pic>
        <p:nvPicPr>
          <p:cNvPr id="13" name="図形グループ 2" descr=""/>
          <p:cNvPicPr/>
          <p:nvPr/>
        </p:nvPicPr>
        <p:blipFill>
          <a:blip r:embed="rId3"/>
          <a:stretch/>
        </p:blipFill>
        <p:spPr>
          <a:xfrm>
            <a:off x="8058240" y="5846760"/>
            <a:ext cx="1085760" cy="102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6" name="図形グループ 1"/>
          <p:cNvGrpSpPr/>
          <p:nvPr/>
        </p:nvGrpSpPr>
        <p:grpSpPr>
          <a:xfrm>
            <a:off x="-28440" y="0"/>
            <a:ext cx="9171360" cy="6855480"/>
            <a:chOff x="-28440" y="0"/>
            <a:chExt cx="9171360" cy="6855480"/>
          </a:xfrm>
        </p:grpSpPr>
        <p:sp>
          <p:nvSpPr>
            <p:cNvPr id="457" name="フリーフォーム 17"/>
            <p:cNvSpPr/>
            <p:nvPr/>
          </p:nvSpPr>
          <p:spPr>
            <a:xfrm>
              <a:off x="-28440" y="5010120"/>
              <a:ext cx="5669640" cy="1821960"/>
            </a:xfrm>
            <a:custGeom>
              <a:avLst/>
              <a:gdLst>
                <a:gd name="textAreaLeft" fmla="*/ 0 w 5669640"/>
                <a:gd name="textAreaRight" fmla="*/ 5670000 w 5669640"/>
                <a:gd name="textAreaTop" fmla="*/ 0 h 1821960"/>
                <a:gd name="textAreaBottom" fmla="*/ 1822320 h 1821960"/>
              </a:gdLst>
              <a:ahLst/>
              <a:rect l="textAreaLeft" t="textAreaTop" r="textAreaRight" b="textAreaBottom"/>
              <a:pathLst>
                <a:path w="991" h="300">
                  <a:moveTo>
                    <a:pt x="0" y="0"/>
                  </a:moveTo>
                  <a:lnTo>
                    <a:pt x="15" y="14"/>
                  </a:lnTo>
                  <a:lnTo>
                    <a:pt x="32" y="33"/>
                  </a:lnTo>
                  <a:lnTo>
                    <a:pt x="57" y="54"/>
                  </a:lnTo>
                  <a:lnTo>
                    <a:pt x="92" y="79"/>
                  </a:lnTo>
                  <a:lnTo>
                    <a:pt x="132" y="106"/>
                  </a:lnTo>
                  <a:lnTo>
                    <a:pt x="182" y="133"/>
                  </a:lnTo>
                  <a:lnTo>
                    <a:pt x="236" y="163"/>
                  </a:lnTo>
                  <a:lnTo>
                    <a:pt x="301" y="192"/>
                  </a:lnTo>
                  <a:lnTo>
                    <a:pt x="374" y="219"/>
                  </a:lnTo>
                  <a:lnTo>
                    <a:pt x="457" y="244"/>
                  </a:lnTo>
                  <a:lnTo>
                    <a:pt x="501" y="255"/>
                  </a:lnTo>
                  <a:lnTo>
                    <a:pt x="545" y="267"/>
                  </a:lnTo>
                  <a:lnTo>
                    <a:pt x="595" y="275"/>
                  </a:lnTo>
                  <a:lnTo>
                    <a:pt x="647" y="282"/>
                  </a:lnTo>
                  <a:lnTo>
                    <a:pt x="699" y="290"/>
                  </a:lnTo>
                  <a:lnTo>
                    <a:pt x="752" y="294"/>
                  </a:lnTo>
                  <a:lnTo>
                    <a:pt x="810" y="298"/>
                  </a:lnTo>
                  <a:lnTo>
                    <a:pt x="868" y="300"/>
                  </a:lnTo>
                  <a:lnTo>
                    <a:pt x="927" y="298"/>
                  </a:lnTo>
                  <a:lnTo>
                    <a:pt x="991" y="296"/>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58" name="フリーフォーム 18"/>
            <p:cNvSpPr/>
            <p:nvPr/>
          </p:nvSpPr>
          <p:spPr>
            <a:xfrm>
              <a:off x="4782240" y="0"/>
              <a:ext cx="3907800" cy="6855480"/>
            </a:xfrm>
            <a:custGeom>
              <a:avLst/>
              <a:gdLst>
                <a:gd name="textAreaLeft" fmla="*/ 0 w 3907800"/>
                <a:gd name="textAreaRight" fmla="*/ 3908160 w 3907800"/>
                <a:gd name="textAreaTop" fmla="*/ 0 h 6855480"/>
                <a:gd name="textAreaBottom" fmla="*/ 6855840 h 6855480"/>
              </a:gdLst>
              <a:ahLst/>
              <a:rect l="textAreaLeft" t="textAreaTop" r="textAreaRight" b="textAreaBottom"/>
              <a:pathLst>
                <a:path w="539" h="1129">
                  <a:moveTo>
                    <a:pt x="0" y="1129"/>
                  </a:moveTo>
                  <a:lnTo>
                    <a:pt x="42" y="1125"/>
                  </a:lnTo>
                  <a:lnTo>
                    <a:pt x="132" y="1115"/>
                  </a:lnTo>
                  <a:lnTo>
                    <a:pt x="188" y="1106"/>
                  </a:lnTo>
                  <a:lnTo>
                    <a:pt x="241" y="1094"/>
                  </a:lnTo>
                  <a:lnTo>
                    <a:pt x="289" y="1079"/>
                  </a:lnTo>
                  <a:lnTo>
                    <a:pt x="311" y="1071"/>
                  </a:lnTo>
                  <a:lnTo>
                    <a:pt x="328" y="1062"/>
                  </a:lnTo>
                  <a:lnTo>
                    <a:pt x="339" y="1056"/>
                  </a:lnTo>
                  <a:lnTo>
                    <a:pt x="351" y="1048"/>
                  </a:lnTo>
                  <a:lnTo>
                    <a:pt x="366" y="1037"/>
                  </a:lnTo>
                  <a:lnTo>
                    <a:pt x="385" y="1019"/>
                  </a:lnTo>
                  <a:lnTo>
                    <a:pt x="405" y="998"/>
                  </a:lnTo>
                  <a:lnTo>
                    <a:pt x="426" y="969"/>
                  </a:lnTo>
                  <a:lnTo>
                    <a:pt x="449" y="939"/>
                  </a:lnTo>
                  <a:lnTo>
                    <a:pt x="470" y="898"/>
                  </a:lnTo>
                  <a:lnTo>
                    <a:pt x="489" y="848"/>
                  </a:lnTo>
                  <a:lnTo>
                    <a:pt x="506" y="793"/>
                  </a:lnTo>
                  <a:lnTo>
                    <a:pt x="520" y="727"/>
                  </a:lnTo>
                  <a:lnTo>
                    <a:pt x="531" y="655"/>
                  </a:lnTo>
                  <a:lnTo>
                    <a:pt x="537" y="572"/>
                  </a:lnTo>
                  <a:lnTo>
                    <a:pt x="539" y="530"/>
                  </a:lnTo>
                  <a:lnTo>
                    <a:pt x="537" y="482"/>
                  </a:lnTo>
                  <a:lnTo>
                    <a:pt x="535" y="432"/>
                  </a:lnTo>
                  <a:lnTo>
                    <a:pt x="533" y="378"/>
                  </a:lnTo>
                  <a:lnTo>
                    <a:pt x="531" y="357"/>
                  </a:lnTo>
                  <a:lnTo>
                    <a:pt x="524" y="286"/>
                  </a:lnTo>
                  <a:lnTo>
                    <a:pt x="516" y="232"/>
                  </a:lnTo>
                  <a:lnTo>
                    <a:pt x="503" y="169"/>
                  </a:lnTo>
                  <a:lnTo>
                    <a:pt x="487" y="90"/>
                  </a:lnTo>
                  <a:lnTo>
                    <a:pt x="466"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59" name="フリーフォーム 19"/>
            <p:cNvSpPr/>
            <p:nvPr/>
          </p:nvSpPr>
          <p:spPr>
            <a:xfrm>
              <a:off x="0" y="0"/>
              <a:ext cx="9131040" cy="6473880"/>
            </a:xfrm>
            <a:custGeom>
              <a:avLst/>
              <a:gdLst>
                <a:gd name="textAreaLeft" fmla="*/ 0 w 9131040"/>
                <a:gd name="textAreaRight" fmla="*/ 9131400 w 9131040"/>
                <a:gd name="textAreaTop" fmla="*/ 0 h 6473880"/>
                <a:gd name="textAreaBottom" fmla="*/ 6474240 h 6473880"/>
              </a:gdLst>
              <a:ahLst/>
              <a:rect l="textAreaLeft" t="textAreaTop" r="textAreaRight" b="textAreaBottom"/>
              <a:pathLst>
                <a:path w="1607" h="1085">
                  <a:moveTo>
                    <a:pt x="0" y="929"/>
                  </a:moveTo>
                  <a:lnTo>
                    <a:pt x="40" y="941"/>
                  </a:lnTo>
                  <a:lnTo>
                    <a:pt x="148" y="966"/>
                  </a:lnTo>
                  <a:lnTo>
                    <a:pt x="305" y="1000"/>
                  </a:lnTo>
                  <a:lnTo>
                    <a:pt x="399" y="1019"/>
                  </a:lnTo>
                  <a:lnTo>
                    <a:pt x="501" y="1037"/>
                  </a:lnTo>
                  <a:lnTo>
                    <a:pt x="608" y="1052"/>
                  </a:lnTo>
                  <a:lnTo>
                    <a:pt x="718" y="1067"/>
                  </a:lnTo>
                  <a:lnTo>
                    <a:pt x="827" y="1077"/>
                  </a:lnTo>
                  <a:lnTo>
                    <a:pt x="937" y="1083"/>
                  </a:lnTo>
                  <a:lnTo>
                    <a:pt x="991" y="1085"/>
                  </a:lnTo>
                  <a:lnTo>
                    <a:pt x="1044" y="1085"/>
                  </a:lnTo>
                  <a:lnTo>
                    <a:pt x="1096" y="1083"/>
                  </a:lnTo>
                  <a:lnTo>
                    <a:pt x="1146" y="1079"/>
                  </a:lnTo>
                  <a:lnTo>
                    <a:pt x="1194" y="1073"/>
                  </a:lnTo>
                  <a:lnTo>
                    <a:pt x="1240" y="1065"/>
                  </a:lnTo>
                  <a:lnTo>
                    <a:pt x="1284" y="1058"/>
                  </a:lnTo>
                  <a:lnTo>
                    <a:pt x="1327" y="1046"/>
                  </a:lnTo>
                  <a:lnTo>
                    <a:pt x="1338" y="1042"/>
                  </a:lnTo>
                  <a:lnTo>
                    <a:pt x="1371" y="1031"/>
                  </a:lnTo>
                  <a:lnTo>
                    <a:pt x="1392" y="1019"/>
                  </a:lnTo>
                  <a:lnTo>
                    <a:pt x="1415" y="1008"/>
                  </a:lnTo>
                  <a:lnTo>
                    <a:pt x="1444" y="990"/>
                  </a:lnTo>
                  <a:lnTo>
                    <a:pt x="1469" y="971"/>
                  </a:lnTo>
                  <a:lnTo>
                    <a:pt x="1496" y="950"/>
                  </a:lnTo>
                  <a:lnTo>
                    <a:pt x="1520" y="923"/>
                  </a:lnTo>
                  <a:lnTo>
                    <a:pt x="1544" y="893"/>
                  </a:lnTo>
                  <a:lnTo>
                    <a:pt x="1565" y="854"/>
                  </a:lnTo>
                  <a:lnTo>
                    <a:pt x="1582" y="814"/>
                  </a:lnTo>
                  <a:lnTo>
                    <a:pt x="1590" y="791"/>
                  </a:lnTo>
                  <a:lnTo>
                    <a:pt x="1595" y="768"/>
                  </a:lnTo>
                  <a:lnTo>
                    <a:pt x="1601" y="743"/>
                  </a:lnTo>
                  <a:lnTo>
                    <a:pt x="1605" y="716"/>
                  </a:lnTo>
                  <a:lnTo>
                    <a:pt x="1607" y="689"/>
                  </a:lnTo>
                  <a:lnTo>
                    <a:pt x="1607" y="660"/>
                  </a:lnTo>
                  <a:lnTo>
                    <a:pt x="1607" y="643"/>
                  </a:lnTo>
                  <a:lnTo>
                    <a:pt x="1607" y="599"/>
                  </a:lnTo>
                  <a:lnTo>
                    <a:pt x="1599" y="530"/>
                  </a:lnTo>
                  <a:lnTo>
                    <a:pt x="1593" y="487"/>
                  </a:lnTo>
                  <a:lnTo>
                    <a:pt x="1586" y="441"/>
                  </a:lnTo>
                  <a:lnTo>
                    <a:pt x="1574" y="391"/>
                  </a:lnTo>
                  <a:lnTo>
                    <a:pt x="1559" y="340"/>
                  </a:lnTo>
                  <a:lnTo>
                    <a:pt x="1542" y="282"/>
                  </a:lnTo>
                  <a:lnTo>
                    <a:pt x="1519" y="226"/>
                  </a:lnTo>
                  <a:lnTo>
                    <a:pt x="1492" y="171"/>
                  </a:lnTo>
                  <a:lnTo>
                    <a:pt x="1461" y="113"/>
                  </a:lnTo>
                  <a:lnTo>
                    <a:pt x="1424" y="56"/>
                  </a:lnTo>
                  <a:lnTo>
                    <a:pt x="1378"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60" name="フリーフォーム 21"/>
            <p:cNvSpPr/>
            <p:nvPr/>
          </p:nvSpPr>
          <p:spPr>
            <a:xfrm>
              <a:off x="16920" y="2575080"/>
              <a:ext cx="9126000" cy="3989520"/>
            </a:xfrm>
            <a:custGeom>
              <a:avLst/>
              <a:gdLst>
                <a:gd name="textAreaLeft" fmla="*/ 0 w 9126000"/>
                <a:gd name="textAreaRight" fmla="*/ 9126360 w 9126000"/>
                <a:gd name="textAreaTop" fmla="*/ 0 h 3989520"/>
                <a:gd name="textAreaBottom" fmla="*/ 3989880 h 3989520"/>
              </a:gdLst>
              <a:ahLst/>
              <a:rect l="textAreaLeft" t="textAreaTop" r="textAreaRight" b="textAreaBottom"/>
              <a:pathLst>
                <a:path w="1620" h="657">
                  <a:moveTo>
                    <a:pt x="0" y="584"/>
                  </a:moveTo>
                  <a:lnTo>
                    <a:pt x="29" y="590"/>
                  </a:lnTo>
                  <a:lnTo>
                    <a:pt x="109" y="605"/>
                  </a:lnTo>
                  <a:lnTo>
                    <a:pt x="234" y="624"/>
                  </a:lnTo>
                  <a:lnTo>
                    <a:pt x="303" y="634"/>
                  </a:lnTo>
                  <a:lnTo>
                    <a:pt x="382" y="642"/>
                  </a:lnTo>
                  <a:lnTo>
                    <a:pt x="468" y="649"/>
                  </a:lnTo>
                  <a:lnTo>
                    <a:pt x="557" y="653"/>
                  </a:lnTo>
                  <a:lnTo>
                    <a:pt x="651" y="657"/>
                  </a:lnTo>
                  <a:lnTo>
                    <a:pt x="743" y="655"/>
                  </a:lnTo>
                  <a:lnTo>
                    <a:pt x="835" y="651"/>
                  </a:lnTo>
                  <a:lnTo>
                    <a:pt x="927" y="643"/>
                  </a:lnTo>
                  <a:lnTo>
                    <a:pt x="1017" y="630"/>
                  </a:lnTo>
                  <a:lnTo>
                    <a:pt x="1062" y="620"/>
                  </a:lnTo>
                  <a:lnTo>
                    <a:pt x="1104" y="611"/>
                  </a:lnTo>
                  <a:lnTo>
                    <a:pt x="1117" y="607"/>
                  </a:lnTo>
                  <a:lnTo>
                    <a:pt x="1156" y="597"/>
                  </a:lnTo>
                  <a:lnTo>
                    <a:pt x="1213" y="576"/>
                  </a:lnTo>
                  <a:lnTo>
                    <a:pt x="1246" y="563"/>
                  </a:lnTo>
                  <a:lnTo>
                    <a:pt x="1280" y="547"/>
                  </a:lnTo>
                  <a:lnTo>
                    <a:pt x="1319" y="528"/>
                  </a:lnTo>
                  <a:lnTo>
                    <a:pt x="1355" y="507"/>
                  </a:lnTo>
                  <a:lnTo>
                    <a:pt x="1394" y="482"/>
                  </a:lnTo>
                  <a:lnTo>
                    <a:pt x="1434" y="451"/>
                  </a:lnTo>
                  <a:lnTo>
                    <a:pt x="1471" y="419"/>
                  </a:lnTo>
                  <a:lnTo>
                    <a:pt x="1503" y="380"/>
                  </a:lnTo>
                  <a:lnTo>
                    <a:pt x="1536" y="338"/>
                  </a:lnTo>
                  <a:lnTo>
                    <a:pt x="1549" y="317"/>
                  </a:lnTo>
                  <a:lnTo>
                    <a:pt x="1563" y="294"/>
                  </a:lnTo>
                  <a:lnTo>
                    <a:pt x="1572" y="265"/>
                  </a:lnTo>
                  <a:lnTo>
                    <a:pt x="1582" y="235"/>
                  </a:lnTo>
                  <a:lnTo>
                    <a:pt x="1593" y="196"/>
                  </a:lnTo>
                  <a:lnTo>
                    <a:pt x="1605" y="150"/>
                  </a:lnTo>
                  <a:lnTo>
                    <a:pt x="1615" y="102"/>
                  </a:lnTo>
                  <a:lnTo>
                    <a:pt x="1620" y="52"/>
                  </a:lnTo>
                  <a:lnTo>
                    <a:pt x="1620" y="25"/>
                  </a:lnTo>
                  <a:lnTo>
                    <a:pt x="162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61" name="フリーフォーム 22"/>
            <p:cNvSpPr/>
            <p:nvPr/>
          </p:nvSpPr>
          <p:spPr>
            <a:xfrm>
              <a:off x="2408040" y="0"/>
              <a:ext cx="6533640" cy="6832080"/>
            </a:xfrm>
            <a:custGeom>
              <a:avLst/>
              <a:gdLst>
                <a:gd name="textAreaLeft" fmla="*/ 0 w 6533640"/>
                <a:gd name="textAreaRight" fmla="*/ 6534000 w 6533640"/>
                <a:gd name="textAreaTop" fmla="*/ 0 h 6832080"/>
                <a:gd name="textAreaBottom" fmla="*/ 6832440 h 6832080"/>
              </a:gdLst>
              <a:ahLst/>
              <a:rect l="textAreaLeft" t="textAreaTop" r="textAreaRight" b="textAreaBottom"/>
              <a:pathLst>
                <a:path w="1142" h="1146">
                  <a:moveTo>
                    <a:pt x="0" y="1144"/>
                  </a:moveTo>
                  <a:lnTo>
                    <a:pt x="36" y="1146"/>
                  </a:lnTo>
                  <a:lnTo>
                    <a:pt x="132" y="1144"/>
                  </a:lnTo>
                  <a:lnTo>
                    <a:pt x="200" y="1142"/>
                  </a:lnTo>
                  <a:lnTo>
                    <a:pt x="274" y="1136"/>
                  </a:lnTo>
                  <a:lnTo>
                    <a:pt x="355" y="1131"/>
                  </a:lnTo>
                  <a:lnTo>
                    <a:pt x="438" y="1119"/>
                  </a:lnTo>
                  <a:lnTo>
                    <a:pt x="526" y="1106"/>
                  </a:lnTo>
                  <a:lnTo>
                    <a:pt x="614" y="1087"/>
                  </a:lnTo>
                  <a:lnTo>
                    <a:pt x="658" y="1075"/>
                  </a:lnTo>
                  <a:lnTo>
                    <a:pt x="701" y="1064"/>
                  </a:lnTo>
                  <a:lnTo>
                    <a:pt x="743" y="1050"/>
                  </a:lnTo>
                  <a:lnTo>
                    <a:pt x="783" y="1035"/>
                  </a:lnTo>
                  <a:lnTo>
                    <a:pt x="822" y="1017"/>
                  </a:lnTo>
                  <a:lnTo>
                    <a:pt x="860" y="998"/>
                  </a:lnTo>
                  <a:lnTo>
                    <a:pt x="895" y="979"/>
                  </a:lnTo>
                  <a:lnTo>
                    <a:pt x="927" y="958"/>
                  </a:lnTo>
                  <a:lnTo>
                    <a:pt x="958" y="935"/>
                  </a:lnTo>
                  <a:lnTo>
                    <a:pt x="985" y="910"/>
                  </a:lnTo>
                  <a:lnTo>
                    <a:pt x="1012" y="883"/>
                  </a:lnTo>
                  <a:lnTo>
                    <a:pt x="1033" y="852"/>
                  </a:lnTo>
                  <a:lnTo>
                    <a:pt x="1040" y="841"/>
                  </a:lnTo>
                  <a:lnTo>
                    <a:pt x="1060" y="808"/>
                  </a:lnTo>
                  <a:lnTo>
                    <a:pt x="1073" y="783"/>
                  </a:lnTo>
                  <a:lnTo>
                    <a:pt x="1085" y="751"/>
                  </a:lnTo>
                  <a:lnTo>
                    <a:pt x="1098" y="712"/>
                  </a:lnTo>
                  <a:lnTo>
                    <a:pt x="1112" y="664"/>
                  </a:lnTo>
                  <a:lnTo>
                    <a:pt x="1123" y="610"/>
                  </a:lnTo>
                  <a:lnTo>
                    <a:pt x="1133" y="551"/>
                  </a:lnTo>
                  <a:lnTo>
                    <a:pt x="1140" y="482"/>
                  </a:lnTo>
                  <a:lnTo>
                    <a:pt x="1142" y="403"/>
                  </a:lnTo>
                  <a:lnTo>
                    <a:pt x="1142" y="317"/>
                  </a:lnTo>
                  <a:lnTo>
                    <a:pt x="1136" y="219"/>
                  </a:lnTo>
                  <a:lnTo>
                    <a:pt x="1127" y="115"/>
                  </a:lnTo>
                  <a:lnTo>
                    <a:pt x="111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62" name="フリーフォーム 23"/>
            <p:cNvSpPr/>
            <p:nvPr/>
          </p:nvSpPr>
          <p:spPr>
            <a:xfrm>
              <a:off x="7448400" y="0"/>
              <a:ext cx="1694160" cy="1494000"/>
            </a:xfrm>
            <a:custGeom>
              <a:avLst/>
              <a:gdLst>
                <a:gd name="textAreaLeft" fmla="*/ 0 w 1694160"/>
                <a:gd name="textAreaRight" fmla="*/ 1694520 w 1694160"/>
                <a:gd name="textAreaTop" fmla="*/ 0 h 1494000"/>
                <a:gd name="textAreaBottom" fmla="*/ 1494360 h 1494000"/>
              </a:gdLst>
              <a:ahLst/>
              <a:rect l="textAreaLeft" t="textAreaTop" r="textAreaRight" b="textAreaBottom"/>
              <a:pathLst>
                <a:path w="309" h="263">
                  <a:moveTo>
                    <a:pt x="0" y="0"/>
                  </a:moveTo>
                  <a:lnTo>
                    <a:pt x="39" y="19"/>
                  </a:lnTo>
                  <a:lnTo>
                    <a:pt x="79" y="42"/>
                  </a:lnTo>
                  <a:lnTo>
                    <a:pt x="131" y="73"/>
                  </a:lnTo>
                  <a:lnTo>
                    <a:pt x="156" y="90"/>
                  </a:lnTo>
                  <a:lnTo>
                    <a:pt x="183" y="111"/>
                  </a:lnTo>
                  <a:lnTo>
                    <a:pt x="209" y="132"/>
                  </a:lnTo>
                  <a:lnTo>
                    <a:pt x="232" y="155"/>
                  </a:lnTo>
                  <a:lnTo>
                    <a:pt x="257" y="180"/>
                  </a:lnTo>
                  <a:lnTo>
                    <a:pt x="277" y="205"/>
                  </a:lnTo>
                  <a:lnTo>
                    <a:pt x="296" y="234"/>
                  </a:lnTo>
                  <a:lnTo>
                    <a:pt x="309" y="263"/>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63" name="フリーフォーム 24"/>
            <p:cNvSpPr/>
            <p:nvPr/>
          </p:nvSpPr>
          <p:spPr>
            <a:xfrm>
              <a:off x="0" y="5877720"/>
              <a:ext cx="5439960" cy="954360"/>
            </a:xfrm>
            <a:custGeom>
              <a:avLst/>
              <a:gdLst>
                <a:gd name="textAreaLeft" fmla="*/ 0 w 5439960"/>
                <a:gd name="textAreaRight" fmla="*/ 5440320 w 5439960"/>
                <a:gd name="textAreaTop" fmla="*/ 0 h 954360"/>
                <a:gd name="textAreaBottom" fmla="*/ 954720 h 954360"/>
              </a:gdLst>
              <a:ahLst/>
              <a:rect l="textAreaLeft" t="textAreaTop" r="textAreaRight" b="textAreaBottom"/>
              <a:pathLst>
                <a:path w="960" h="157">
                  <a:moveTo>
                    <a:pt x="0" y="0"/>
                  </a:moveTo>
                  <a:lnTo>
                    <a:pt x="98" y="27"/>
                  </a:lnTo>
                  <a:lnTo>
                    <a:pt x="209" y="53"/>
                  </a:lnTo>
                  <a:lnTo>
                    <a:pt x="340" y="84"/>
                  </a:lnTo>
                  <a:lnTo>
                    <a:pt x="493" y="113"/>
                  </a:lnTo>
                  <a:lnTo>
                    <a:pt x="572" y="126"/>
                  </a:lnTo>
                  <a:lnTo>
                    <a:pt x="654" y="138"/>
                  </a:lnTo>
                  <a:lnTo>
                    <a:pt x="735" y="146"/>
                  </a:lnTo>
                  <a:lnTo>
                    <a:pt x="812" y="153"/>
                  </a:lnTo>
                  <a:lnTo>
                    <a:pt x="887" y="157"/>
                  </a:lnTo>
                  <a:lnTo>
                    <a:pt x="960" y="155"/>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grpSp>
      <p:pic>
        <p:nvPicPr>
          <p:cNvPr id="464" name="図形グループ 2" descr=""/>
          <p:cNvPicPr/>
          <p:nvPr/>
        </p:nvPicPr>
        <p:blipFill>
          <a:blip r:embed="rId3"/>
          <a:stretch/>
        </p:blipFill>
        <p:spPr>
          <a:xfrm>
            <a:off x="8058240" y="5846760"/>
            <a:ext cx="1085760" cy="1023840"/>
          </a:xfrm>
          <a:prstGeom prst="rect">
            <a:avLst/>
          </a:prstGeom>
          <a:ln w="0">
            <a:noFill/>
          </a:ln>
        </p:spPr>
      </p:pic>
      <p:sp>
        <p:nvSpPr>
          <p:cNvPr id="46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466" name="PlaceHolder 2"/>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sp>
        <p:nvSpPr>
          <p:cNvPr id="467" name="PlaceHolder 3"/>
          <p:cNvSpPr>
            <a:spLocks noGrp="1"/>
          </p:cNvSpPr>
          <p:nvPr>
            <p:ph type="dt" idx="28"/>
          </p:nvPr>
        </p:nvSpPr>
        <p:spPr>
          <a:xfrm>
            <a:off x="-360" y="-360"/>
            <a:ext cx="213516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7A2EB-7FA8-45F4-97D8-D0CCBE8E7D2D}"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468" name="PlaceHolder 4"/>
          <p:cNvSpPr>
            <a:spLocks noGrp="1"/>
          </p:cNvSpPr>
          <p:nvPr>
            <p:ph type="ftr" idx="29"/>
          </p:nvPr>
        </p:nvSpPr>
        <p:spPr>
          <a:xfrm>
            <a:off x="2199960" y="-360"/>
            <a:ext cx="4498920" cy="361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69" name="PlaceHolder 5"/>
          <p:cNvSpPr>
            <a:spLocks noGrp="1"/>
          </p:cNvSpPr>
          <p:nvPr>
            <p:ph type="sldNum" idx="30"/>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0BE49-C4B6-4CEB-AEB2-5FC827AEB510}"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6" name="図形グループ 1"/>
          <p:cNvGrpSpPr/>
          <p:nvPr/>
        </p:nvGrpSpPr>
        <p:grpSpPr>
          <a:xfrm>
            <a:off x="-28440" y="0"/>
            <a:ext cx="9171360" cy="6855480"/>
            <a:chOff x="-28440" y="0"/>
            <a:chExt cx="9171360" cy="6855480"/>
          </a:xfrm>
        </p:grpSpPr>
        <p:sp>
          <p:nvSpPr>
            <p:cNvPr id="507" name="フリーフォーム 17"/>
            <p:cNvSpPr/>
            <p:nvPr/>
          </p:nvSpPr>
          <p:spPr>
            <a:xfrm>
              <a:off x="-28440" y="5010120"/>
              <a:ext cx="5669640" cy="1821960"/>
            </a:xfrm>
            <a:custGeom>
              <a:avLst/>
              <a:gdLst>
                <a:gd name="textAreaLeft" fmla="*/ 0 w 5669640"/>
                <a:gd name="textAreaRight" fmla="*/ 5670000 w 5669640"/>
                <a:gd name="textAreaTop" fmla="*/ 0 h 1821960"/>
                <a:gd name="textAreaBottom" fmla="*/ 1822320 h 1821960"/>
              </a:gdLst>
              <a:ahLst/>
              <a:rect l="textAreaLeft" t="textAreaTop" r="textAreaRight" b="textAreaBottom"/>
              <a:pathLst>
                <a:path w="991" h="300">
                  <a:moveTo>
                    <a:pt x="0" y="0"/>
                  </a:moveTo>
                  <a:lnTo>
                    <a:pt x="15" y="14"/>
                  </a:lnTo>
                  <a:lnTo>
                    <a:pt x="32" y="33"/>
                  </a:lnTo>
                  <a:lnTo>
                    <a:pt x="57" y="54"/>
                  </a:lnTo>
                  <a:lnTo>
                    <a:pt x="92" y="79"/>
                  </a:lnTo>
                  <a:lnTo>
                    <a:pt x="132" y="106"/>
                  </a:lnTo>
                  <a:lnTo>
                    <a:pt x="182" y="133"/>
                  </a:lnTo>
                  <a:lnTo>
                    <a:pt x="236" y="163"/>
                  </a:lnTo>
                  <a:lnTo>
                    <a:pt x="301" y="192"/>
                  </a:lnTo>
                  <a:lnTo>
                    <a:pt x="374" y="219"/>
                  </a:lnTo>
                  <a:lnTo>
                    <a:pt x="457" y="244"/>
                  </a:lnTo>
                  <a:lnTo>
                    <a:pt x="501" y="255"/>
                  </a:lnTo>
                  <a:lnTo>
                    <a:pt x="545" y="267"/>
                  </a:lnTo>
                  <a:lnTo>
                    <a:pt x="595" y="275"/>
                  </a:lnTo>
                  <a:lnTo>
                    <a:pt x="647" y="282"/>
                  </a:lnTo>
                  <a:lnTo>
                    <a:pt x="699" y="290"/>
                  </a:lnTo>
                  <a:lnTo>
                    <a:pt x="752" y="294"/>
                  </a:lnTo>
                  <a:lnTo>
                    <a:pt x="810" y="298"/>
                  </a:lnTo>
                  <a:lnTo>
                    <a:pt x="868" y="300"/>
                  </a:lnTo>
                  <a:lnTo>
                    <a:pt x="927" y="298"/>
                  </a:lnTo>
                  <a:lnTo>
                    <a:pt x="991" y="296"/>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08" name="フリーフォーム 18"/>
            <p:cNvSpPr/>
            <p:nvPr/>
          </p:nvSpPr>
          <p:spPr>
            <a:xfrm>
              <a:off x="4782240" y="0"/>
              <a:ext cx="3907800" cy="6855480"/>
            </a:xfrm>
            <a:custGeom>
              <a:avLst/>
              <a:gdLst>
                <a:gd name="textAreaLeft" fmla="*/ 0 w 3907800"/>
                <a:gd name="textAreaRight" fmla="*/ 3908160 w 3907800"/>
                <a:gd name="textAreaTop" fmla="*/ 0 h 6855480"/>
                <a:gd name="textAreaBottom" fmla="*/ 6855840 h 6855480"/>
              </a:gdLst>
              <a:ahLst/>
              <a:rect l="textAreaLeft" t="textAreaTop" r="textAreaRight" b="textAreaBottom"/>
              <a:pathLst>
                <a:path w="539" h="1129">
                  <a:moveTo>
                    <a:pt x="0" y="1129"/>
                  </a:moveTo>
                  <a:lnTo>
                    <a:pt x="42" y="1125"/>
                  </a:lnTo>
                  <a:lnTo>
                    <a:pt x="132" y="1115"/>
                  </a:lnTo>
                  <a:lnTo>
                    <a:pt x="188" y="1106"/>
                  </a:lnTo>
                  <a:lnTo>
                    <a:pt x="241" y="1094"/>
                  </a:lnTo>
                  <a:lnTo>
                    <a:pt x="289" y="1079"/>
                  </a:lnTo>
                  <a:lnTo>
                    <a:pt x="311" y="1071"/>
                  </a:lnTo>
                  <a:lnTo>
                    <a:pt x="328" y="1062"/>
                  </a:lnTo>
                  <a:lnTo>
                    <a:pt x="339" y="1056"/>
                  </a:lnTo>
                  <a:lnTo>
                    <a:pt x="351" y="1048"/>
                  </a:lnTo>
                  <a:lnTo>
                    <a:pt x="366" y="1037"/>
                  </a:lnTo>
                  <a:lnTo>
                    <a:pt x="385" y="1019"/>
                  </a:lnTo>
                  <a:lnTo>
                    <a:pt x="405" y="998"/>
                  </a:lnTo>
                  <a:lnTo>
                    <a:pt x="426" y="969"/>
                  </a:lnTo>
                  <a:lnTo>
                    <a:pt x="449" y="939"/>
                  </a:lnTo>
                  <a:lnTo>
                    <a:pt x="470" y="898"/>
                  </a:lnTo>
                  <a:lnTo>
                    <a:pt x="489" y="848"/>
                  </a:lnTo>
                  <a:lnTo>
                    <a:pt x="506" y="793"/>
                  </a:lnTo>
                  <a:lnTo>
                    <a:pt x="520" y="727"/>
                  </a:lnTo>
                  <a:lnTo>
                    <a:pt x="531" y="655"/>
                  </a:lnTo>
                  <a:lnTo>
                    <a:pt x="537" y="572"/>
                  </a:lnTo>
                  <a:lnTo>
                    <a:pt x="539" y="530"/>
                  </a:lnTo>
                  <a:lnTo>
                    <a:pt x="537" y="482"/>
                  </a:lnTo>
                  <a:lnTo>
                    <a:pt x="535" y="432"/>
                  </a:lnTo>
                  <a:lnTo>
                    <a:pt x="533" y="378"/>
                  </a:lnTo>
                  <a:lnTo>
                    <a:pt x="531" y="357"/>
                  </a:lnTo>
                  <a:lnTo>
                    <a:pt x="524" y="286"/>
                  </a:lnTo>
                  <a:lnTo>
                    <a:pt x="516" y="232"/>
                  </a:lnTo>
                  <a:lnTo>
                    <a:pt x="503" y="169"/>
                  </a:lnTo>
                  <a:lnTo>
                    <a:pt x="487" y="90"/>
                  </a:lnTo>
                  <a:lnTo>
                    <a:pt x="466"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09" name="フリーフォーム 19"/>
            <p:cNvSpPr/>
            <p:nvPr/>
          </p:nvSpPr>
          <p:spPr>
            <a:xfrm>
              <a:off x="0" y="0"/>
              <a:ext cx="9131040" cy="6473880"/>
            </a:xfrm>
            <a:custGeom>
              <a:avLst/>
              <a:gdLst>
                <a:gd name="textAreaLeft" fmla="*/ 0 w 9131040"/>
                <a:gd name="textAreaRight" fmla="*/ 9131400 w 9131040"/>
                <a:gd name="textAreaTop" fmla="*/ 0 h 6473880"/>
                <a:gd name="textAreaBottom" fmla="*/ 6474240 h 6473880"/>
              </a:gdLst>
              <a:ahLst/>
              <a:rect l="textAreaLeft" t="textAreaTop" r="textAreaRight" b="textAreaBottom"/>
              <a:pathLst>
                <a:path w="1607" h="1085">
                  <a:moveTo>
                    <a:pt x="0" y="929"/>
                  </a:moveTo>
                  <a:lnTo>
                    <a:pt x="40" y="941"/>
                  </a:lnTo>
                  <a:lnTo>
                    <a:pt x="148" y="966"/>
                  </a:lnTo>
                  <a:lnTo>
                    <a:pt x="305" y="1000"/>
                  </a:lnTo>
                  <a:lnTo>
                    <a:pt x="399" y="1019"/>
                  </a:lnTo>
                  <a:lnTo>
                    <a:pt x="501" y="1037"/>
                  </a:lnTo>
                  <a:lnTo>
                    <a:pt x="608" y="1052"/>
                  </a:lnTo>
                  <a:lnTo>
                    <a:pt x="718" y="1067"/>
                  </a:lnTo>
                  <a:lnTo>
                    <a:pt x="827" y="1077"/>
                  </a:lnTo>
                  <a:lnTo>
                    <a:pt x="937" y="1083"/>
                  </a:lnTo>
                  <a:lnTo>
                    <a:pt x="991" y="1085"/>
                  </a:lnTo>
                  <a:lnTo>
                    <a:pt x="1044" y="1085"/>
                  </a:lnTo>
                  <a:lnTo>
                    <a:pt x="1096" y="1083"/>
                  </a:lnTo>
                  <a:lnTo>
                    <a:pt x="1146" y="1079"/>
                  </a:lnTo>
                  <a:lnTo>
                    <a:pt x="1194" y="1073"/>
                  </a:lnTo>
                  <a:lnTo>
                    <a:pt x="1240" y="1065"/>
                  </a:lnTo>
                  <a:lnTo>
                    <a:pt x="1284" y="1058"/>
                  </a:lnTo>
                  <a:lnTo>
                    <a:pt x="1327" y="1046"/>
                  </a:lnTo>
                  <a:lnTo>
                    <a:pt x="1338" y="1042"/>
                  </a:lnTo>
                  <a:lnTo>
                    <a:pt x="1371" y="1031"/>
                  </a:lnTo>
                  <a:lnTo>
                    <a:pt x="1392" y="1019"/>
                  </a:lnTo>
                  <a:lnTo>
                    <a:pt x="1415" y="1008"/>
                  </a:lnTo>
                  <a:lnTo>
                    <a:pt x="1444" y="990"/>
                  </a:lnTo>
                  <a:lnTo>
                    <a:pt x="1469" y="971"/>
                  </a:lnTo>
                  <a:lnTo>
                    <a:pt x="1496" y="950"/>
                  </a:lnTo>
                  <a:lnTo>
                    <a:pt x="1520" y="923"/>
                  </a:lnTo>
                  <a:lnTo>
                    <a:pt x="1544" y="893"/>
                  </a:lnTo>
                  <a:lnTo>
                    <a:pt x="1565" y="854"/>
                  </a:lnTo>
                  <a:lnTo>
                    <a:pt x="1582" y="814"/>
                  </a:lnTo>
                  <a:lnTo>
                    <a:pt x="1590" y="791"/>
                  </a:lnTo>
                  <a:lnTo>
                    <a:pt x="1595" y="768"/>
                  </a:lnTo>
                  <a:lnTo>
                    <a:pt x="1601" y="743"/>
                  </a:lnTo>
                  <a:lnTo>
                    <a:pt x="1605" y="716"/>
                  </a:lnTo>
                  <a:lnTo>
                    <a:pt x="1607" y="689"/>
                  </a:lnTo>
                  <a:lnTo>
                    <a:pt x="1607" y="660"/>
                  </a:lnTo>
                  <a:lnTo>
                    <a:pt x="1607" y="643"/>
                  </a:lnTo>
                  <a:lnTo>
                    <a:pt x="1607" y="599"/>
                  </a:lnTo>
                  <a:lnTo>
                    <a:pt x="1599" y="530"/>
                  </a:lnTo>
                  <a:lnTo>
                    <a:pt x="1593" y="487"/>
                  </a:lnTo>
                  <a:lnTo>
                    <a:pt x="1586" y="441"/>
                  </a:lnTo>
                  <a:lnTo>
                    <a:pt x="1574" y="391"/>
                  </a:lnTo>
                  <a:lnTo>
                    <a:pt x="1559" y="340"/>
                  </a:lnTo>
                  <a:lnTo>
                    <a:pt x="1542" y="282"/>
                  </a:lnTo>
                  <a:lnTo>
                    <a:pt x="1519" y="226"/>
                  </a:lnTo>
                  <a:lnTo>
                    <a:pt x="1492" y="171"/>
                  </a:lnTo>
                  <a:lnTo>
                    <a:pt x="1461" y="113"/>
                  </a:lnTo>
                  <a:lnTo>
                    <a:pt x="1424" y="56"/>
                  </a:lnTo>
                  <a:lnTo>
                    <a:pt x="1378"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10" name="フリーフォーム 21"/>
            <p:cNvSpPr/>
            <p:nvPr/>
          </p:nvSpPr>
          <p:spPr>
            <a:xfrm>
              <a:off x="16920" y="2575080"/>
              <a:ext cx="9126000" cy="3989520"/>
            </a:xfrm>
            <a:custGeom>
              <a:avLst/>
              <a:gdLst>
                <a:gd name="textAreaLeft" fmla="*/ 0 w 9126000"/>
                <a:gd name="textAreaRight" fmla="*/ 9126360 w 9126000"/>
                <a:gd name="textAreaTop" fmla="*/ 0 h 3989520"/>
                <a:gd name="textAreaBottom" fmla="*/ 3989880 h 3989520"/>
              </a:gdLst>
              <a:ahLst/>
              <a:rect l="textAreaLeft" t="textAreaTop" r="textAreaRight" b="textAreaBottom"/>
              <a:pathLst>
                <a:path w="1620" h="657">
                  <a:moveTo>
                    <a:pt x="0" y="584"/>
                  </a:moveTo>
                  <a:lnTo>
                    <a:pt x="29" y="590"/>
                  </a:lnTo>
                  <a:lnTo>
                    <a:pt x="109" y="605"/>
                  </a:lnTo>
                  <a:lnTo>
                    <a:pt x="234" y="624"/>
                  </a:lnTo>
                  <a:lnTo>
                    <a:pt x="303" y="634"/>
                  </a:lnTo>
                  <a:lnTo>
                    <a:pt x="382" y="642"/>
                  </a:lnTo>
                  <a:lnTo>
                    <a:pt x="468" y="649"/>
                  </a:lnTo>
                  <a:lnTo>
                    <a:pt x="557" y="653"/>
                  </a:lnTo>
                  <a:lnTo>
                    <a:pt x="651" y="657"/>
                  </a:lnTo>
                  <a:lnTo>
                    <a:pt x="743" y="655"/>
                  </a:lnTo>
                  <a:lnTo>
                    <a:pt x="835" y="651"/>
                  </a:lnTo>
                  <a:lnTo>
                    <a:pt x="927" y="643"/>
                  </a:lnTo>
                  <a:lnTo>
                    <a:pt x="1017" y="630"/>
                  </a:lnTo>
                  <a:lnTo>
                    <a:pt x="1062" y="620"/>
                  </a:lnTo>
                  <a:lnTo>
                    <a:pt x="1104" y="611"/>
                  </a:lnTo>
                  <a:lnTo>
                    <a:pt x="1117" y="607"/>
                  </a:lnTo>
                  <a:lnTo>
                    <a:pt x="1156" y="597"/>
                  </a:lnTo>
                  <a:lnTo>
                    <a:pt x="1213" y="576"/>
                  </a:lnTo>
                  <a:lnTo>
                    <a:pt x="1246" y="563"/>
                  </a:lnTo>
                  <a:lnTo>
                    <a:pt x="1280" y="547"/>
                  </a:lnTo>
                  <a:lnTo>
                    <a:pt x="1319" y="528"/>
                  </a:lnTo>
                  <a:lnTo>
                    <a:pt x="1355" y="507"/>
                  </a:lnTo>
                  <a:lnTo>
                    <a:pt x="1394" y="482"/>
                  </a:lnTo>
                  <a:lnTo>
                    <a:pt x="1434" y="451"/>
                  </a:lnTo>
                  <a:lnTo>
                    <a:pt x="1471" y="419"/>
                  </a:lnTo>
                  <a:lnTo>
                    <a:pt x="1503" y="380"/>
                  </a:lnTo>
                  <a:lnTo>
                    <a:pt x="1536" y="338"/>
                  </a:lnTo>
                  <a:lnTo>
                    <a:pt x="1549" y="317"/>
                  </a:lnTo>
                  <a:lnTo>
                    <a:pt x="1563" y="294"/>
                  </a:lnTo>
                  <a:lnTo>
                    <a:pt x="1572" y="265"/>
                  </a:lnTo>
                  <a:lnTo>
                    <a:pt x="1582" y="235"/>
                  </a:lnTo>
                  <a:lnTo>
                    <a:pt x="1593" y="196"/>
                  </a:lnTo>
                  <a:lnTo>
                    <a:pt x="1605" y="150"/>
                  </a:lnTo>
                  <a:lnTo>
                    <a:pt x="1615" y="102"/>
                  </a:lnTo>
                  <a:lnTo>
                    <a:pt x="1620" y="52"/>
                  </a:lnTo>
                  <a:lnTo>
                    <a:pt x="1620" y="25"/>
                  </a:lnTo>
                  <a:lnTo>
                    <a:pt x="162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11" name="フリーフォーム 22"/>
            <p:cNvSpPr/>
            <p:nvPr/>
          </p:nvSpPr>
          <p:spPr>
            <a:xfrm>
              <a:off x="2408040" y="0"/>
              <a:ext cx="6533640" cy="6832080"/>
            </a:xfrm>
            <a:custGeom>
              <a:avLst/>
              <a:gdLst>
                <a:gd name="textAreaLeft" fmla="*/ 0 w 6533640"/>
                <a:gd name="textAreaRight" fmla="*/ 6534000 w 6533640"/>
                <a:gd name="textAreaTop" fmla="*/ 0 h 6832080"/>
                <a:gd name="textAreaBottom" fmla="*/ 6832440 h 6832080"/>
              </a:gdLst>
              <a:ahLst/>
              <a:rect l="textAreaLeft" t="textAreaTop" r="textAreaRight" b="textAreaBottom"/>
              <a:pathLst>
                <a:path w="1142" h="1146">
                  <a:moveTo>
                    <a:pt x="0" y="1144"/>
                  </a:moveTo>
                  <a:lnTo>
                    <a:pt x="36" y="1146"/>
                  </a:lnTo>
                  <a:lnTo>
                    <a:pt x="132" y="1144"/>
                  </a:lnTo>
                  <a:lnTo>
                    <a:pt x="200" y="1142"/>
                  </a:lnTo>
                  <a:lnTo>
                    <a:pt x="274" y="1136"/>
                  </a:lnTo>
                  <a:lnTo>
                    <a:pt x="355" y="1131"/>
                  </a:lnTo>
                  <a:lnTo>
                    <a:pt x="438" y="1119"/>
                  </a:lnTo>
                  <a:lnTo>
                    <a:pt x="526" y="1106"/>
                  </a:lnTo>
                  <a:lnTo>
                    <a:pt x="614" y="1087"/>
                  </a:lnTo>
                  <a:lnTo>
                    <a:pt x="658" y="1075"/>
                  </a:lnTo>
                  <a:lnTo>
                    <a:pt x="701" y="1064"/>
                  </a:lnTo>
                  <a:lnTo>
                    <a:pt x="743" y="1050"/>
                  </a:lnTo>
                  <a:lnTo>
                    <a:pt x="783" y="1035"/>
                  </a:lnTo>
                  <a:lnTo>
                    <a:pt x="822" y="1017"/>
                  </a:lnTo>
                  <a:lnTo>
                    <a:pt x="860" y="998"/>
                  </a:lnTo>
                  <a:lnTo>
                    <a:pt x="895" y="979"/>
                  </a:lnTo>
                  <a:lnTo>
                    <a:pt x="927" y="958"/>
                  </a:lnTo>
                  <a:lnTo>
                    <a:pt x="958" y="935"/>
                  </a:lnTo>
                  <a:lnTo>
                    <a:pt x="985" y="910"/>
                  </a:lnTo>
                  <a:lnTo>
                    <a:pt x="1012" y="883"/>
                  </a:lnTo>
                  <a:lnTo>
                    <a:pt x="1033" y="852"/>
                  </a:lnTo>
                  <a:lnTo>
                    <a:pt x="1040" y="841"/>
                  </a:lnTo>
                  <a:lnTo>
                    <a:pt x="1060" y="808"/>
                  </a:lnTo>
                  <a:lnTo>
                    <a:pt x="1073" y="783"/>
                  </a:lnTo>
                  <a:lnTo>
                    <a:pt x="1085" y="751"/>
                  </a:lnTo>
                  <a:lnTo>
                    <a:pt x="1098" y="712"/>
                  </a:lnTo>
                  <a:lnTo>
                    <a:pt x="1112" y="664"/>
                  </a:lnTo>
                  <a:lnTo>
                    <a:pt x="1123" y="610"/>
                  </a:lnTo>
                  <a:lnTo>
                    <a:pt x="1133" y="551"/>
                  </a:lnTo>
                  <a:lnTo>
                    <a:pt x="1140" y="482"/>
                  </a:lnTo>
                  <a:lnTo>
                    <a:pt x="1142" y="403"/>
                  </a:lnTo>
                  <a:lnTo>
                    <a:pt x="1142" y="317"/>
                  </a:lnTo>
                  <a:lnTo>
                    <a:pt x="1136" y="219"/>
                  </a:lnTo>
                  <a:lnTo>
                    <a:pt x="1127" y="115"/>
                  </a:lnTo>
                  <a:lnTo>
                    <a:pt x="111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12" name="フリーフォーム 23"/>
            <p:cNvSpPr/>
            <p:nvPr/>
          </p:nvSpPr>
          <p:spPr>
            <a:xfrm>
              <a:off x="7448400" y="0"/>
              <a:ext cx="1694160" cy="1494000"/>
            </a:xfrm>
            <a:custGeom>
              <a:avLst/>
              <a:gdLst>
                <a:gd name="textAreaLeft" fmla="*/ 0 w 1694160"/>
                <a:gd name="textAreaRight" fmla="*/ 1694520 w 1694160"/>
                <a:gd name="textAreaTop" fmla="*/ 0 h 1494000"/>
                <a:gd name="textAreaBottom" fmla="*/ 1494360 h 1494000"/>
              </a:gdLst>
              <a:ahLst/>
              <a:rect l="textAreaLeft" t="textAreaTop" r="textAreaRight" b="textAreaBottom"/>
              <a:pathLst>
                <a:path w="309" h="263">
                  <a:moveTo>
                    <a:pt x="0" y="0"/>
                  </a:moveTo>
                  <a:lnTo>
                    <a:pt x="39" y="19"/>
                  </a:lnTo>
                  <a:lnTo>
                    <a:pt x="79" y="42"/>
                  </a:lnTo>
                  <a:lnTo>
                    <a:pt x="131" y="73"/>
                  </a:lnTo>
                  <a:lnTo>
                    <a:pt x="156" y="90"/>
                  </a:lnTo>
                  <a:lnTo>
                    <a:pt x="183" y="111"/>
                  </a:lnTo>
                  <a:lnTo>
                    <a:pt x="209" y="132"/>
                  </a:lnTo>
                  <a:lnTo>
                    <a:pt x="232" y="155"/>
                  </a:lnTo>
                  <a:lnTo>
                    <a:pt x="257" y="180"/>
                  </a:lnTo>
                  <a:lnTo>
                    <a:pt x="277" y="205"/>
                  </a:lnTo>
                  <a:lnTo>
                    <a:pt x="296" y="234"/>
                  </a:lnTo>
                  <a:lnTo>
                    <a:pt x="309" y="263"/>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13" name="フリーフォーム 24"/>
            <p:cNvSpPr/>
            <p:nvPr/>
          </p:nvSpPr>
          <p:spPr>
            <a:xfrm>
              <a:off x="0" y="5877720"/>
              <a:ext cx="5439960" cy="954360"/>
            </a:xfrm>
            <a:custGeom>
              <a:avLst/>
              <a:gdLst>
                <a:gd name="textAreaLeft" fmla="*/ 0 w 5439960"/>
                <a:gd name="textAreaRight" fmla="*/ 5440320 w 5439960"/>
                <a:gd name="textAreaTop" fmla="*/ 0 h 954360"/>
                <a:gd name="textAreaBottom" fmla="*/ 954720 h 954360"/>
              </a:gdLst>
              <a:ahLst/>
              <a:rect l="textAreaLeft" t="textAreaTop" r="textAreaRight" b="textAreaBottom"/>
              <a:pathLst>
                <a:path w="960" h="157">
                  <a:moveTo>
                    <a:pt x="0" y="0"/>
                  </a:moveTo>
                  <a:lnTo>
                    <a:pt x="98" y="27"/>
                  </a:lnTo>
                  <a:lnTo>
                    <a:pt x="209" y="53"/>
                  </a:lnTo>
                  <a:lnTo>
                    <a:pt x="340" y="84"/>
                  </a:lnTo>
                  <a:lnTo>
                    <a:pt x="493" y="113"/>
                  </a:lnTo>
                  <a:lnTo>
                    <a:pt x="572" y="126"/>
                  </a:lnTo>
                  <a:lnTo>
                    <a:pt x="654" y="138"/>
                  </a:lnTo>
                  <a:lnTo>
                    <a:pt x="735" y="146"/>
                  </a:lnTo>
                  <a:lnTo>
                    <a:pt x="812" y="153"/>
                  </a:lnTo>
                  <a:lnTo>
                    <a:pt x="887" y="157"/>
                  </a:lnTo>
                  <a:lnTo>
                    <a:pt x="960" y="155"/>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grpSp>
      <p:pic>
        <p:nvPicPr>
          <p:cNvPr id="514" name="図形グループ 2" descr=""/>
          <p:cNvPicPr/>
          <p:nvPr/>
        </p:nvPicPr>
        <p:blipFill>
          <a:blip r:embed="rId3"/>
          <a:stretch/>
        </p:blipFill>
        <p:spPr>
          <a:xfrm>
            <a:off x="8058240" y="5846760"/>
            <a:ext cx="1085760" cy="1023840"/>
          </a:xfrm>
          <a:prstGeom prst="rect">
            <a:avLst/>
          </a:prstGeom>
          <a:ln w="0">
            <a:noFill/>
          </a:ln>
        </p:spPr>
      </p:pic>
      <p:sp>
        <p:nvSpPr>
          <p:cNvPr id="51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516" name="PlaceHolder 2"/>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sp>
        <p:nvSpPr>
          <p:cNvPr id="517" name="PlaceHolder 3"/>
          <p:cNvSpPr>
            <a:spLocks noGrp="1"/>
          </p:cNvSpPr>
          <p:nvPr>
            <p:ph type="dt" idx="31"/>
          </p:nvPr>
        </p:nvSpPr>
        <p:spPr>
          <a:xfrm>
            <a:off x="-360" y="-360"/>
            <a:ext cx="213372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B7D0D-7BFD-45C6-8670-7C94B69570EB}"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518" name="PlaceHolder 4"/>
          <p:cNvSpPr>
            <a:spLocks noGrp="1"/>
          </p:cNvSpPr>
          <p:nvPr>
            <p:ph type="ftr" idx="32"/>
          </p:nvPr>
        </p:nvSpPr>
        <p:spPr>
          <a:xfrm>
            <a:off x="2199960" y="-360"/>
            <a:ext cx="4498920" cy="361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519" name="PlaceHolder 5"/>
          <p:cNvSpPr>
            <a:spLocks noGrp="1"/>
          </p:cNvSpPr>
          <p:nvPr>
            <p:ph type="sldNum" idx="33"/>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D789E-D752-4BB3-ADE9-D0A8244BC82F}"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6" name="図形グループ 1"/>
          <p:cNvGrpSpPr/>
          <p:nvPr/>
        </p:nvGrpSpPr>
        <p:grpSpPr>
          <a:xfrm>
            <a:off x="-28440" y="0"/>
            <a:ext cx="9171360" cy="6855480"/>
            <a:chOff x="-28440" y="0"/>
            <a:chExt cx="9171360" cy="6855480"/>
          </a:xfrm>
        </p:grpSpPr>
        <p:sp>
          <p:nvSpPr>
            <p:cNvPr id="557" name="フリーフォーム 17"/>
            <p:cNvSpPr/>
            <p:nvPr/>
          </p:nvSpPr>
          <p:spPr>
            <a:xfrm>
              <a:off x="-28440" y="5010120"/>
              <a:ext cx="5669640" cy="1821960"/>
            </a:xfrm>
            <a:custGeom>
              <a:avLst/>
              <a:gdLst>
                <a:gd name="textAreaLeft" fmla="*/ 0 w 5669640"/>
                <a:gd name="textAreaRight" fmla="*/ 5670000 w 5669640"/>
                <a:gd name="textAreaTop" fmla="*/ 0 h 1821960"/>
                <a:gd name="textAreaBottom" fmla="*/ 1822320 h 1821960"/>
              </a:gdLst>
              <a:ahLst/>
              <a:rect l="textAreaLeft" t="textAreaTop" r="textAreaRight" b="textAreaBottom"/>
              <a:pathLst>
                <a:path w="991" h="300">
                  <a:moveTo>
                    <a:pt x="0" y="0"/>
                  </a:moveTo>
                  <a:lnTo>
                    <a:pt x="15" y="14"/>
                  </a:lnTo>
                  <a:lnTo>
                    <a:pt x="32" y="33"/>
                  </a:lnTo>
                  <a:lnTo>
                    <a:pt x="57" y="54"/>
                  </a:lnTo>
                  <a:lnTo>
                    <a:pt x="92" y="79"/>
                  </a:lnTo>
                  <a:lnTo>
                    <a:pt x="132" y="106"/>
                  </a:lnTo>
                  <a:lnTo>
                    <a:pt x="182" y="133"/>
                  </a:lnTo>
                  <a:lnTo>
                    <a:pt x="236" y="163"/>
                  </a:lnTo>
                  <a:lnTo>
                    <a:pt x="301" y="192"/>
                  </a:lnTo>
                  <a:lnTo>
                    <a:pt x="374" y="219"/>
                  </a:lnTo>
                  <a:lnTo>
                    <a:pt x="457" y="244"/>
                  </a:lnTo>
                  <a:lnTo>
                    <a:pt x="501" y="255"/>
                  </a:lnTo>
                  <a:lnTo>
                    <a:pt x="545" y="267"/>
                  </a:lnTo>
                  <a:lnTo>
                    <a:pt x="595" y="275"/>
                  </a:lnTo>
                  <a:lnTo>
                    <a:pt x="647" y="282"/>
                  </a:lnTo>
                  <a:lnTo>
                    <a:pt x="699" y="290"/>
                  </a:lnTo>
                  <a:lnTo>
                    <a:pt x="752" y="294"/>
                  </a:lnTo>
                  <a:lnTo>
                    <a:pt x="810" y="298"/>
                  </a:lnTo>
                  <a:lnTo>
                    <a:pt x="868" y="300"/>
                  </a:lnTo>
                  <a:lnTo>
                    <a:pt x="927" y="298"/>
                  </a:lnTo>
                  <a:lnTo>
                    <a:pt x="991" y="296"/>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58" name="フリーフォーム 18"/>
            <p:cNvSpPr/>
            <p:nvPr/>
          </p:nvSpPr>
          <p:spPr>
            <a:xfrm>
              <a:off x="4782240" y="0"/>
              <a:ext cx="3907800" cy="6855480"/>
            </a:xfrm>
            <a:custGeom>
              <a:avLst/>
              <a:gdLst>
                <a:gd name="textAreaLeft" fmla="*/ 0 w 3907800"/>
                <a:gd name="textAreaRight" fmla="*/ 3908160 w 3907800"/>
                <a:gd name="textAreaTop" fmla="*/ 0 h 6855480"/>
                <a:gd name="textAreaBottom" fmla="*/ 6855840 h 6855480"/>
              </a:gdLst>
              <a:ahLst/>
              <a:rect l="textAreaLeft" t="textAreaTop" r="textAreaRight" b="textAreaBottom"/>
              <a:pathLst>
                <a:path w="539" h="1129">
                  <a:moveTo>
                    <a:pt x="0" y="1129"/>
                  </a:moveTo>
                  <a:lnTo>
                    <a:pt x="42" y="1125"/>
                  </a:lnTo>
                  <a:lnTo>
                    <a:pt x="132" y="1115"/>
                  </a:lnTo>
                  <a:lnTo>
                    <a:pt x="188" y="1106"/>
                  </a:lnTo>
                  <a:lnTo>
                    <a:pt x="241" y="1094"/>
                  </a:lnTo>
                  <a:lnTo>
                    <a:pt x="289" y="1079"/>
                  </a:lnTo>
                  <a:lnTo>
                    <a:pt x="311" y="1071"/>
                  </a:lnTo>
                  <a:lnTo>
                    <a:pt x="328" y="1062"/>
                  </a:lnTo>
                  <a:lnTo>
                    <a:pt x="339" y="1056"/>
                  </a:lnTo>
                  <a:lnTo>
                    <a:pt x="351" y="1048"/>
                  </a:lnTo>
                  <a:lnTo>
                    <a:pt x="366" y="1037"/>
                  </a:lnTo>
                  <a:lnTo>
                    <a:pt x="385" y="1019"/>
                  </a:lnTo>
                  <a:lnTo>
                    <a:pt x="405" y="998"/>
                  </a:lnTo>
                  <a:lnTo>
                    <a:pt x="426" y="969"/>
                  </a:lnTo>
                  <a:lnTo>
                    <a:pt x="449" y="939"/>
                  </a:lnTo>
                  <a:lnTo>
                    <a:pt x="470" y="898"/>
                  </a:lnTo>
                  <a:lnTo>
                    <a:pt x="489" y="848"/>
                  </a:lnTo>
                  <a:lnTo>
                    <a:pt x="506" y="793"/>
                  </a:lnTo>
                  <a:lnTo>
                    <a:pt x="520" y="727"/>
                  </a:lnTo>
                  <a:lnTo>
                    <a:pt x="531" y="655"/>
                  </a:lnTo>
                  <a:lnTo>
                    <a:pt x="537" y="572"/>
                  </a:lnTo>
                  <a:lnTo>
                    <a:pt x="539" y="530"/>
                  </a:lnTo>
                  <a:lnTo>
                    <a:pt x="537" y="482"/>
                  </a:lnTo>
                  <a:lnTo>
                    <a:pt x="535" y="432"/>
                  </a:lnTo>
                  <a:lnTo>
                    <a:pt x="533" y="378"/>
                  </a:lnTo>
                  <a:lnTo>
                    <a:pt x="531" y="357"/>
                  </a:lnTo>
                  <a:lnTo>
                    <a:pt x="524" y="286"/>
                  </a:lnTo>
                  <a:lnTo>
                    <a:pt x="516" y="232"/>
                  </a:lnTo>
                  <a:lnTo>
                    <a:pt x="503" y="169"/>
                  </a:lnTo>
                  <a:lnTo>
                    <a:pt x="487" y="90"/>
                  </a:lnTo>
                  <a:lnTo>
                    <a:pt x="466"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59" name="フリーフォーム 19"/>
            <p:cNvSpPr/>
            <p:nvPr/>
          </p:nvSpPr>
          <p:spPr>
            <a:xfrm>
              <a:off x="0" y="0"/>
              <a:ext cx="9131040" cy="6473880"/>
            </a:xfrm>
            <a:custGeom>
              <a:avLst/>
              <a:gdLst>
                <a:gd name="textAreaLeft" fmla="*/ 0 w 9131040"/>
                <a:gd name="textAreaRight" fmla="*/ 9131400 w 9131040"/>
                <a:gd name="textAreaTop" fmla="*/ 0 h 6473880"/>
                <a:gd name="textAreaBottom" fmla="*/ 6474240 h 6473880"/>
              </a:gdLst>
              <a:ahLst/>
              <a:rect l="textAreaLeft" t="textAreaTop" r="textAreaRight" b="textAreaBottom"/>
              <a:pathLst>
                <a:path w="1607" h="1085">
                  <a:moveTo>
                    <a:pt x="0" y="929"/>
                  </a:moveTo>
                  <a:lnTo>
                    <a:pt x="40" y="941"/>
                  </a:lnTo>
                  <a:lnTo>
                    <a:pt x="148" y="966"/>
                  </a:lnTo>
                  <a:lnTo>
                    <a:pt x="305" y="1000"/>
                  </a:lnTo>
                  <a:lnTo>
                    <a:pt x="399" y="1019"/>
                  </a:lnTo>
                  <a:lnTo>
                    <a:pt x="501" y="1037"/>
                  </a:lnTo>
                  <a:lnTo>
                    <a:pt x="608" y="1052"/>
                  </a:lnTo>
                  <a:lnTo>
                    <a:pt x="718" y="1067"/>
                  </a:lnTo>
                  <a:lnTo>
                    <a:pt x="827" y="1077"/>
                  </a:lnTo>
                  <a:lnTo>
                    <a:pt x="937" y="1083"/>
                  </a:lnTo>
                  <a:lnTo>
                    <a:pt x="991" y="1085"/>
                  </a:lnTo>
                  <a:lnTo>
                    <a:pt x="1044" y="1085"/>
                  </a:lnTo>
                  <a:lnTo>
                    <a:pt x="1096" y="1083"/>
                  </a:lnTo>
                  <a:lnTo>
                    <a:pt x="1146" y="1079"/>
                  </a:lnTo>
                  <a:lnTo>
                    <a:pt x="1194" y="1073"/>
                  </a:lnTo>
                  <a:lnTo>
                    <a:pt x="1240" y="1065"/>
                  </a:lnTo>
                  <a:lnTo>
                    <a:pt x="1284" y="1058"/>
                  </a:lnTo>
                  <a:lnTo>
                    <a:pt x="1327" y="1046"/>
                  </a:lnTo>
                  <a:lnTo>
                    <a:pt x="1338" y="1042"/>
                  </a:lnTo>
                  <a:lnTo>
                    <a:pt x="1371" y="1031"/>
                  </a:lnTo>
                  <a:lnTo>
                    <a:pt x="1392" y="1019"/>
                  </a:lnTo>
                  <a:lnTo>
                    <a:pt x="1415" y="1008"/>
                  </a:lnTo>
                  <a:lnTo>
                    <a:pt x="1444" y="990"/>
                  </a:lnTo>
                  <a:lnTo>
                    <a:pt x="1469" y="971"/>
                  </a:lnTo>
                  <a:lnTo>
                    <a:pt x="1496" y="950"/>
                  </a:lnTo>
                  <a:lnTo>
                    <a:pt x="1520" y="923"/>
                  </a:lnTo>
                  <a:lnTo>
                    <a:pt x="1544" y="893"/>
                  </a:lnTo>
                  <a:lnTo>
                    <a:pt x="1565" y="854"/>
                  </a:lnTo>
                  <a:lnTo>
                    <a:pt x="1582" y="814"/>
                  </a:lnTo>
                  <a:lnTo>
                    <a:pt x="1590" y="791"/>
                  </a:lnTo>
                  <a:lnTo>
                    <a:pt x="1595" y="768"/>
                  </a:lnTo>
                  <a:lnTo>
                    <a:pt x="1601" y="743"/>
                  </a:lnTo>
                  <a:lnTo>
                    <a:pt x="1605" y="716"/>
                  </a:lnTo>
                  <a:lnTo>
                    <a:pt x="1607" y="689"/>
                  </a:lnTo>
                  <a:lnTo>
                    <a:pt x="1607" y="660"/>
                  </a:lnTo>
                  <a:lnTo>
                    <a:pt x="1607" y="643"/>
                  </a:lnTo>
                  <a:lnTo>
                    <a:pt x="1607" y="599"/>
                  </a:lnTo>
                  <a:lnTo>
                    <a:pt x="1599" y="530"/>
                  </a:lnTo>
                  <a:lnTo>
                    <a:pt x="1593" y="487"/>
                  </a:lnTo>
                  <a:lnTo>
                    <a:pt x="1586" y="441"/>
                  </a:lnTo>
                  <a:lnTo>
                    <a:pt x="1574" y="391"/>
                  </a:lnTo>
                  <a:lnTo>
                    <a:pt x="1559" y="340"/>
                  </a:lnTo>
                  <a:lnTo>
                    <a:pt x="1542" y="282"/>
                  </a:lnTo>
                  <a:lnTo>
                    <a:pt x="1519" y="226"/>
                  </a:lnTo>
                  <a:lnTo>
                    <a:pt x="1492" y="171"/>
                  </a:lnTo>
                  <a:lnTo>
                    <a:pt x="1461" y="113"/>
                  </a:lnTo>
                  <a:lnTo>
                    <a:pt x="1424" y="56"/>
                  </a:lnTo>
                  <a:lnTo>
                    <a:pt x="1378"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60" name="フリーフォーム 21"/>
            <p:cNvSpPr/>
            <p:nvPr/>
          </p:nvSpPr>
          <p:spPr>
            <a:xfrm>
              <a:off x="16920" y="2575080"/>
              <a:ext cx="9126000" cy="3989520"/>
            </a:xfrm>
            <a:custGeom>
              <a:avLst/>
              <a:gdLst>
                <a:gd name="textAreaLeft" fmla="*/ 0 w 9126000"/>
                <a:gd name="textAreaRight" fmla="*/ 9126360 w 9126000"/>
                <a:gd name="textAreaTop" fmla="*/ 0 h 3989520"/>
                <a:gd name="textAreaBottom" fmla="*/ 3989880 h 3989520"/>
              </a:gdLst>
              <a:ahLst/>
              <a:rect l="textAreaLeft" t="textAreaTop" r="textAreaRight" b="textAreaBottom"/>
              <a:pathLst>
                <a:path w="1620" h="657">
                  <a:moveTo>
                    <a:pt x="0" y="584"/>
                  </a:moveTo>
                  <a:lnTo>
                    <a:pt x="29" y="590"/>
                  </a:lnTo>
                  <a:lnTo>
                    <a:pt x="109" y="605"/>
                  </a:lnTo>
                  <a:lnTo>
                    <a:pt x="234" y="624"/>
                  </a:lnTo>
                  <a:lnTo>
                    <a:pt x="303" y="634"/>
                  </a:lnTo>
                  <a:lnTo>
                    <a:pt x="382" y="642"/>
                  </a:lnTo>
                  <a:lnTo>
                    <a:pt x="468" y="649"/>
                  </a:lnTo>
                  <a:lnTo>
                    <a:pt x="557" y="653"/>
                  </a:lnTo>
                  <a:lnTo>
                    <a:pt x="651" y="657"/>
                  </a:lnTo>
                  <a:lnTo>
                    <a:pt x="743" y="655"/>
                  </a:lnTo>
                  <a:lnTo>
                    <a:pt x="835" y="651"/>
                  </a:lnTo>
                  <a:lnTo>
                    <a:pt x="927" y="643"/>
                  </a:lnTo>
                  <a:lnTo>
                    <a:pt x="1017" y="630"/>
                  </a:lnTo>
                  <a:lnTo>
                    <a:pt x="1062" y="620"/>
                  </a:lnTo>
                  <a:lnTo>
                    <a:pt x="1104" y="611"/>
                  </a:lnTo>
                  <a:lnTo>
                    <a:pt x="1117" y="607"/>
                  </a:lnTo>
                  <a:lnTo>
                    <a:pt x="1156" y="597"/>
                  </a:lnTo>
                  <a:lnTo>
                    <a:pt x="1213" y="576"/>
                  </a:lnTo>
                  <a:lnTo>
                    <a:pt x="1246" y="563"/>
                  </a:lnTo>
                  <a:lnTo>
                    <a:pt x="1280" y="547"/>
                  </a:lnTo>
                  <a:lnTo>
                    <a:pt x="1319" y="528"/>
                  </a:lnTo>
                  <a:lnTo>
                    <a:pt x="1355" y="507"/>
                  </a:lnTo>
                  <a:lnTo>
                    <a:pt x="1394" y="482"/>
                  </a:lnTo>
                  <a:lnTo>
                    <a:pt x="1434" y="451"/>
                  </a:lnTo>
                  <a:lnTo>
                    <a:pt x="1471" y="419"/>
                  </a:lnTo>
                  <a:lnTo>
                    <a:pt x="1503" y="380"/>
                  </a:lnTo>
                  <a:lnTo>
                    <a:pt x="1536" y="338"/>
                  </a:lnTo>
                  <a:lnTo>
                    <a:pt x="1549" y="317"/>
                  </a:lnTo>
                  <a:lnTo>
                    <a:pt x="1563" y="294"/>
                  </a:lnTo>
                  <a:lnTo>
                    <a:pt x="1572" y="265"/>
                  </a:lnTo>
                  <a:lnTo>
                    <a:pt x="1582" y="235"/>
                  </a:lnTo>
                  <a:lnTo>
                    <a:pt x="1593" y="196"/>
                  </a:lnTo>
                  <a:lnTo>
                    <a:pt x="1605" y="150"/>
                  </a:lnTo>
                  <a:lnTo>
                    <a:pt x="1615" y="102"/>
                  </a:lnTo>
                  <a:lnTo>
                    <a:pt x="1620" y="52"/>
                  </a:lnTo>
                  <a:lnTo>
                    <a:pt x="1620" y="25"/>
                  </a:lnTo>
                  <a:lnTo>
                    <a:pt x="162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61" name="フリーフォーム 22"/>
            <p:cNvSpPr/>
            <p:nvPr/>
          </p:nvSpPr>
          <p:spPr>
            <a:xfrm>
              <a:off x="2408040" y="0"/>
              <a:ext cx="6533640" cy="6832080"/>
            </a:xfrm>
            <a:custGeom>
              <a:avLst/>
              <a:gdLst>
                <a:gd name="textAreaLeft" fmla="*/ 0 w 6533640"/>
                <a:gd name="textAreaRight" fmla="*/ 6534000 w 6533640"/>
                <a:gd name="textAreaTop" fmla="*/ 0 h 6832080"/>
                <a:gd name="textAreaBottom" fmla="*/ 6832440 h 6832080"/>
              </a:gdLst>
              <a:ahLst/>
              <a:rect l="textAreaLeft" t="textAreaTop" r="textAreaRight" b="textAreaBottom"/>
              <a:pathLst>
                <a:path w="1142" h="1146">
                  <a:moveTo>
                    <a:pt x="0" y="1144"/>
                  </a:moveTo>
                  <a:lnTo>
                    <a:pt x="36" y="1146"/>
                  </a:lnTo>
                  <a:lnTo>
                    <a:pt x="132" y="1144"/>
                  </a:lnTo>
                  <a:lnTo>
                    <a:pt x="200" y="1142"/>
                  </a:lnTo>
                  <a:lnTo>
                    <a:pt x="274" y="1136"/>
                  </a:lnTo>
                  <a:lnTo>
                    <a:pt x="355" y="1131"/>
                  </a:lnTo>
                  <a:lnTo>
                    <a:pt x="438" y="1119"/>
                  </a:lnTo>
                  <a:lnTo>
                    <a:pt x="526" y="1106"/>
                  </a:lnTo>
                  <a:lnTo>
                    <a:pt x="614" y="1087"/>
                  </a:lnTo>
                  <a:lnTo>
                    <a:pt x="658" y="1075"/>
                  </a:lnTo>
                  <a:lnTo>
                    <a:pt x="701" y="1064"/>
                  </a:lnTo>
                  <a:lnTo>
                    <a:pt x="743" y="1050"/>
                  </a:lnTo>
                  <a:lnTo>
                    <a:pt x="783" y="1035"/>
                  </a:lnTo>
                  <a:lnTo>
                    <a:pt x="822" y="1017"/>
                  </a:lnTo>
                  <a:lnTo>
                    <a:pt x="860" y="998"/>
                  </a:lnTo>
                  <a:lnTo>
                    <a:pt x="895" y="979"/>
                  </a:lnTo>
                  <a:lnTo>
                    <a:pt x="927" y="958"/>
                  </a:lnTo>
                  <a:lnTo>
                    <a:pt x="958" y="935"/>
                  </a:lnTo>
                  <a:lnTo>
                    <a:pt x="985" y="910"/>
                  </a:lnTo>
                  <a:lnTo>
                    <a:pt x="1012" y="883"/>
                  </a:lnTo>
                  <a:lnTo>
                    <a:pt x="1033" y="852"/>
                  </a:lnTo>
                  <a:lnTo>
                    <a:pt x="1040" y="841"/>
                  </a:lnTo>
                  <a:lnTo>
                    <a:pt x="1060" y="808"/>
                  </a:lnTo>
                  <a:lnTo>
                    <a:pt x="1073" y="783"/>
                  </a:lnTo>
                  <a:lnTo>
                    <a:pt x="1085" y="751"/>
                  </a:lnTo>
                  <a:lnTo>
                    <a:pt x="1098" y="712"/>
                  </a:lnTo>
                  <a:lnTo>
                    <a:pt x="1112" y="664"/>
                  </a:lnTo>
                  <a:lnTo>
                    <a:pt x="1123" y="610"/>
                  </a:lnTo>
                  <a:lnTo>
                    <a:pt x="1133" y="551"/>
                  </a:lnTo>
                  <a:lnTo>
                    <a:pt x="1140" y="482"/>
                  </a:lnTo>
                  <a:lnTo>
                    <a:pt x="1142" y="403"/>
                  </a:lnTo>
                  <a:lnTo>
                    <a:pt x="1142" y="317"/>
                  </a:lnTo>
                  <a:lnTo>
                    <a:pt x="1136" y="219"/>
                  </a:lnTo>
                  <a:lnTo>
                    <a:pt x="1127" y="115"/>
                  </a:lnTo>
                  <a:lnTo>
                    <a:pt x="111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62" name="フリーフォーム 23"/>
            <p:cNvSpPr/>
            <p:nvPr/>
          </p:nvSpPr>
          <p:spPr>
            <a:xfrm>
              <a:off x="7448400" y="0"/>
              <a:ext cx="1694160" cy="1494000"/>
            </a:xfrm>
            <a:custGeom>
              <a:avLst/>
              <a:gdLst>
                <a:gd name="textAreaLeft" fmla="*/ 0 w 1694160"/>
                <a:gd name="textAreaRight" fmla="*/ 1694520 w 1694160"/>
                <a:gd name="textAreaTop" fmla="*/ 0 h 1494000"/>
                <a:gd name="textAreaBottom" fmla="*/ 1494360 h 1494000"/>
              </a:gdLst>
              <a:ahLst/>
              <a:rect l="textAreaLeft" t="textAreaTop" r="textAreaRight" b="textAreaBottom"/>
              <a:pathLst>
                <a:path w="309" h="263">
                  <a:moveTo>
                    <a:pt x="0" y="0"/>
                  </a:moveTo>
                  <a:lnTo>
                    <a:pt x="39" y="19"/>
                  </a:lnTo>
                  <a:lnTo>
                    <a:pt x="79" y="42"/>
                  </a:lnTo>
                  <a:lnTo>
                    <a:pt x="131" y="73"/>
                  </a:lnTo>
                  <a:lnTo>
                    <a:pt x="156" y="90"/>
                  </a:lnTo>
                  <a:lnTo>
                    <a:pt x="183" y="111"/>
                  </a:lnTo>
                  <a:lnTo>
                    <a:pt x="209" y="132"/>
                  </a:lnTo>
                  <a:lnTo>
                    <a:pt x="232" y="155"/>
                  </a:lnTo>
                  <a:lnTo>
                    <a:pt x="257" y="180"/>
                  </a:lnTo>
                  <a:lnTo>
                    <a:pt x="277" y="205"/>
                  </a:lnTo>
                  <a:lnTo>
                    <a:pt x="296" y="234"/>
                  </a:lnTo>
                  <a:lnTo>
                    <a:pt x="309" y="263"/>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63" name="フリーフォーム 24"/>
            <p:cNvSpPr/>
            <p:nvPr/>
          </p:nvSpPr>
          <p:spPr>
            <a:xfrm>
              <a:off x="0" y="5877720"/>
              <a:ext cx="5439960" cy="954360"/>
            </a:xfrm>
            <a:custGeom>
              <a:avLst/>
              <a:gdLst>
                <a:gd name="textAreaLeft" fmla="*/ 0 w 5439960"/>
                <a:gd name="textAreaRight" fmla="*/ 5440320 w 5439960"/>
                <a:gd name="textAreaTop" fmla="*/ 0 h 954360"/>
                <a:gd name="textAreaBottom" fmla="*/ 954720 h 954360"/>
              </a:gdLst>
              <a:ahLst/>
              <a:rect l="textAreaLeft" t="textAreaTop" r="textAreaRight" b="textAreaBottom"/>
              <a:pathLst>
                <a:path w="960" h="157">
                  <a:moveTo>
                    <a:pt x="0" y="0"/>
                  </a:moveTo>
                  <a:lnTo>
                    <a:pt x="98" y="27"/>
                  </a:lnTo>
                  <a:lnTo>
                    <a:pt x="209" y="53"/>
                  </a:lnTo>
                  <a:lnTo>
                    <a:pt x="340" y="84"/>
                  </a:lnTo>
                  <a:lnTo>
                    <a:pt x="493" y="113"/>
                  </a:lnTo>
                  <a:lnTo>
                    <a:pt x="572" y="126"/>
                  </a:lnTo>
                  <a:lnTo>
                    <a:pt x="654" y="138"/>
                  </a:lnTo>
                  <a:lnTo>
                    <a:pt x="735" y="146"/>
                  </a:lnTo>
                  <a:lnTo>
                    <a:pt x="812" y="153"/>
                  </a:lnTo>
                  <a:lnTo>
                    <a:pt x="887" y="157"/>
                  </a:lnTo>
                  <a:lnTo>
                    <a:pt x="960" y="155"/>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grpSp>
      <p:pic>
        <p:nvPicPr>
          <p:cNvPr id="564" name="図形グループ 2" descr=""/>
          <p:cNvPicPr/>
          <p:nvPr/>
        </p:nvPicPr>
        <p:blipFill>
          <a:blip r:embed="rId3"/>
          <a:stretch/>
        </p:blipFill>
        <p:spPr>
          <a:xfrm>
            <a:off x="8058240" y="5846760"/>
            <a:ext cx="1085760" cy="1023840"/>
          </a:xfrm>
          <a:prstGeom prst="rect">
            <a:avLst/>
          </a:prstGeom>
          <a:ln w="0">
            <a:noFill/>
          </a:ln>
        </p:spPr>
      </p:pic>
      <p:sp>
        <p:nvSpPr>
          <p:cNvPr id="56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566" name="PlaceHolder 2"/>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sp>
        <p:nvSpPr>
          <p:cNvPr id="567" name="PlaceHolder 3"/>
          <p:cNvSpPr>
            <a:spLocks noGrp="1"/>
          </p:cNvSpPr>
          <p:nvPr>
            <p:ph type="dt" idx="34"/>
          </p:nvPr>
        </p:nvSpPr>
        <p:spPr>
          <a:xfrm>
            <a:off x="-360" y="-360"/>
            <a:ext cx="213372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B4813-73A1-4676-A4DA-8DDEE0D7D1D3}"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568" name="PlaceHolder 4"/>
          <p:cNvSpPr>
            <a:spLocks noGrp="1"/>
          </p:cNvSpPr>
          <p:nvPr>
            <p:ph type="ftr" idx="35"/>
          </p:nvPr>
        </p:nvSpPr>
        <p:spPr>
          <a:xfrm>
            <a:off x="2199960" y="-360"/>
            <a:ext cx="4498920" cy="361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569" name="PlaceHolder 5"/>
          <p:cNvSpPr>
            <a:spLocks noGrp="1"/>
          </p:cNvSpPr>
          <p:nvPr>
            <p:ph type="sldNum" idx="36"/>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87A8A-1FFE-4513-A52D-18AB8844C731}"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フリーフォーム 25"/>
          <p:cNvSpPr/>
          <p:nvPr/>
        </p:nvSpPr>
        <p:spPr>
          <a:xfrm>
            <a:off x="0" y="4040280"/>
            <a:ext cx="9134640" cy="490320"/>
          </a:xfrm>
          <a:custGeom>
            <a:avLst/>
            <a:gdLst>
              <a:gd name="textAreaLeft" fmla="*/ 0 w 9134640"/>
              <a:gd name="textAreaRight" fmla="*/ 9135000 w 9134640"/>
              <a:gd name="textAreaTop" fmla="*/ 0 h 490320"/>
              <a:gd name="textAreaBottom" fmla="*/ 490680 h 490320"/>
            </a:gdLst>
            <a:ahLst/>
            <a:rect l="textAreaLeft" t="textAreaTop" r="textAreaRight" b="textAreaBottom"/>
            <a:pathLst>
              <a:path w="7411" h="398">
                <a:moveTo>
                  <a:pt x="0" y="340"/>
                </a:moveTo>
                <a:lnTo>
                  <a:pt x="332" y="365"/>
                </a:lnTo>
                <a:lnTo>
                  <a:pt x="713" y="382"/>
                </a:lnTo>
                <a:lnTo>
                  <a:pt x="1186" y="390"/>
                </a:lnTo>
                <a:lnTo>
                  <a:pt x="1742" y="398"/>
                </a:lnTo>
                <a:lnTo>
                  <a:pt x="2365" y="390"/>
                </a:lnTo>
                <a:lnTo>
                  <a:pt x="2689" y="382"/>
                </a:lnTo>
                <a:lnTo>
                  <a:pt x="3020" y="373"/>
                </a:lnTo>
                <a:lnTo>
                  <a:pt x="3344" y="348"/>
                </a:lnTo>
                <a:lnTo>
                  <a:pt x="3676" y="324"/>
                </a:lnTo>
                <a:lnTo>
                  <a:pt x="4058" y="257"/>
                </a:lnTo>
                <a:lnTo>
                  <a:pt x="4481" y="199"/>
                </a:lnTo>
                <a:lnTo>
                  <a:pt x="4996" y="133"/>
                </a:lnTo>
                <a:lnTo>
                  <a:pt x="5535" y="66"/>
                </a:lnTo>
                <a:lnTo>
                  <a:pt x="6075" y="25"/>
                </a:lnTo>
                <a:lnTo>
                  <a:pt x="6332" y="8"/>
                </a:lnTo>
                <a:lnTo>
                  <a:pt x="6564" y="0"/>
                </a:lnTo>
                <a:lnTo>
                  <a:pt x="6763" y="0"/>
                </a:lnTo>
                <a:lnTo>
                  <a:pt x="6946" y="17"/>
                </a:lnTo>
                <a:lnTo>
                  <a:pt x="7137" y="41"/>
                </a:lnTo>
                <a:lnTo>
                  <a:pt x="7295" y="58"/>
                </a:lnTo>
                <a:lnTo>
                  <a:pt x="7411" y="66"/>
                </a:lnTo>
              </a:path>
            </a:pathLst>
          </a:custGeom>
          <a:noFill/>
          <a:ln w="9360">
            <a:solidFill>
              <a:srgbClr val="fcdccc"/>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1" name="フリーフォーム 26"/>
          <p:cNvSpPr/>
          <p:nvPr/>
        </p:nvSpPr>
        <p:spPr>
          <a:xfrm>
            <a:off x="0" y="3071880"/>
            <a:ext cx="9144000" cy="1116000"/>
          </a:xfrm>
          <a:custGeom>
            <a:avLst/>
            <a:gdLst>
              <a:gd name="textAreaLeft" fmla="*/ 0 w 9144000"/>
              <a:gd name="textAreaRight" fmla="*/ 9144360 w 9144000"/>
              <a:gd name="textAreaTop" fmla="*/ 0 h 1116000"/>
              <a:gd name="textAreaBottom" fmla="*/ 1116360 h 1116000"/>
            </a:gdLst>
            <a:ahLst/>
            <a:rect l="textAreaLeft" t="textAreaTop" r="textAreaRight" b="textAreaBottom"/>
            <a:pathLst>
              <a:path w="7411" h="904">
                <a:moveTo>
                  <a:pt x="0" y="887"/>
                </a:moveTo>
                <a:lnTo>
                  <a:pt x="240" y="896"/>
                </a:lnTo>
                <a:lnTo>
                  <a:pt x="888" y="904"/>
                </a:lnTo>
                <a:lnTo>
                  <a:pt x="1327" y="896"/>
                </a:lnTo>
                <a:lnTo>
                  <a:pt x="1817" y="887"/>
                </a:lnTo>
                <a:lnTo>
                  <a:pt x="2381" y="879"/>
                </a:lnTo>
                <a:lnTo>
                  <a:pt x="2971" y="846"/>
                </a:lnTo>
                <a:lnTo>
                  <a:pt x="3585" y="804"/>
                </a:lnTo>
                <a:lnTo>
                  <a:pt x="4199" y="755"/>
                </a:lnTo>
                <a:lnTo>
                  <a:pt x="4821" y="680"/>
                </a:lnTo>
                <a:lnTo>
                  <a:pt x="5128" y="638"/>
                </a:lnTo>
                <a:lnTo>
                  <a:pt x="5427" y="589"/>
                </a:lnTo>
                <a:lnTo>
                  <a:pt x="5718" y="539"/>
                </a:lnTo>
                <a:lnTo>
                  <a:pt x="6000" y="481"/>
                </a:lnTo>
                <a:lnTo>
                  <a:pt x="6274" y="414"/>
                </a:lnTo>
                <a:lnTo>
                  <a:pt x="6531" y="340"/>
                </a:lnTo>
                <a:lnTo>
                  <a:pt x="6780" y="257"/>
                </a:lnTo>
                <a:lnTo>
                  <a:pt x="7004" y="190"/>
                </a:lnTo>
                <a:lnTo>
                  <a:pt x="7220" y="91"/>
                </a:lnTo>
                <a:lnTo>
                  <a:pt x="7411" y="0"/>
                </a:lnTo>
              </a:path>
            </a:pathLst>
          </a:custGeom>
          <a:noFill/>
          <a:ln w="12600">
            <a:solidFill>
              <a:srgbClr val="de9e5a"/>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2" name="フリーフォーム 27"/>
          <p:cNvSpPr/>
          <p:nvPr/>
        </p:nvSpPr>
        <p:spPr>
          <a:xfrm>
            <a:off x="0" y="3952800"/>
            <a:ext cx="9144000" cy="368280"/>
          </a:xfrm>
          <a:custGeom>
            <a:avLst/>
            <a:gdLst>
              <a:gd name="textAreaLeft" fmla="*/ 0 w 9144000"/>
              <a:gd name="textAreaRight" fmla="*/ 9144360 w 9144000"/>
              <a:gd name="textAreaTop" fmla="*/ 0 h 368280"/>
              <a:gd name="textAreaBottom" fmla="*/ 368640 h 368280"/>
            </a:gdLst>
            <a:ahLst/>
            <a:rect l="textAreaLeft" t="textAreaTop" r="textAreaRight" b="textAreaBottom"/>
            <a:pathLst>
              <a:path w="7411" h="299">
                <a:moveTo>
                  <a:pt x="0" y="17"/>
                </a:moveTo>
                <a:lnTo>
                  <a:pt x="581" y="33"/>
                </a:lnTo>
                <a:lnTo>
                  <a:pt x="1933" y="75"/>
                </a:lnTo>
                <a:lnTo>
                  <a:pt x="2747" y="116"/>
                </a:lnTo>
                <a:lnTo>
                  <a:pt x="3552" y="141"/>
                </a:lnTo>
                <a:lnTo>
                  <a:pt x="4265" y="182"/>
                </a:lnTo>
                <a:lnTo>
                  <a:pt x="4581" y="216"/>
                </a:lnTo>
                <a:lnTo>
                  <a:pt x="4838" y="241"/>
                </a:lnTo>
                <a:lnTo>
                  <a:pt x="5145" y="274"/>
                </a:lnTo>
                <a:lnTo>
                  <a:pt x="5477" y="290"/>
                </a:lnTo>
                <a:lnTo>
                  <a:pt x="5875" y="299"/>
                </a:lnTo>
                <a:lnTo>
                  <a:pt x="6083" y="299"/>
                </a:lnTo>
                <a:lnTo>
                  <a:pt x="6290" y="290"/>
                </a:lnTo>
                <a:lnTo>
                  <a:pt x="6514" y="265"/>
                </a:lnTo>
                <a:lnTo>
                  <a:pt x="6722" y="232"/>
                </a:lnTo>
                <a:lnTo>
                  <a:pt x="6921" y="199"/>
                </a:lnTo>
                <a:lnTo>
                  <a:pt x="7104" y="141"/>
                </a:lnTo>
                <a:lnTo>
                  <a:pt x="7187" y="116"/>
                </a:lnTo>
                <a:lnTo>
                  <a:pt x="7270" y="83"/>
                </a:lnTo>
                <a:lnTo>
                  <a:pt x="7344" y="41"/>
                </a:lnTo>
                <a:lnTo>
                  <a:pt x="7411" y="0"/>
                </a:lnTo>
              </a:path>
            </a:pathLst>
          </a:custGeom>
          <a:noFill/>
          <a:ln w="9360">
            <a:solidFill>
              <a:srgbClr val="f9ba9a"/>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3" name="フリーフォーム 28"/>
          <p:cNvSpPr/>
          <p:nvPr/>
        </p:nvSpPr>
        <p:spPr>
          <a:xfrm>
            <a:off x="0" y="3809880"/>
            <a:ext cx="9144000" cy="490680"/>
          </a:xfrm>
          <a:custGeom>
            <a:avLst/>
            <a:gdLst>
              <a:gd name="textAreaLeft" fmla="*/ 0 w 9144000"/>
              <a:gd name="textAreaRight" fmla="*/ 9144360 w 9144000"/>
              <a:gd name="textAreaTop" fmla="*/ 0 h 490680"/>
              <a:gd name="textAreaBottom" fmla="*/ 491040 h 490680"/>
            </a:gdLst>
            <a:ahLst/>
            <a:rect l="textAreaLeft" t="textAreaTop" r="textAreaRight" b="textAreaBottom"/>
            <a:pathLst>
              <a:path w="7411" h="398">
                <a:moveTo>
                  <a:pt x="0" y="340"/>
                </a:moveTo>
                <a:lnTo>
                  <a:pt x="332" y="365"/>
                </a:lnTo>
                <a:lnTo>
                  <a:pt x="713" y="382"/>
                </a:lnTo>
                <a:lnTo>
                  <a:pt x="1186" y="390"/>
                </a:lnTo>
                <a:lnTo>
                  <a:pt x="1742" y="398"/>
                </a:lnTo>
                <a:lnTo>
                  <a:pt x="2365" y="390"/>
                </a:lnTo>
                <a:lnTo>
                  <a:pt x="2689" y="382"/>
                </a:lnTo>
                <a:lnTo>
                  <a:pt x="3020" y="373"/>
                </a:lnTo>
                <a:lnTo>
                  <a:pt x="3344" y="348"/>
                </a:lnTo>
                <a:lnTo>
                  <a:pt x="3676" y="324"/>
                </a:lnTo>
                <a:lnTo>
                  <a:pt x="4058" y="257"/>
                </a:lnTo>
                <a:lnTo>
                  <a:pt x="4481" y="199"/>
                </a:lnTo>
                <a:lnTo>
                  <a:pt x="4996" y="133"/>
                </a:lnTo>
                <a:lnTo>
                  <a:pt x="5535" y="66"/>
                </a:lnTo>
                <a:lnTo>
                  <a:pt x="6075" y="25"/>
                </a:lnTo>
                <a:lnTo>
                  <a:pt x="6332" y="8"/>
                </a:lnTo>
                <a:lnTo>
                  <a:pt x="6564" y="0"/>
                </a:lnTo>
                <a:lnTo>
                  <a:pt x="6763" y="0"/>
                </a:lnTo>
                <a:lnTo>
                  <a:pt x="6946" y="17"/>
                </a:lnTo>
                <a:lnTo>
                  <a:pt x="7137" y="41"/>
                </a:lnTo>
                <a:lnTo>
                  <a:pt x="7295" y="58"/>
                </a:lnTo>
                <a:lnTo>
                  <a:pt x="7411" y="66"/>
                </a:lnTo>
              </a:path>
            </a:pathLst>
          </a:custGeom>
          <a:noFill/>
          <a:ln w="9360">
            <a:solidFill>
              <a:srgbClr val="f69767"/>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4" name="フリーフォーム 29"/>
          <p:cNvSpPr/>
          <p:nvPr/>
        </p:nvSpPr>
        <p:spPr>
          <a:xfrm>
            <a:off x="0" y="4091040"/>
            <a:ext cx="9144000" cy="480960"/>
          </a:xfrm>
          <a:custGeom>
            <a:avLst/>
            <a:gdLst>
              <a:gd name="textAreaLeft" fmla="*/ 0 w 9144000"/>
              <a:gd name="textAreaRight" fmla="*/ 9144360 w 9144000"/>
              <a:gd name="textAreaTop" fmla="*/ 0 h 480960"/>
              <a:gd name="textAreaBottom" fmla="*/ 481320 h 480960"/>
            </a:gdLst>
            <a:ahLst/>
            <a:rect l="textAreaLeft" t="textAreaTop" r="textAreaRight" b="textAreaBottom"/>
            <a:pathLst>
              <a:path w="7411" h="390">
                <a:moveTo>
                  <a:pt x="0" y="92"/>
                </a:moveTo>
                <a:lnTo>
                  <a:pt x="265" y="141"/>
                </a:lnTo>
                <a:lnTo>
                  <a:pt x="589" y="191"/>
                </a:lnTo>
                <a:lnTo>
                  <a:pt x="1029" y="249"/>
                </a:lnTo>
                <a:lnTo>
                  <a:pt x="1585" y="307"/>
                </a:lnTo>
                <a:lnTo>
                  <a:pt x="1883" y="332"/>
                </a:lnTo>
                <a:lnTo>
                  <a:pt x="2224" y="349"/>
                </a:lnTo>
                <a:lnTo>
                  <a:pt x="2589" y="374"/>
                </a:lnTo>
                <a:lnTo>
                  <a:pt x="2979" y="382"/>
                </a:lnTo>
                <a:lnTo>
                  <a:pt x="3386" y="390"/>
                </a:lnTo>
                <a:lnTo>
                  <a:pt x="3809" y="390"/>
                </a:lnTo>
                <a:lnTo>
                  <a:pt x="4199" y="382"/>
                </a:lnTo>
                <a:lnTo>
                  <a:pt x="5120" y="349"/>
                </a:lnTo>
                <a:lnTo>
                  <a:pt x="5651" y="332"/>
                </a:lnTo>
                <a:lnTo>
                  <a:pt x="6174" y="299"/>
                </a:lnTo>
                <a:lnTo>
                  <a:pt x="6639" y="258"/>
                </a:lnTo>
                <a:lnTo>
                  <a:pt x="6830" y="233"/>
                </a:lnTo>
                <a:lnTo>
                  <a:pt x="6987" y="216"/>
                </a:lnTo>
                <a:lnTo>
                  <a:pt x="7046" y="191"/>
                </a:lnTo>
                <a:lnTo>
                  <a:pt x="7178" y="141"/>
                </a:lnTo>
                <a:lnTo>
                  <a:pt x="7253" y="108"/>
                </a:lnTo>
                <a:lnTo>
                  <a:pt x="7319" y="67"/>
                </a:lnTo>
                <a:lnTo>
                  <a:pt x="7378" y="34"/>
                </a:lnTo>
                <a:lnTo>
                  <a:pt x="7411" y="0"/>
                </a:lnTo>
              </a:path>
            </a:pathLst>
          </a:custGeom>
          <a:noFill/>
          <a:ln w="9360">
            <a:solidFill>
              <a:srgbClr val="f69767"/>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5" name="フリーフォーム 31"/>
          <p:cNvSpPr/>
          <p:nvPr/>
        </p:nvSpPr>
        <p:spPr>
          <a:xfrm>
            <a:off x="0" y="4325760"/>
            <a:ext cx="9144000" cy="552600"/>
          </a:xfrm>
          <a:custGeom>
            <a:avLst/>
            <a:gdLst>
              <a:gd name="textAreaLeft" fmla="*/ 0 w 9144000"/>
              <a:gd name="textAreaRight" fmla="*/ 9144360 w 9144000"/>
              <a:gd name="textAreaTop" fmla="*/ 0 h 552600"/>
              <a:gd name="textAreaBottom" fmla="*/ 552960 h 552600"/>
            </a:gdLst>
            <a:ahLst/>
            <a:rect l="textAreaLeft" t="textAreaTop" r="textAreaRight" b="textAreaBottom"/>
            <a:pathLst>
              <a:path w="7411" h="448">
                <a:moveTo>
                  <a:pt x="0" y="448"/>
                </a:moveTo>
                <a:lnTo>
                  <a:pt x="896" y="349"/>
                </a:lnTo>
                <a:lnTo>
                  <a:pt x="1850" y="258"/>
                </a:lnTo>
                <a:lnTo>
                  <a:pt x="3012" y="150"/>
                </a:lnTo>
                <a:lnTo>
                  <a:pt x="3635" y="108"/>
                </a:lnTo>
                <a:lnTo>
                  <a:pt x="4257" y="67"/>
                </a:lnTo>
                <a:lnTo>
                  <a:pt x="4879" y="34"/>
                </a:lnTo>
                <a:lnTo>
                  <a:pt x="5477" y="9"/>
                </a:lnTo>
                <a:lnTo>
                  <a:pt x="6050" y="0"/>
                </a:lnTo>
                <a:lnTo>
                  <a:pt x="6572" y="9"/>
                </a:lnTo>
                <a:lnTo>
                  <a:pt x="6813" y="17"/>
                </a:lnTo>
                <a:lnTo>
                  <a:pt x="7029" y="34"/>
                </a:lnTo>
                <a:lnTo>
                  <a:pt x="7228" y="50"/>
                </a:lnTo>
                <a:lnTo>
                  <a:pt x="7411" y="83"/>
                </a:lnTo>
              </a:path>
            </a:pathLst>
          </a:custGeom>
          <a:noFill/>
          <a:ln w="12600">
            <a:solidFill>
              <a:srgbClr val="f69767"/>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6" name="フリーフォーム 35"/>
          <p:cNvSpPr/>
          <p:nvPr/>
        </p:nvSpPr>
        <p:spPr>
          <a:xfrm>
            <a:off x="142920" y="4071960"/>
            <a:ext cx="9001080" cy="492120"/>
          </a:xfrm>
          <a:custGeom>
            <a:avLst/>
            <a:gdLst>
              <a:gd name="textAreaLeft" fmla="*/ 0 w 9001080"/>
              <a:gd name="textAreaRight" fmla="*/ 9001440 w 9001080"/>
              <a:gd name="textAreaTop" fmla="*/ 0 h 492120"/>
              <a:gd name="textAreaBottom" fmla="*/ 492480 h 492120"/>
            </a:gdLst>
            <a:ahLst/>
            <a:rect l="textAreaLeft" t="textAreaTop" r="textAreaRight" b="textAreaBottom"/>
            <a:pathLst>
              <a:path w="7411" h="398">
                <a:moveTo>
                  <a:pt x="0" y="340"/>
                </a:moveTo>
                <a:lnTo>
                  <a:pt x="332" y="365"/>
                </a:lnTo>
                <a:lnTo>
                  <a:pt x="713" y="382"/>
                </a:lnTo>
                <a:lnTo>
                  <a:pt x="1186" y="390"/>
                </a:lnTo>
                <a:lnTo>
                  <a:pt x="1742" y="398"/>
                </a:lnTo>
                <a:lnTo>
                  <a:pt x="2365" y="390"/>
                </a:lnTo>
                <a:lnTo>
                  <a:pt x="2689" y="382"/>
                </a:lnTo>
                <a:lnTo>
                  <a:pt x="3020" y="373"/>
                </a:lnTo>
                <a:lnTo>
                  <a:pt x="3344" y="348"/>
                </a:lnTo>
                <a:lnTo>
                  <a:pt x="3676" y="324"/>
                </a:lnTo>
                <a:lnTo>
                  <a:pt x="4058" y="257"/>
                </a:lnTo>
                <a:lnTo>
                  <a:pt x="4481" y="199"/>
                </a:lnTo>
                <a:lnTo>
                  <a:pt x="4996" y="133"/>
                </a:lnTo>
                <a:lnTo>
                  <a:pt x="5535" y="66"/>
                </a:lnTo>
                <a:lnTo>
                  <a:pt x="6075" y="25"/>
                </a:lnTo>
                <a:lnTo>
                  <a:pt x="6332" y="8"/>
                </a:lnTo>
                <a:lnTo>
                  <a:pt x="6564" y="0"/>
                </a:lnTo>
                <a:lnTo>
                  <a:pt x="6763" y="0"/>
                </a:lnTo>
                <a:lnTo>
                  <a:pt x="6946" y="17"/>
                </a:lnTo>
                <a:lnTo>
                  <a:pt x="7137" y="41"/>
                </a:lnTo>
                <a:lnTo>
                  <a:pt x="7295" y="58"/>
                </a:lnTo>
                <a:lnTo>
                  <a:pt x="7411" y="66"/>
                </a:lnTo>
              </a:path>
            </a:pathLst>
          </a:custGeom>
          <a:noFill/>
          <a:ln w="9360">
            <a:solidFill>
              <a:srgbClr val="f69767"/>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7" name="フリーフォーム 36"/>
          <p:cNvSpPr/>
          <p:nvPr/>
        </p:nvSpPr>
        <p:spPr>
          <a:xfrm>
            <a:off x="152280" y="4019400"/>
            <a:ext cx="8991720" cy="481320"/>
          </a:xfrm>
          <a:custGeom>
            <a:avLst/>
            <a:gdLst>
              <a:gd name="textAreaLeft" fmla="*/ 0 w 8991720"/>
              <a:gd name="textAreaRight" fmla="*/ 8992080 w 8991720"/>
              <a:gd name="textAreaTop" fmla="*/ 0 h 481320"/>
              <a:gd name="textAreaBottom" fmla="*/ 481680 h 481320"/>
            </a:gdLst>
            <a:ahLst/>
            <a:rect l="textAreaLeft" t="textAreaTop" r="textAreaRight" b="textAreaBottom"/>
            <a:pathLst>
              <a:path w="7411" h="390">
                <a:moveTo>
                  <a:pt x="0" y="92"/>
                </a:moveTo>
                <a:lnTo>
                  <a:pt x="265" y="141"/>
                </a:lnTo>
                <a:lnTo>
                  <a:pt x="589" y="191"/>
                </a:lnTo>
                <a:lnTo>
                  <a:pt x="1029" y="249"/>
                </a:lnTo>
                <a:lnTo>
                  <a:pt x="1585" y="307"/>
                </a:lnTo>
                <a:lnTo>
                  <a:pt x="1883" y="332"/>
                </a:lnTo>
                <a:lnTo>
                  <a:pt x="2224" y="349"/>
                </a:lnTo>
                <a:lnTo>
                  <a:pt x="2589" y="374"/>
                </a:lnTo>
                <a:lnTo>
                  <a:pt x="2979" y="382"/>
                </a:lnTo>
                <a:lnTo>
                  <a:pt x="3386" y="390"/>
                </a:lnTo>
                <a:lnTo>
                  <a:pt x="3809" y="390"/>
                </a:lnTo>
                <a:lnTo>
                  <a:pt x="4199" y="382"/>
                </a:lnTo>
                <a:lnTo>
                  <a:pt x="5120" y="349"/>
                </a:lnTo>
                <a:lnTo>
                  <a:pt x="5651" y="332"/>
                </a:lnTo>
                <a:lnTo>
                  <a:pt x="6174" y="299"/>
                </a:lnTo>
                <a:lnTo>
                  <a:pt x="6639" y="258"/>
                </a:lnTo>
                <a:lnTo>
                  <a:pt x="6830" y="233"/>
                </a:lnTo>
                <a:lnTo>
                  <a:pt x="6987" y="216"/>
                </a:lnTo>
                <a:lnTo>
                  <a:pt x="7046" y="191"/>
                </a:lnTo>
                <a:lnTo>
                  <a:pt x="7178" y="141"/>
                </a:lnTo>
                <a:lnTo>
                  <a:pt x="7253" y="108"/>
                </a:lnTo>
                <a:lnTo>
                  <a:pt x="7319" y="67"/>
                </a:lnTo>
                <a:lnTo>
                  <a:pt x="7378" y="34"/>
                </a:lnTo>
                <a:lnTo>
                  <a:pt x="7411" y="0"/>
                </a:lnTo>
              </a:path>
            </a:pathLst>
          </a:custGeom>
          <a:noFill/>
          <a:ln w="9360">
            <a:solidFill>
              <a:srgbClr val="fcdccc"/>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8" name="フリーフォーム 37"/>
          <p:cNvSpPr/>
          <p:nvPr/>
        </p:nvSpPr>
        <p:spPr>
          <a:xfrm>
            <a:off x="142920" y="3714840"/>
            <a:ext cx="9001080" cy="492120"/>
          </a:xfrm>
          <a:custGeom>
            <a:avLst/>
            <a:gdLst>
              <a:gd name="textAreaLeft" fmla="*/ 0 w 9001080"/>
              <a:gd name="textAreaRight" fmla="*/ 9001440 w 9001080"/>
              <a:gd name="textAreaTop" fmla="*/ 0 h 492120"/>
              <a:gd name="textAreaBottom" fmla="*/ 492480 h 492120"/>
            </a:gdLst>
            <a:ahLst/>
            <a:rect l="textAreaLeft" t="textAreaTop" r="textAreaRight" b="textAreaBottom"/>
            <a:pathLst>
              <a:path w="7411" h="398">
                <a:moveTo>
                  <a:pt x="0" y="340"/>
                </a:moveTo>
                <a:lnTo>
                  <a:pt x="332" y="365"/>
                </a:lnTo>
                <a:lnTo>
                  <a:pt x="713" y="382"/>
                </a:lnTo>
                <a:lnTo>
                  <a:pt x="1186" y="390"/>
                </a:lnTo>
                <a:lnTo>
                  <a:pt x="1742" y="398"/>
                </a:lnTo>
                <a:lnTo>
                  <a:pt x="2365" y="390"/>
                </a:lnTo>
                <a:lnTo>
                  <a:pt x="2689" y="382"/>
                </a:lnTo>
                <a:lnTo>
                  <a:pt x="3020" y="373"/>
                </a:lnTo>
                <a:lnTo>
                  <a:pt x="3344" y="348"/>
                </a:lnTo>
                <a:lnTo>
                  <a:pt x="3676" y="324"/>
                </a:lnTo>
                <a:lnTo>
                  <a:pt x="4058" y="257"/>
                </a:lnTo>
                <a:lnTo>
                  <a:pt x="4481" y="199"/>
                </a:lnTo>
                <a:lnTo>
                  <a:pt x="4996" y="133"/>
                </a:lnTo>
                <a:lnTo>
                  <a:pt x="5535" y="66"/>
                </a:lnTo>
                <a:lnTo>
                  <a:pt x="6075" y="25"/>
                </a:lnTo>
                <a:lnTo>
                  <a:pt x="6332" y="8"/>
                </a:lnTo>
                <a:lnTo>
                  <a:pt x="6564" y="0"/>
                </a:lnTo>
                <a:lnTo>
                  <a:pt x="6763" y="0"/>
                </a:lnTo>
                <a:lnTo>
                  <a:pt x="6946" y="17"/>
                </a:lnTo>
                <a:lnTo>
                  <a:pt x="7137" y="41"/>
                </a:lnTo>
                <a:lnTo>
                  <a:pt x="7295" y="58"/>
                </a:lnTo>
                <a:lnTo>
                  <a:pt x="7411" y="66"/>
                </a:lnTo>
              </a:path>
            </a:pathLst>
          </a:custGeom>
          <a:noFill/>
          <a:ln w="9360">
            <a:solidFill>
              <a:srgbClr val="fcdccc"/>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59" name="フリーフォーム 38"/>
          <p:cNvSpPr/>
          <p:nvPr/>
        </p:nvSpPr>
        <p:spPr>
          <a:xfrm>
            <a:off x="152280" y="3881520"/>
            <a:ext cx="8991720" cy="480960"/>
          </a:xfrm>
          <a:custGeom>
            <a:avLst/>
            <a:gdLst>
              <a:gd name="textAreaLeft" fmla="*/ 0 w 8991720"/>
              <a:gd name="textAreaRight" fmla="*/ 8992080 w 8991720"/>
              <a:gd name="textAreaTop" fmla="*/ 0 h 480960"/>
              <a:gd name="textAreaBottom" fmla="*/ 481320 h 480960"/>
            </a:gdLst>
            <a:ahLst/>
            <a:rect l="textAreaLeft" t="textAreaTop" r="textAreaRight" b="textAreaBottom"/>
            <a:pathLst>
              <a:path w="7411" h="390">
                <a:moveTo>
                  <a:pt x="0" y="92"/>
                </a:moveTo>
                <a:lnTo>
                  <a:pt x="265" y="141"/>
                </a:lnTo>
                <a:lnTo>
                  <a:pt x="589" y="191"/>
                </a:lnTo>
                <a:lnTo>
                  <a:pt x="1029" y="249"/>
                </a:lnTo>
                <a:lnTo>
                  <a:pt x="1585" y="307"/>
                </a:lnTo>
                <a:lnTo>
                  <a:pt x="1883" y="332"/>
                </a:lnTo>
                <a:lnTo>
                  <a:pt x="2224" y="349"/>
                </a:lnTo>
                <a:lnTo>
                  <a:pt x="2589" y="374"/>
                </a:lnTo>
                <a:lnTo>
                  <a:pt x="2979" y="382"/>
                </a:lnTo>
                <a:lnTo>
                  <a:pt x="3386" y="390"/>
                </a:lnTo>
                <a:lnTo>
                  <a:pt x="3809" y="390"/>
                </a:lnTo>
                <a:lnTo>
                  <a:pt x="4199" y="382"/>
                </a:lnTo>
                <a:lnTo>
                  <a:pt x="5120" y="349"/>
                </a:lnTo>
                <a:lnTo>
                  <a:pt x="5651" y="332"/>
                </a:lnTo>
                <a:lnTo>
                  <a:pt x="6174" y="299"/>
                </a:lnTo>
                <a:lnTo>
                  <a:pt x="6639" y="258"/>
                </a:lnTo>
                <a:lnTo>
                  <a:pt x="6830" y="233"/>
                </a:lnTo>
                <a:lnTo>
                  <a:pt x="6987" y="216"/>
                </a:lnTo>
                <a:lnTo>
                  <a:pt x="7046" y="191"/>
                </a:lnTo>
                <a:lnTo>
                  <a:pt x="7178" y="141"/>
                </a:lnTo>
                <a:lnTo>
                  <a:pt x="7253" y="108"/>
                </a:lnTo>
                <a:lnTo>
                  <a:pt x="7319" y="67"/>
                </a:lnTo>
                <a:lnTo>
                  <a:pt x="7378" y="34"/>
                </a:lnTo>
                <a:lnTo>
                  <a:pt x="7411" y="0"/>
                </a:lnTo>
              </a:path>
            </a:pathLst>
          </a:custGeom>
          <a:noFill/>
          <a:ln w="9360">
            <a:solidFill>
              <a:srgbClr val="f69767"/>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pic>
        <p:nvPicPr>
          <p:cNvPr id="60" name="図形グループ 1" descr=""/>
          <p:cNvPicPr/>
          <p:nvPr/>
        </p:nvPicPr>
        <p:blipFill>
          <a:blip r:embed="rId3"/>
          <a:stretch/>
        </p:blipFill>
        <p:spPr>
          <a:xfrm>
            <a:off x="7527960" y="3870360"/>
            <a:ext cx="1542960" cy="1427040"/>
          </a:xfrm>
          <a:prstGeom prst="rect">
            <a:avLst/>
          </a:prstGeom>
          <a:ln w="0">
            <a:noFill/>
          </a:ln>
        </p:spPr>
      </p:pic>
      <p:sp>
        <p:nvSpPr>
          <p:cNvPr id="6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62" name="PlaceHolder 2"/>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sp>
        <p:nvSpPr>
          <p:cNvPr id="63" name="PlaceHolder 3"/>
          <p:cNvSpPr>
            <a:spLocks noGrp="1"/>
          </p:cNvSpPr>
          <p:nvPr>
            <p:ph type="dt" idx="4"/>
          </p:nvPr>
        </p:nvSpPr>
        <p:spPr>
          <a:xfrm>
            <a:off x="-360" y="-360"/>
            <a:ext cx="213516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E4CBC-BCF4-41A7-B709-C36A5A0789A0}"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199960" y="-360"/>
            <a:ext cx="4498920" cy="36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5" name="PlaceHolder 5"/>
          <p:cNvSpPr>
            <a:spLocks noGrp="1"/>
          </p:cNvSpPr>
          <p:nvPr>
            <p:ph type="sldNum" idx="6"/>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3170F-27E6-4D3C-8ED4-B6DCCB5905D2}"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図形グループ 1"/>
          <p:cNvGrpSpPr/>
          <p:nvPr/>
        </p:nvGrpSpPr>
        <p:grpSpPr>
          <a:xfrm>
            <a:off x="-28440" y="0"/>
            <a:ext cx="9171360" cy="6855480"/>
            <a:chOff x="-28440" y="0"/>
            <a:chExt cx="9171360" cy="6855480"/>
          </a:xfrm>
        </p:grpSpPr>
        <p:sp>
          <p:nvSpPr>
            <p:cNvPr id="103" name="フリーフォーム 17"/>
            <p:cNvSpPr/>
            <p:nvPr/>
          </p:nvSpPr>
          <p:spPr>
            <a:xfrm>
              <a:off x="-28440" y="5010120"/>
              <a:ext cx="5669640" cy="1821960"/>
            </a:xfrm>
            <a:custGeom>
              <a:avLst/>
              <a:gdLst>
                <a:gd name="textAreaLeft" fmla="*/ 0 w 5669640"/>
                <a:gd name="textAreaRight" fmla="*/ 5670000 w 5669640"/>
                <a:gd name="textAreaTop" fmla="*/ 0 h 1821960"/>
                <a:gd name="textAreaBottom" fmla="*/ 1822320 h 1821960"/>
              </a:gdLst>
              <a:ahLst/>
              <a:rect l="textAreaLeft" t="textAreaTop" r="textAreaRight" b="textAreaBottom"/>
              <a:pathLst>
                <a:path w="991" h="300">
                  <a:moveTo>
                    <a:pt x="0" y="0"/>
                  </a:moveTo>
                  <a:lnTo>
                    <a:pt x="15" y="14"/>
                  </a:lnTo>
                  <a:lnTo>
                    <a:pt x="32" y="33"/>
                  </a:lnTo>
                  <a:lnTo>
                    <a:pt x="57" y="54"/>
                  </a:lnTo>
                  <a:lnTo>
                    <a:pt x="92" y="79"/>
                  </a:lnTo>
                  <a:lnTo>
                    <a:pt x="132" y="106"/>
                  </a:lnTo>
                  <a:lnTo>
                    <a:pt x="182" y="133"/>
                  </a:lnTo>
                  <a:lnTo>
                    <a:pt x="236" y="163"/>
                  </a:lnTo>
                  <a:lnTo>
                    <a:pt x="301" y="192"/>
                  </a:lnTo>
                  <a:lnTo>
                    <a:pt x="374" y="219"/>
                  </a:lnTo>
                  <a:lnTo>
                    <a:pt x="457" y="244"/>
                  </a:lnTo>
                  <a:lnTo>
                    <a:pt x="501" y="255"/>
                  </a:lnTo>
                  <a:lnTo>
                    <a:pt x="545" y="267"/>
                  </a:lnTo>
                  <a:lnTo>
                    <a:pt x="595" y="275"/>
                  </a:lnTo>
                  <a:lnTo>
                    <a:pt x="647" y="282"/>
                  </a:lnTo>
                  <a:lnTo>
                    <a:pt x="699" y="290"/>
                  </a:lnTo>
                  <a:lnTo>
                    <a:pt x="752" y="294"/>
                  </a:lnTo>
                  <a:lnTo>
                    <a:pt x="810" y="298"/>
                  </a:lnTo>
                  <a:lnTo>
                    <a:pt x="868" y="300"/>
                  </a:lnTo>
                  <a:lnTo>
                    <a:pt x="927" y="298"/>
                  </a:lnTo>
                  <a:lnTo>
                    <a:pt x="991" y="296"/>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04" name="フリーフォーム 18"/>
            <p:cNvSpPr/>
            <p:nvPr/>
          </p:nvSpPr>
          <p:spPr>
            <a:xfrm>
              <a:off x="4782240" y="0"/>
              <a:ext cx="3907800" cy="6855480"/>
            </a:xfrm>
            <a:custGeom>
              <a:avLst/>
              <a:gdLst>
                <a:gd name="textAreaLeft" fmla="*/ 0 w 3907800"/>
                <a:gd name="textAreaRight" fmla="*/ 3908160 w 3907800"/>
                <a:gd name="textAreaTop" fmla="*/ 0 h 6855480"/>
                <a:gd name="textAreaBottom" fmla="*/ 6855840 h 6855480"/>
              </a:gdLst>
              <a:ahLst/>
              <a:rect l="textAreaLeft" t="textAreaTop" r="textAreaRight" b="textAreaBottom"/>
              <a:pathLst>
                <a:path w="539" h="1129">
                  <a:moveTo>
                    <a:pt x="0" y="1129"/>
                  </a:moveTo>
                  <a:lnTo>
                    <a:pt x="42" y="1125"/>
                  </a:lnTo>
                  <a:lnTo>
                    <a:pt x="132" y="1115"/>
                  </a:lnTo>
                  <a:lnTo>
                    <a:pt x="188" y="1106"/>
                  </a:lnTo>
                  <a:lnTo>
                    <a:pt x="241" y="1094"/>
                  </a:lnTo>
                  <a:lnTo>
                    <a:pt x="289" y="1079"/>
                  </a:lnTo>
                  <a:lnTo>
                    <a:pt x="311" y="1071"/>
                  </a:lnTo>
                  <a:lnTo>
                    <a:pt x="328" y="1062"/>
                  </a:lnTo>
                  <a:lnTo>
                    <a:pt x="339" y="1056"/>
                  </a:lnTo>
                  <a:lnTo>
                    <a:pt x="351" y="1048"/>
                  </a:lnTo>
                  <a:lnTo>
                    <a:pt x="366" y="1037"/>
                  </a:lnTo>
                  <a:lnTo>
                    <a:pt x="385" y="1019"/>
                  </a:lnTo>
                  <a:lnTo>
                    <a:pt x="405" y="998"/>
                  </a:lnTo>
                  <a:lnTo>
                    <a:pt x="426" y="969"/>
                  </a:lnTo>
                  <a:lnTo>
                    <a:pt x="449" y="939"/>
                  </a:lnTo>
                  <a:lnTo>
                    <a:pt x="470" y="898"/>
                  </a:lnTo>
                  <a:lnTo>
                    <a:pt x="489" y="848"/>
                  </a:lnTo>
                  <a:lnTo>
                    <a:pt x="506" y="793"/>
                  </a:lnTo>
                  <a:lnTo>
                    <a:pt x="520" y="727"/>
                  </a:lnTo>
                  <a:lnTo>
                    <a:pt x="531" y="655"/>
                  </a:lnTo>
                  <a:lnTo>
                    <a:pt x="537" y="572"/>
                  </a:lnTo>
                  <a:lnTo>
                    <a:pt x="539" y="530"/>
                  </a:lnTo>
                  <a:lnTo>
                    <a:pt x="537" y="482"/>
                  </a:lnTo>
                  <a:lnTo>
                    <a:pt x="535" y="432"/>
                  </a:lnTo>
                  <a:lnTo>
                    <a:pt x="533" y="378"/>
                  </a:lnTo>
                  <a:lnTo>
                    <a:pt x="531" y="357"/>
                  </a:lnTo>
                  <a:lnTo>
                    <a:pt x="524" y="286"/>
                  </a:lnTo>
                  <a:lnTo>
                    <a:pt x="516" y="232"/>
                  </a:lnTo>
                  <a:lnTo>
                    <a:pt x="503" y="169"/>
                  </a:lnTo>
                  <a:lnTo>
                    <a:pt x="487" y="90"/>
                  </a:lnTo>
                  <a:lnTo>
                    <a:pt x="466"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05" name="フリーフォーム 19"/>
            <p:cNvSpPr/>
            <p:nvPr/>
          </p:nvSpPr>
          <p:spPr>
            <a:xfrm>
              <a:off x="0" y="0"/>
              <a:ext cx="9131040" cy="6473880"/>
            </a:xfrm>
            <a:custGeom>
              <a:avLst/>
              <a:gdLst>
                <a:gd name="textAreaLeft" fmla="*/ 0 w 9131040"/>
                <a:gd name="textAreaRight" fmla="*/ 9131400 w 9131040"/>
                <a:gd name="textAreaTop" fmla="*/ 0 h 6473880"/>
                <a:gd name="textAreaBottom" fmla="*/ 6474240 h 6473880"/>
              </a:gdLst>
              <a:ahLst/>
              <a:rect l="textAreaLeft" t="textAreaTop" r="textAreaRight" b="textAreaBottom"/>
              <a:pathLst>
                <a:path w="1607" h="1085">
                  <a:moveTo>
                    <a:pt x="0" y="929"/>
                  </a:moveTo>
                  <a:lnTo>
                    <a:pt x="40" y="941"/>
                  </a:lnTo>
                  <a:lnTo>
                    <a:pt x="148" y="966"/>
                  </a:lnTo>
                  <a:lnTo>
                    <a:pt x="305" y="1000"/>
                  </a:lnTo>
                  <a:lnTo>
                    <a:pt x="399" y="1019"/>
                  </a:lnTo>
                  <a:lnTo>
                    <a:pt x="501" y="1037"/>
                  </a:lnTo>
                  <a:lnTo>
                    <a:pt x="608" y="1052"/>
                  </a:lnTo>
                  <a:lnTo>
                    <a:pt x="718" y="1067"/>
                  </a:lnTo>
                  <a:lnTo>
                    <a:pt x="827" y="1077"/>
                  </a:lnTo>
                  <a:lnTo>
                    <a:pt x="937" y="1083"/>
                  </a:lnTo>
                  <a:lnTo>
                    <a:pt x="991" y="1085"/>
                  </a:lnTo>
                  <a:lnTo>
                    <a:pt x="1044" y="1085"/>
                  </a:lnTo>
                  <a:lnTo>
                    <a:pt x="1096" y="1083"/>
                  </a:lnTo>
                  <a:lnTo>
                    <a:pt x="1146" y="1079"/>
                  </a:lnTo>
                  <a:lnTo>
                    <a:pt x="1194" y="1073"/>
                  </a:lnTo>
                  <a:lnTo>
                    <a:pt x="1240" y="1065"/>
                  </a:lnTo>
                  <a:lnTo>
                    <a:pt x="1284" y="1058"/>
                  </a:lnTo>
                  <a:lnTo>
                    <a:pt x="1327" y="1046"/>
                  </a:lnTo>
                  <a:lnTo>
                    <a:pt x="1338" y="1042"/>
                  </a:lnTo>
                  <a:lnTo>
                    <a:pt x="1371" y="1031"/>
                  </a:lnTo>
                  <a:lnTo>
                    <a:pt x="1392" y="1019"/>
                  </a:lnTo>
                  <a:lnTo>
                    <a:pt x="1415" y="1008"/>
                  </a:lnTo>
                  <a:lnTo>
                    <a:pt x="1444" y="990"/>
                  </a:lnTo>
                  <a:lnTo>
                    <a:pt x="1469" y="971"/>
                  </a:lnTo>
                  <a:lnTo>
                    <a:pt x="1496" y="950"/>
                  </a:lnTo>
                  <a:lnTo>
                    <a:pt x="1520" y="923"/>
                  </a:lnTo>
                  <a:lnTo>
                    <a:pt x="1544" y="893"/>
                  </a:lnTo>
                  <a:lnTo>
                    <a:pt x="1565" y="854"/>
                  </a:lnTo>
                  <a:lnTo>
                    <a:pt x="1582" y="814"/>
                  </a:lnTo>
                  <a:lnTo>
                    <a:pt x="1590" y="791"/>
                  </a:lnTo>
                  <a:lnTo>
                    <a:pt x="1595" y="768"/>
                  </a:lnTo>
                  <a:lnTo>
                    <a:pt x="1601" y="743"/>
                  </a:lnTo>
                  <a:lnTo>
                    <a:pt x="1605" y="716"/>
                  </a:lnTo>
                  <a:lnTo>
                    <a:pt x="1607" y="689"/>
                  </a:lnTo>
                  <a:lnTo>
                    <a:pt x="1607" y="660"/>
                  </a:lnTo>
                  <a:lnTo>
                    <a:pt x="1607" y="643"/>
                  </a:lnTo>
                  <a:lnTo>
                    <a:pt x="1607" y="599"/>
                  </a:lnTo>
                  <a:lnTo>
                    <a:pt x="1599" y="530"/>
                  </a:lnTo>
                  <a:lnTo>
                    <a:pt x="1593" y="487"/>
                  </a:lnTo>
                  <a:lnTo>
                    <a:pt x="1586" y="441"/>
                  </a:lnTo>
                  <a:lnTo>
                    <a:pt x="1574" y="391"/>
                  </a:lnTo>
                  <a:lnTo>
                    <a:pt x="1559" y="340"/>
                  </a:lnTo>
                  <a:lnTo>
                    <a:pt x="1542" y="282"/>
                  </a:lnTo>
                  <a:lnTo>
                    <a:pt x="1519" y="226"/>
                  </a:lnTo>
                  <a:lnTo>
                    <a:pt x="1492" y="171"/>
                  </a:lnTo>
                  <a:lnTo>
                    <a:pt x="1461" y="113"/>
                  </a:lnTo>
                  <a:lnTo>
                    <a:pt x="1424" y="56"/>
                  </a:lnTo>
                  <a:lnTo>
                    <a:pt x="1378"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06" name="フリーフォーム 21"/>
            <p:cNvSpPr/>
            <p:nvPr/>
          </p:nvSpPr>
          <p:spPr>
            <a:xfrm>
              <a:off x="16920" y="2575080"/>
              <a:ext cx="9126000" cy="3989520"/>
            </a:xfrm>
            <a:custGeom>
              <a:avLst/>
              <a:gdLst>
                <a:gd name="textAreaLeft" fmla="*/ 0 w 9126000"/>
                <a:gd name="textAreaRight" fmla="*/ 9126360 w 9126000"/>
                <a:gd name="textAreaTop" fmla="*/ 0 h 3989520"/>
                <a:gd name="textAreaBottom" fmla="*/ 3989880 h 3989520"/>
              </a:gdLst>
              <a:ahLst/>
              <a:rect l="textAreaLeft" t="textAreaTop" r="textAreaRight" b="textAreaBottom"/>
              <a:pathLst>
                <a:path w="1620" h="657">
                  <a:moveTo>
                    <a:pt x="0" y="584"/>
                  </a:moveTo>
                  <a:lnTo>
                    <a:pt x="29" y="590"/>
                  </a:lnTo>
                  <a:lnTo>
                    <a:pt x="109" y="605"/>
                  </a:lnTo>
                  <a:lnTo>
                    <a:pt x="234" y="624"/>
                  </a:lnTo>
                  <a:lnTo>
                    <a:pt x="303" y="634"/>
                  </a:lnTo>
                  <a:lnTo>
                    <a:pt x="382" y="642"/>
                  </a:lnTo>
                  <a:lnTo>
                    <a:pt x="468" y="649"/>
                  </a:lnTo>
                  <a:lnTo>
                    <a:pt x="557" y="653"/>
                  </a:lnTo>
                  <a:lnTo>
                    <a:pt x="651" y="657"/>
                  </a:lnTo>
                  <a:lnTo>
                    <a:pt x="743" y="655"/>
                  </a:lnTo>
                  <a:lnTo>
                    <a:pt x="835" y="651"/>
                  </a:lnTo>
                  <a:lnTo>
                    <a:pt x="927" y="643"/>
                  </a:lnTo>
                  <a:lnTo>
                    <a:pt x="1017" y="630"/>
                  </a:lnTo>
                  <a:lnTo>
                    <a:pt x="1062" y="620"/>
                  </a:lnTo>
                  <a:lnTo>
                    <a:pt x="1104" y="611"/>
                  </a:lnTo>
                  <a:lnTo>
                    <a:pt x="1117" y="607"/>
                  </a:lnTo>
                  <a:lnTo>
                    <a:pt x="1156" y="597"/>
                  </a:lnTo>
                  <a:lnTo>
                    <a:pt x="1213" y="576"/>
                  </a:lnTo>
                  <a:lnTo>
                    <a:pt x="1246" y="563"/>
                  </a:lnTo>
                  <a:lnTo>
                    <a:pt x="1280" y="547"/>
                  </a:lnTo>
                  <a:lnTo>
                    <a:pt x="1319" y="528"/>
                  </a:lnTo>
                  <a:lnTo>
                    <a:pt x="1355" y="507"/>
                  </a:lnTo>
                  <a:lnTo>
                    <a:pt x="1394" y="482"/>
                  </a:lnTo>
                  <a:lnTo>
                    <a:pt x="1434" y="451"/>
                  </a:lnTo>
                  <a:lnTo>
                    <a:pt x="1471" y="419"/>
                  </a:lnTo>
                  <a:lnTo>
                    <a:pt x="1503" y="380"/>
                  </a:lnTo>
                  <a:lnTo>
                    <a:pt x="1536" y="338"/>
                  </a:lnTo>
                  <a:lnTo>
                    <a:pt x="1549" y="317"/>
                  </a:lnTo>
                  <a:lnTo>
                    <a:pt x="1563" y="294"/>
                  </a:lnTo>
                  <a:lnTo>
                    <a:pt x="1572" y="265"/>
                  </a:lnTo>
                  <a:lnTo>
                    <a:pt x="1582" y="235"/>
                  </a:lnTo>
                  <a:lnTo>
                    <a:pt x="1593" y="196"/>
                  </a:lnTo>
                  <a:lnTo>
                    <a:pt x="1605" y="150"/>
                  </a:lnTo>
                  <a:lnTo>
                    <a:pt x="1615" y="102"/>
                  </a:lnTo>
                  <a:lnTo>
                    <a:pt x="1620" y="52"/>
                  </a:lnTo>
                  <a:lnTo>
                    <a:pt x="1620" y="25"/>
                  </a:lnTo>
                  <a:lnTo>
                    <a:pt x="162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07" name="フリーフォーム 22"/>
            <p:cNvSpPr/>
            <p:nvPr/>
          </p:nvSpPr>
          <p:spPr>
            <a:xfrm>
              <a:off x="2408040" y="0"/>
              <a:ext cx="6533640" cy="6832080"/>
            </a:xfrm>
            <a:custGeom>
              <a:avLst/>
              <a:gdLst>
                <a:gd name="textAreaLeft" fmla="*/ 0 w 6533640"/>
                <a:gd name="textAreaRight" fmla="*/ 6534000 w 6533640"/>
                <a:gd name="textAreaTop" fmla="*/ 0 h 6832080"/>
                <a:gd name="textAreaBottom" fmla="*/ 6832440 h 6832080"/>
              </a:gdLst>
              <a:ahLst/>
              <a:rect l="textAreaLeft" t="textAreaTop" r="textAreaRight" b="textAreaBottom"/>
              <a:pathLst>
                <a:path w="1142" h="1146">
                  <a:moveTo>
                    <a:pt x="0" y="1144"/>
                  </a:moveTo>
                  <a:lnTo>
                    <a:pt x="36" y="1146"/>
                  </a:lnTo>
                  <a:lnTo>
                    <a:pt x="132" y="1144"/>
                  </a:lnTo>
                  <a:lnTo>
                    <a:pt x="200" y="1142"/>
                  </a:lnTo>
                  <a:lnTo>
                    <a:pt x="274" y="1136"/>
                  </a:lnTo>
                  <a:lnTo>
                    <a:pt x="355" y="1131"/>
                  </a:lnTo>
                  <a:lnTo>
                    <a:pt x="438" y="1119"/>
                  </a:lnTo>
                  <a:lnTo>
                    <a:pt x="526" y="1106"/>
                  </a:lnTo>
                  <a:lnTo>
                    <a:pt x="614" y="1087"/>
                  </a:lnTo>
                  <a:lnTo>
                    <a:pt x="658" y="1075"/>
                  </a:lnTo>
                  <a:lnTo>
                    <a:pt x="701" y="1064"/>
                  </a:lnTo>
                  <a:lnTo>
                    <a:pt x="743" y="1050"/>
                  </a:lnTo>
                  <a:lnTo>
                    <a:pt x="783" y="1035"/>
                  </a:lnTo>
                  <a:lnTo>
                    <a:pt x="822" y="1017"/>
                  </a:lnTo>
                  <a:lnTo>
                    <a:pt x="860" y="998"/>
                  </a:lnTo>
                  <a:lnTo>
                    <a:pt x="895" y="979"/>
                  </a:lnTo>
                  <a:lnTo>
                    <a:pt x="927" y="958"/>
                  </a:lnTo>
                  <a:lnTo>
                    <a:pt x="958" y="935"/>
                  </a:lnTo>
                  <a:lnTo>
                    <a:pt x="985" y="910"/>
                  </a:lnTo>
                  <a:lnTo>
                    <a:pt x="1012" y="883"/>
                  </a:lnTo>
                  <a:lnTo>
                    <a:pt x="1033" y="852"/>
                  </a:lnTo>
                  <a:lnTo>
                    <a:pt x="1040" y="841"/>
                  </a:lnTo>
                  <a:lnTo>
                    <a:pt x="1060" y="808"/>
                  </a:lnTo>
                  <a:lnTo>
                    <a:pt x="1073" y="783"/>
                  </a:lnTo>
                  <a:lnTo>
                    <a:pt x="1085" y="751"/>
                  </a:lnTo>
                  <a:lnTo>
                    <a:pt x="1098" y="712"/>
                  </a:lnTo>
                  <a:lnTo>
                    <a:pt x="1112" y="664"/>
                  </a:lnTo>
                  <a:lnTo>
                    <a:pt x="1123" y="610"/>
                  </a:lnTo>
                  <a:lnTo>
                    <a:pt x="1133" y="551"/>
                  </a:lnTo>
                  <a:lnTo>
                    <a:pt x="1140" y="482"/>
                  </a:lnTo>
                  <a:lnTo>
                    <a:pt x="1142" y="403"/>
                  </a:lnTo>
                  <a:lnTo>
                    <a:pt x="1142" y="317"/>
                  </a:lnTo>
                  <a:lnTo>
                    <a:pt x="1136" y="219"/>
                  </a:lnTo>
                  <a:lnTo>
                    <a:pt x="1127" y="115"/>
                  </a:lnTo>
                  <a:lnTo>
                    <a:pt x="111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08" name="フリーフォーム 23"/>
            <p:cNvSpPr/>
            <p:nvPr/>
          </p:nvSpPr>
          <p:spPr>
            <a:xfrm>
              <a:off x="7448400" y="0"/>
              <a:ext cx="1694160" cy="1494000"/>
            </a:xfrm>
            <a:custGeom>
              <a:avLst/>
              <a:gdLst>
                <a:gd name="textAreaLeft" fmla="*/ 0 w 1694160"/>
                <a:gd name="textAreaRight" fmla="*/ 1694520 w 1694160"/>
                <a:gd name="textAreaTop" fmla="*/ 0 h 1494000"/>
                <a:gd name="textAreaBottom" fmla="*/ 1494360 h 1494000"/>
              </a:gdLst>
              <a:ahLst/>
              <a:rect l="textAreaLeft" t="textAreaTop" r="textAreaRight" b="textAreaBottom"/>
              <a:pathLst>
                <a:path w="309" h="263">
                  <a:moveTo>
                    <a:pt x="0" y="0"/>
                  </a:moveTo>
                  <a:lnTo>
                    <a:pt x="39" y="19"/>
                  </a:lnTo>
                  <a:lnTo>
                    <a:pt x="79" y="42"/>
                  </a:lnTo>
                  <a:lnTo>
                    <a:pt x="131" y="73"/>
                  </a:lnTo>
                  <a:lnTo>
                    <a:pt x="156" y="90"/>
                  </a:lnTo>
                  <a:lnTo>
                    <a:pt x="183" y="111"/>
                  </a:lnTo>
                  <a:lnTo>
                    <a:pt x="209" y="132"/>
                  </a:lnTo>
                  <a:lnTo>
                    <a:pt x="232" y="155"/>
                  </a:lnTo>
                  <a:lnTo>
                    <a:pt x="257" y="180"/>
                  </a:lnTo>
                  <a:lnTo>
                    <a:pt x="277" y="205"/>
                  </a:lnTo>
                  <a:lnTo>
                    <a:pt x="296" y="234"/>
                  </a:lnTo>
                  <a:lnTo>
                    <a:pt x="309" y="263"/>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09" name="フリーフォーム 24"/>
            <p:cNvSpPr/>
            <p:nvPr/>
          </p:nvSpPr>
          <p:spPr>
            <a:xfrm>
              <a:off x="0" y="5877720"/>
              <a:ext cx="5439960" cy="954360"/>
            </a:xfrm>
            <a:custGeom>
              <a:avLst/>
              <a:gdLst>
                <a:gd name="textAreaLeft" fmla="*/ 0 w 5439960"/>
                <a:gd name="textAreaRight" fmla="*/ 5440320 w 5439960"/>
                <a:gd name="textAreaTop" fmla="*/ 0 h 954360"/>
                <a:gd name="textAreaBottom" fmla="*/ 954720 h 954360"/>
              </a:gdLst>
              <a:ahLst/>
              <a:rect l="textAreaLeft" t="textAreaTop" r="textAreaRight" b="textAreaBottom"/>
              <a:pathLst>
                <a:path w="960" h="157">
                  <a:moveTo>
                    <a:pt x="0" y="0"/>
                  </a:moveTo>
                  <a:lnTo>
                    <a:pt x="98" y="27"/>
                  </a:lnTo>
                  <a:lnTo>
                    <a:pt x="209" y="53"/>
                  </a:lnTo>
                  <a:lnTo>
                    <a:pt x="340" y="84"/>
                  </a:lnTo>
                  <a:lnTo>
                    <a:pt x="493" y="113"/>
                  </a:lnTo>
                  <a:lnTo>
                    <a:pt x="572" y="126"/>
                  </a:lnTo>
                  <a:lnTo>
                    <a:pt x="654" y="138"/>
                  </a:lnTo>
                  <a:lnTo>
                    <a:pt x="735" y="146"/>
                  </a:lnTo>
                  <a:lnTo>
                    <a:pt x="812" y="153"/>
                  </a:lnTo>
                  <a:lnTo>
                    <a:pt x="887" y="157"/>
                  </a:lnTo>
                  <a:lnTo>
                    <a:pt x="960" y="155"/>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grpSp>
      <p:pic>
        <p:nvPicPr>
          <p:cNvPr id="110" name="図形グループ 2" descr=""/>
          <p:cNvPicPr/>
          <p:nvPr/>
        </p:nvPicPr>
        <p:blipFill>
          <a:blip r:embed="rId3"/>
          <a:stretch/>
        </p:blipFill>
        <p:spPr>
          <a:xfrm>
            <a:off x="8058240" y="5846760"/>
            <a:ext cx="1085760" cy="1023840"/>
          </a:xfrm>
          <a:prstGeom prst="rect">
            <a:avLst/>
          </a:prstGeom>
          <a:ln w="0">
            <a:noFill/>
          </a:ln>
        </p:spPr>
      </p:pic>
      <p:sp>
        <p:nvSpPr>
          <p:cNvPr id="111"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112" name="PlaceHolder 2"/>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sp>
        <p:nvSpPr>
          <p:cNvPr id="113" name="PlaceHolder 3"/>
          <p:cNvSpPr>
            <a:spLocks noGrp="1"/>
          </p:cNvSpPr>
          <p:nvPr>
            <p:ph type="dt" idx="7"/>
          </p:nvPr>
        </p:nvSpPr>
        <p:spPr>
          <a:xfrm>
            <a:off x="-360" y="-360"/>
            <a:ext cx="213372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957B7-84D9-4C06-9A4E-91BF68BD5F81}"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114" name="PlaceHolder 4"/>
          <p:cNvSpPr>
            <a:spLocks noGrp="1"/>
          </p:cNvSpPr>
          <p:nvPr>
            <p:ph type="ftr" idx="8"/>
          </p:nvPr>
        </p:nvSpPr>
        <p:spPr>
          <a:xfrm>
            <a:off x="2199960" y="-360"/>
            <a:ext cx="4498920" cy="36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15" name="PlaceHolder 5"/>
          <p:cNvSpPr>
            <a:spLocks noGrp="1"/>
          </p:cNvSpPr>
          <p:nvPr>
            <p:ph type="sldNum" idx="9"/>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94106-FC83-4063-A5CB-ADF4FAB5BA31}"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2" name="図形グループ 6"/>
          <p:cNvGrpSpPr/>
          <p:nvPr/>
        </p:nvGrpSpPr>
        <p:grpSpPr>
          <a:xfrm>
            <a:off x="-15840" y="0"/>
            <a:ext cx="9144000" cy="6858000"/>
            <a:chOff x="-15840" y="0"/>
            <a:chExt cx="9144000" cy="6858000"/>
          </a:xfrm>
        </p:grpSpPr>
        <p:sp>
          <p:nvSpPr>
            <p:cNvPr id="153" name="フリーフォーム 26"/>
            <p:cNvSpPr/>
            <p:nvPr/>
          </p:nvSpPr>
          <p:spPr>
            <a:xfrm>
              <a:off x="-5400" y="0"/>
              <a:ext cx="8602200" cy="6442200"/>
            </a:xfrm>
            <a:custGeom>
              <a:avLst/>
              <a:gdLst>
                <a:gd name="textAreaLeft" fmla="*/ 0 w 8602200"/>
                <a:gd name="textAreaRight" fmla="*/ 8602560 w 8602200"/>
                <a:gd name="textAreaTop" fmla="*/ 0 h 6442200"/>
                <a:gd name="textAreaBottom" fmla="*/ 6442560 h 6442200"/>
              </a:gdLst>
              <a:ahLst/>
              <a:rect l="textAreaLeft" t="textAreaTop" r="textAreaRight" b="textAreaBottom"/>
              <a:pathLst>
                <a:path w="5811" h="4091">
                  <a:moveTo>
                    <a:pt x="0" y="4069"/>
                  </a:moveTo>
                  <a:lnTo>
                    <a:pt x="161" y="4084"/>
                  </a:lnTo>
                  <a:lnTo>
                    <a:pt x="344" y="4084"/>
                  </a:lnTo>
                  <a:lnTo>
                    <a:pt x="593" y="4091"/>
                  </a:lnTo>
                  <a:lnTo>
                    <a:pt x="893" y="4084"/>
                  </a:lnTo>
                  <a:lnTo>
                    <a:pt x="1230" y="4069"/>
                  </a:lnTo>
                  <a:lnTo>
                    <a:pt x="1588" y="4033"/>
                  </a:lnTo>
                  <a:lnTo>
                    <a:pt x="1991" y="3996"/>
                  </a:lnTo>
                  <a:lnTo>
                    <a:pt x="2196" y="3959"/>
                  </a:lnTo>
                  <a:lnTo>
                    <a:pt x="2408" y="3923"/>
                  </a:lnTo>
                  <a:lnTo>
                    <a:pt x="2613" y="3879"/>
                  </a:lnTo>
                  <a:lnTo>
                    <a:pt x="2832" y="3828"/>
                  </a:lnTo>
                  <a:lnTo>
                    <a:pt x="3052" y="3776"/>
                  </a:lnTo>
                  <a:lnTo>
                    <a:pt x="3257" y="3718"/>
                  </a:lnTo>
                  <a:lnTo>
                    <a:pt x="3469" y="3645"/>
                  </a:lnTo>
                  <a:lnTo>
                    <a:pt x="3681" y="3572"/>
                  </a:lnTo>
                  <a:lnTo>
                    <a:pt x="3886" y="3484"/>
                  </a:lnTo>
                  <a:lnTo>
                    <a:pt x="4084" y="3381"/>
                  </a:lnTo>
                  <a:lnTo>
                    <a:pt x="4274" y="3279"/>
                  </a:lnTo>
                  <a:lnTo>
                    <a:pt x="4465" y="3169"/>
                  </a:lnTo>
                  <a:lnTo>
                    <a:pt x="4648" y="3037"/>
                  </a:lnTo>
                  <a:lnTo>
                    <a:pt x="4816" y="2898"/>
                  </a:lnTo>
                  <a:lnTo>
                    <a:pt x="4970" y="2759"/>
                  </a:lnTo>
                  <a:lnTo>
                    <a:pt x="5123" y="2591"/>
                  </a:lnTo>
                  <a:lnTo>
                    <a:pt x="5189" y="2510"/>
                  </a:lnTo>
                  <a:lnTo>
                    <a:pt x="5262" y="2415"/>
                  </a:lnTo>
                  <a:lnTo>
                    <a:pt x="5350" y="2269"/>
                  </a:lnTo>
                  <a:lnTo>
                    <a:pt x="5453" y="2093"/>
                  </a:lnTo>
                  <a:lnTo>
                    <a:pt x="5555" y="1873"/>
                  </a:lnTo>
                  <a:lnTo>
                    <a:pt x="5606" y="1756"/>
                  </a:lnTo>
                  <a:lnTo>
                    <a:pt x="5658" y="1625"/>
                  </a:lnTo>
                  <a:lnTo>
                    <a:pt x="5709" y="1485"/>
                  </a:lnTo>
                  <a:lnTo>
                    <a:pt x="5745" y="1332"/>
                  </a:lnTo>
                  <a:lnTo>
                    <a:pt x="5775" y="1207"/>
                  </a:lnTo>
                  <a:lnTo>
                    <a:pt x="5789" y="1068"/>
                  </a:lnTo>
                  <a:lnTo>
                    <a:pt x="5804" y="893"/>
                  </a:lnTo>
                  <a:lnTo>
                    <a:pt x="5811" y="790"/>
                  </a:lnTo>
                  <a:lnTo>
                    <a:pt x="5804" y="695"/>
                  </a:lnTo>
                  <a:lnTo>
                    <a:pt x="5797" y="578"/>
                  </a:lnTo>
                  <a:lnTo>
                    <a:pt x="5782" y="461"/>
                  </a:lnTo>
                  <a:lnTo>
                    <a:pt x="5760" y="344"/>
                  </a:lnTo>
                  <a:lnTo>
                    <a:pt x="5738" y="227"/>
                  </a:lnTo>
                  <a:lnTo>
                    <a:pt x="5694" y="109"/>
                  </a:lnTo>
                  <a:lnTo>
                    <a:pt x="5643" y="0"/>
                  </a:lnTo>
                </a:path>
              </a:pathLst>
            </a:custGeom>
            <a:noFill/>
            <a:ln w="3240">
              <a:solidFill>
                <a:srgbClr val="f69767"/>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54" name="フリーフォーム 27"/>
            <p:cNvSpPr/>
            <p:nvPr/>
          </p:nvSpPr>
          <p:spPr>
            <a:xfrm>
              <a:off x="-15840" y="0"/>
              <a:ext cx="9144000" cy="6684480"/>
            </a:xfrm>
            <a:custGeom>
              <a:avLst/>
              <a:gdLst>
                <a:gd name="textAreaLeft" fmla="*/ 0 w 9144000"/>
                <a:gd name="textAreaRight" fmla="*/ 9144360 w 9144000"/>
                <a:gd name="textAreaTop" fmla="*/ 0 h 6684480"/>
                <a:gd name="textAreaBottom" fmla="*/ 6684840 h 6684480"/>
              </a:gdLst>
              <a:ahLst/>
              <a:rect l="textAreaLeft" t="textAreaTop" r="textAreaRight" b="textAreaBottom"/>
              <a:pathLst>
                <a:path w="6177" h="4245">
                  <a:moveTo>
                    <a:pt x="0" y="4238"/>
                  </a:moveTo>
                  <a:lnTo>
                    <a:pt x="161" y="4245"/>
                  </a:lnTo>
                  <a:lnTo>
                    <a:pt x="607" y="4245"/>
                  </a:lnTo>
                  <a:lnTo>
                    <a:pt x="915" y="4238"/>
                  </a:lnTo>
                  <a:lnTo>
                    <a:pt x="1266" y="4223"/>
                  </a:lnTo>
                  <a:lnTo>
                    <a:pt x="1632" y="4208"/>
                  </a:lnTo>
                  <a:lnTo>
                    <a:pt x="2034" y="4172"/>
                  </a:lnTo>
                  <a:lnTo>
                    <a:pt x="2459" y="4135"/>
                  </a:lnTo>
                  <a:lnTo>
                    <a:pt x="2891" y="4069"/>
                  </a:lnTo>
                  <a:lnTo>
                    <a:pt x="3096" y="4033"/>
                  </a:lnTo>
                  <a:lnTo>
                    <a:pt x="3308" y="4003"/>
                  </a:lnTo>
                  <a:lnTo>
                    <a:pt x="3513" y="3952"/>
                  </a:lnTo>
                  <a:lnTo>
                    <a:pt x="3718" y="3901"/>
                  </a:lnTo>
                  <a:lnTo>
                    <a:pt x="3915" y="3850"/>
                  </a:lnTo>
                  <a:lnTo>
                    <a:pt x="4098" y="3791"/>
                  </a:lnTo>
                  <a:lnTo>
                    <a:pt x="4289" y="3725"/>
                  </a:lnTo>
                  <a:lnTo>
                    <a:pt x="4464" y="3652"/>
                  </a:lnTo>
                  <a:lnTo>
                    <a:pt x="4625" y="3586"/>
                  </a:lnTo>
                  <a:lnTo>
                    <a:pt x="4779" y="3498"/>
                  </a:lnTo>
                  <a:lnTo>
                    <a:pt x="4925" y="3410"/>
                  </a:lnTo>
                  <a:lnTo>
                    <a:pt x="5050" y="3308"/>
                  </a:lnTo>
                  <a:lnTo>
                    <a:pt x="5094" y="3271"/>
                  </a:lnTo>
                  <a:lnTo>
                    <a:pt x="5204" y="3154"/>
                  </a:lnTo>
                  <a:lnTo>
                    <a:pt x="5372" y="2971"/>
                  </a:lnTo>
                  <a:lnTo>
                    <a:pt x="5467" y="2862"/>
                  </a:lnTo>
                  <a:lnTo>
                    <a:pt x="5562" y="2722"/>
                  </a:lnTo>
                  <a:lnTo>
                    <a:pt x="5665" y="2583"/>
                  </a:lnTo>
                  <a:lnTo>
                    <a:pt x="5760" y="2422"/>
                  </a:lnTo>
                  <a:lnTo>
                    <a:pt x="5855" y="2247"/>
                  </a:lnTo>
                  <a:lnTo>
                    <a:pt x="5943" y="2071"/>
                  </a:lnTo>
                  <a:lnTo>
                    <a:pt x="6023" y="1881"/>
                  </a:lnTo>
                  <a:lnTo>
                    <a:pt x="6089" y="1683"/>
                  </a:lnTo>
                  <a:lnTo>
                    <a:pt x="6118" y="1573"/>
                  </a:lnTo>
                  <a:lnTo>
                    <a:pt x="6140" y="1471"/>
                  </a:lnTo>
                  <a:lnTo>
                    <a:pt x="6162" y="1361"/>
                  </a:lnTo>
                  <a:lnTo>
                    <a:pt x="6170" y="1244"/>
                  </a:lnTo>
                  <a:lnTo>
                    <a:pt x="6177" y="1105"/>
                  </a:lnTo>
                  <a:lnTo>
                    <a:pt x="6177" y="944"/>
                  </a:lnTo>
                  <a:lnTo>
                    <a:pt x="6170" y="754"/>
                  </a:lnTo>
                  <a:lnTo>
                    <a:pt x="6155" y="658"/>
                  </a:lnTo>
                  <a:lnTo>
                    <a:pt x="6133" y="549"/>
                  </a:lnTo>
                  <a:lnTo>
                    <a:pt x="6104" y="446"/>
                  </a:lnTo>
                  <a:lnTo>
                    <a:pt x="6075" y="344"/>
                  </a:lnTo>
                  <a:lnTo>
                    <a:pt x="6031" y="241"/>
                  </a:lnTo>
                  <a:lnTo>
                    <a:pt x="5987" y="153"/>
                  </a:lnTo>
                  <a:lnTo>
                    <a:pt x="5928" y="73"/>
                  </a:lnTo>
                  <a:lnTo>
                    <a:pt x="5862" y="0"/>
                  </a:lnTo>
                </a:path>
              </a:pathLst>
            </a:custGeom>
            <a:noFill/>
            <a:ln w="3240">
              <a:solidFill>
                <a:srgbClr val="f69767"/>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55" name="フリーフォーム 28"/>
            <p:cNvSpPr/>
            <p:nvPr/>
          </p:nvSpPr>
          <p:spPr>
            <a:xfrm>
              <a:off x="-15840" y="2730240"/>
              <a:ext cx="9133560" cy="3804480"/>
            </a:xfrm>
            <a:custGeom>
              <a:avLst/>
              <a:gdLst>
                <a:gd name="textAreaLeft" fmla="*/ 0 w 9133560"/>
                <a:gd name="textAreaRight" fmla="*/ 9133920 w 9133560"/>
                <a:gd name="textAreaTop" fmla="*/ 0 h 3804480"/>
                <a:gd name="textAreaBottom" fmla="*/ 3804840 h 3804480"/>
              </a:gdLst>
              <a:ahLst/>
              <a:rect l="textAreaLeft" t="textAreaTop" r="textAreaRight" b="textAreaBottom"/>
              <a:pathLst>
                <a:path w="6170" h="2416">
                  <a:moveTo>
                    <a:pt x="0" y="2203"/>
                  </a:moveTo>
                  <a:lnTo>
                    <a:pt x="161" y="2233"/>
                  </a:lnTo>
                  <a:lnTo>
                    <a:pt x="600" y="2299"/>
                  </a:lnTo>
                  <a:lnTo>
                    <a:pt x="907" y="2335"/>
                  </a:lnTo>
                  <a:lnTo>
                    <a:pt x="1251" y="2365"/>
                  </a:lnTo>
                  <a:lnTo>
                    <a:pt x="1624" y="2394"/>
                  </a:lnTo>
                  <a:lnTo>
                    <a:pt x="2034" y="2408"/>
                  </a:lnTo>
                  <a:lnTo>
                    <a:pt x="2452" y="2416"/>
                  </a:lnTo>
                  <a:lnTo>
                    <a:pt x="2671" y="2416"/>
                  </a:lnTo>
                  <a:lnTo>
                    <a:pt x="2883" y="2401"/>
                  </a:lnTo>
                  <a:lnTo>
                    <a:pt x="3096" y="2394"/>
                  </a:lnTo>
                  <a:lnTo>
                    <a:pt x="3308" y="2379"/>
                  </a:lnTo>
                  <a:lnTo>
                    <a:pt x="3520" y="2357"/>
                  </a:lnTo>
                  <a:lnTo>
                    <a:pt x="3725" y="2328"/>
                  </a:lnTo>
                  <a:lnTo>
                    <a:pt x="3930" y="2291"/>
                  </a:lnTo>
                  <a:lnTo>
                    <a:pt x="4128" y="2247"/>
                  </a:lnTo>
                  <a:lnTo>
                    <a:pt x="4318" y="2196"/>
                  </a:lnTo>
                  <a:lnTo>
                    <a:pt x="4501" y="2138"/>
                  </a:lnTo>
                  <a:lnTo>
                    <a:pt x="4677" y="2072"/>
                  </a:lnTo>
                  <a:lnTo>
                    <a:pt x="4838" y="1991"/>
                  </a:lnTo>
                  <a:lnTo>
                    <a:pt x="4991" y="1911"/>
                  </a:lnTo>
                  <a:lnTo>
                    <a:pt x="5130" y="1816"/>
                  </a:lnTo>
                  <a:lnTo>
                    <a:pt x="5167" y="1786"/>
                  </a:lnTo>
                  <a:lnTo>
                    <a:pt x="5269" y="1684"/>
                  </a:lnTo>
                  <a:lnTo>
                    <a:pt x="5430" y="1530"/>
                  </a:lnTo>
                  <a:lnTo>
                    <a:pt x="5511" y="1435"/>
                  </a:lnTo>
                  <a:lnTo>
                    <a:pt x="5613" y="1318"/>
                  </a:lnTo>
                  <a:lnTo>
                    <a:pt x="5701" y="1193"/>
                  </a:lnTo>
                  <a:lnTo>
                    <a:pt x="5789" y="1054"/>
                  </a:lnTo>
                  <a:lnTo>
                    <a:pt x="5884" y="908"/>
                  </a:lnTo>
                  <a:lnTo>
                    <a:pt x="5957" y="747"/>
                  </a:lnTo>
                  <a:lnTo>
                    <a:pt x="6031" y="571"/>
                  </a:lnTo>
                  <a:lnTo>
                    <a:pt x="6096" y="396"/>
                  </a:lnTo>
                  <a:lnTo>
                    <a:pt x="6140" y="205"/>
                  </a:lnTo>
                  <a:lnTo>
                    <a:pt x="6162" y="103"/>
                  </a:lnTo>
                  <a:lnTo>
                    <a:pt x="6170" y="0"/>
                  </a:lnTo>
                </a:path>
              </a:pathLst>
            </a:custGeom>
            <a:noFill/>
            <a:ln w="3240">
              <a:solidFill>
                <a:srgbClr val="f69767"/>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56" name="フリーフォーム 29"/>
            <p:cNvSpPr/>
            <p:nvPr/>
          </p:nvSpPr>
          <p:spPr>
            <a:xfrm>
              <a:off x="4966560" y="0"/>
              <a:ext cx="3792600" cy="6858000"/>
            </a:xfrm>
            <a:custGeom>
              <a:avLst/>
              <a:gdLst>
                <a:gd name="textAreaLeft" fmla="*/ 0 w 3792600"/>
                <a:gd name="textAreaRight" fmla="*/ 3792960 w 3792600"/>
                <a:gd name="textAreaTop" fmla="*/ 0 h 6858000"/>
                <a:gd name="textAreaBottom" fmla="*/ 6858360 h 6858000"/>
              </a:gdLst>
              <a:ahLst/>
              <a:rect l="textAreaLeft" t="textAreaTop" r="textAreaRight" b="textAreaBottom"/>
              <a:pathLst>
                <a:path w="2562" h="4355">
                  <a:moveTo>
                    <a:pt x="2108" y="0"/>
                  </a:moveTo>
                  <a:lnTo>
                    <a:pt x="2145" y="73"/>
                  </a:lnTo>
                  <a:lnTo>
                    <a:pt x="2196" y="175"/>
                  </a:lnTo>
                  <a:lnTo>
                    <a:pt x="2247" y="300"/>
                  </a:lnTo>
                  <a:lnTo>
                    <a:pt x="2321" y="453"/>
                  </a:lnTo>
                  <a:lnTo>
                    <a:pt x="2379" y="629"/>
                  </a:lnTo>
                  <a:lnTo>
                    <a:pt x="2438" y="827"/>
                  </a:lnTo>
                  <a:lnTo>
                    <a:pt x="2489" y="1054"/>
                  </a:lnTo>
                  <a:lnTo>
                    <a:pt x="2533" y="1288"/>
                  </a:lnTo>
                  <a:lnTo>
                    <a:pt x="2548" y="1412"/>
                  </a:lnTo>
                  <a:lnTo>
                    <a:pt x="2562" y="1537"/>
                  </a:lnTo>
                  <a:lnTo>
                    <a:pt x="2562" y="1668"/>
                  </a:lnTo>
                  <a:lnTo>
                    <a:pt x="2562" y="1793"/>
                  </a:lnTo>
                  <a:lnTo>
                    <a:pt x="2555" y="1932"/>
                  </a:lnTo>
                  <a:lnTo>
                    <a:pt x="2533" y="2064"/>
                  </a:lnTo>
                  <a:lnTo>
                    <a:pt x="2511" y="2195"/>
                  </a:lnTo>
                  <a:lnTo>
                    <a:pt x="2482" y="2327"/>
                  </a:lnTo>
                  <a:lnTo>
                    <a:pt x="2438" y="2459"/>
                  </a:lnTo>
                  <a:lnTo>
                    <a:pt x="2386" y="2591"/>
                  </a:lnTo>
                  <a:lnTo>
                    <a:pt x="2321" y="2730"/>
                  </a:lnTo>
                  <a:lnTo>
                    <a:pt x="2247" y="2862"/>
                  </a:lnTo>
                  <a:lnTo>
                    <a:pt x="2174" y="2993"/>
                  </a:lnTo>
                  <a:lnTo>
                    <a:pt x="2079" y="3118"/>
                  </a:lnTo>
                  <a:lnTo>
                    <a:pt x="2035" y="3169"/>
                  </a:lnTo>
                  <a:lnTo>
                    <a:pt x="1911" y="3293"/>
                  </a:lnTo>
                  <a:lnTo>
                    <a:pt x="1728" y="3484"/>
                  </a:lnTo>
                  <a:lnTo>
                    <a:pt x="1603" y="3586"/>
                  </a:lnTo>
                  <a:lnTo>
                    <a:pt x="1472" y="3689"/>
                  </a:lnTo>
                  <a:lnTo>
                    <a:pt x="1325" y="3791"/>
                  </a:lnTo>
                  <a:lnTo>
                    <a:pt x="1164" y="3908"/>
                  </a:lnTo>
                  <a:lnTo>
                    <a:pt x="996" y="4011"/>
                  </a:lnTo>
                  <a:lnTo>
                    <a:pt x="813" y="4106"/>
                  </a:lnTo>
                  <a:lnTo>
                    <a:pt x="623" y="4194"/>
                  </a:lnTo>
                  <a:lnTo>
                    <a:pt x="425" y="4267"/>
                  </a:lnTo>
                  <a:lnTo>
                    <a:pt x="322" y="4296"/>
                  </a:lnTo>
                  <a:lnTo>
                    <a:pt x="213" y="4318"/>
                  </a:lnTo>
                  <a:lnTo>
                    <a:pt x="110" y="4347"/>
                  </a:lnTo>
                  <a:lnTo>
                    <a:pt x="0" y="4355"/>
                  </a:lnTo>
                </a:path>
              </a:pathLst>
            </a:custGeom>
            <a:noFill/>
            <a:ln w="3240">
              <a:solidFill>
                <a:srgbClr val="f69767"/>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57" name="フリーフォーム 31"/>
            <p:cNvSpPr/>
            <p:nvPr/>
          </p:nvSpPr>
          <p:spPr>
            <a:xfrm>
              <a:off x="6885360" y="3135240"/>
              <a:ext cx="2232360" cy="3722400"/>
            </a:xfrm>
            <a:custGeom>
              <a:avLst/>
              <a:gdLst>
                <a:gd name="textAreaLeft" fmla="*/ 0 w 2232360"/>
                <a:gd name="textAreaRight" fmla="*/ 2232720 w 2232360"/>
                <a:gd name="textAreaTop" fmla="*/ 0 h 3722400"/>
                <a:gd name="textAreaBottom" fmla="*/ 3722760 h 3722400"/>
              </a:gdLst>
              <a:ahLst/>
              <a:rect l="textAreaLeft" t="textAreaTop" r="textAreaRight" b="textAreaBottom"/>
              <a:pathLst>
                <a:path w="1508" h="2364">
                  <a:moveTo>
                    <a:pt x="0" y="2364"/>
                  </a:moveTo>
                  <a:lnTo>
                    <a:pt x="58" y="2320"/>
                  </a:lnTo>
                  <a:lnTo>
                    <a:pt x="212" y="2181"/>
                  </a:lnTo>
                  <a:lnTo>
                    <a:pt x="322" y="2086"/>
                  </a:lnTo>
                  <a:lnTo>
                    <a:pt x="439" y="1976"/>
                  </a:lnTo>
                  <a:lnTo>
                    <a:pt x="564" y="1837"/>
                  </a:lnTo>
                  <a:lnTo>
                    <a:pt x="695" y="1683"/>
                  </a:lnTo>
                  <a:lnTo>
                    <a:pt x="827" y="1529"/>
                  </a:lnTo>
                  <a:lnTo>
                    <a:pt x="959" y="1339"/>
                  </a:lnTo>
                  <a:lnTo>
                    <a:pt x="1090" y="1149"/>
                  </a:lnTo>
                  <a:lnTo>
                    <a:pt x="1208" y="936"/>
                  </a:lnTo>
                  <a:lnTo>
                    <a:pt x="1266" y="827"/>
                  </a:lnTo>
                  <a:lnTo>
                    <a:pt x="1310" y="717"/>
                  </a:lnTo>
                  <a:lnTo>
                    <a:pt x="1361" y="600"/>
                  </a:lnTo>
                  <a:lnTo>
                    <a:pt x="1405" y="490"/>
                  </a:lnTo>
                  <a:lnTo>
                    <a:pt x="1434" y="365"/>
                  </a:lnTo>
                  <a:lnTo>
                    <a:pt x="1471" y="248"/>
                  </a:lnTo>
                  <a:lnTo>
                    <a:pt x="1493" y="124"/>
                  </a:lnTo>
                  <a:lnTo>
                    <a:pt x="1508" y="0"/>
                  </a:lnTo>
                </a:path>
              </a:pathLst>
            </a:custGeom>
            <a:noFill/>
            <a:ln w="3240">
              <a:solidFill>
                <a:srgbClr val="f69767"/>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grpSp>
      <p:pic>
        <p:nvPicPr>
          <p:cNvPr id="158" name="図形グループ 7" descr=""/>
          <p:cNvPicPr/>
          <p:nvPr/>
        </p:nvPicPr>
        <p:blipFill>
          <a:blip r:embed="rId3"/>
          <a:stretch/>
        </p:blipFill>
        <p:spPr>
          <a:xfrm>
            <a:off x="7272360" y="3870360"/>
            <a:ext cx="1542960" cy="1427040"/>
          </a:xfrm>
          <a:prstGeom prst="rect">
            <a:avLst/>
          </a:prstGeom>
          <a:ln w="0">
            <a:noFill/>
          </a:ln>
        </p:spPr>
      </p:pic>
      <p:pic>
        <p:nvPicPr>
          <p:cNvPr id="159" name="図形グループ 8" descr=""/>
          <p:cNvPicPr/>
          <p:nvPr/>
        </p:nvPicPr>
        <p:blipFill>
          <a:blip r:embed="rId4"/>
          <a:stretch/>
        </p:blipFill>
        <p:spPr>
          <a:xfrm>
            <a:off x="6327720" y="5016600"/>
            <a:ext cx="1084320" cy="1023840"/>
          </a:xfrm>
          <a:prstGeom prst="rect">
            <a:avLst/>
          </a:prstGeom>
          <a:ln w="0">
            <a:noFill/>
          </a:ln>
        </p:spPr>
      </p:pic>
      <p:sp>
        <p:nvSpPr>
          <p:cNvPr id="160" name="フリーフォーム 43"/>
          <p:cNvSpPr/>
          <p:nvPr/>
        </p:nvSpPr>
        <p:spPr>
          <a:xfrm>
            <a:off x="5842080" y="5857920"/>
            <a:ext cx="244440" cy="231840"/>
          </a:xfrm>
          <a:custGeom>
            <a:avLst/>
            <a:gdLst>
              <a:gd name="textAreaLeft" fmla="*/ 0 w 244440"/>
              <a:gd name="textAreaRight" fmla="*/ 244800 w 244440"/>
              <a:gd name="textAreaTop" fmla="*/ 0 h 231840"/>
              <a:gd name="textAreaBottom" fmla="*/ 232200 h 231840"/>
            </a:gdLst>
            <a:ahLst/>
            <a:rect l="textAreaLeft" t="textAreaTop" r="textAreaRight" b="textAreaBottom"/>
            <a:pathLst>
              <a:path w="151" h="144">
                <a:moveTo>
                  <a:pt x="86" y="0"/>
                </a:moveTo>
                <a:lnTo>
                  <a:pt x="50" y="6"/>
                </a:lnTo>
                <a:lnTo>
                  <a:pt x="28" y="22"/>
                </a:lnTo>
                <a:lnTo>
                  <a:pt x="0" y="66"/>
                </a:lnTo>
                <a:lnTo>
                  <a:pt x="0" y="87"/>
                </a:lnTo>
                <a:lnTo>
                  <a:pt x="36" y="79"/>
                </a:lnTo>
                <a:lnTo>
                  <a:pt x="28" y="102"/>
                </a:lnTo>
                <a:lnTo>
                  <a:pt x="13" y="108"/>
                </a:lnTo>
                <a:lnTo>
                  <a:pt x="36" y="131"/>
                </a:lnTo>
                <a:lnTo>
                  <a:pt x="65" y="144"/>
                </a:lnTo>
                <a:lnTo>
                  <a:pt x="94" y="144"/>
                </a:lnTo>
                <a:lnTo>
                  <a:pt x="115" y="137"/>
                </a:lnTo>
                <a:lnTo>
                  <a:pt x="151" y="116"/>
                </a:lnTo>
                <a:lnTo>
                  <a:pt x="151" y="66"/>
                </a:lnTo>
                <a:lnTo>
                  <a:pt x="138" y="35"/>
                </a:lnTo>
                <a:lnTo>
                  <a:pt x="115" y="22"/>
                </a:lnTo>
                <a:lnTo>
                  <a:pt x="94" y="0"/>
                </a:lnTo>
                <a:lnTo>
                  <a:pt x="86" y="0"/>
                </a:lnTo>
                <a:lnTo>
                  <a:pt x="86" y="66"/>
                </a:lnTo>
                <a:lnTo>
                  <a:pt x="78" y="71"/>
                </a:lnTo>
                <a:lnTo>
                  <a:pt x="50" y="66"/>
                </a:lnTo>
                <a:lnTo>
                  <a:pt x="36" y="58"/>
                </a:lnTo>
                <a:lnTo>
                  <a:pt x="42" y="29"/>
                </a:lnTo>
                <a:lnTo>
                  <a:pt x="73" y="22"/>
                </a:lnTo>
                <a:lnTo>
                  <a:pt x="86" y="29"/>
                </a:lnTo>
                <a:lnTo>
                  <a:pt x="86" y="50"/>
                </a:lnTo>
                <a:lnTo>
                  <a:pt x="86" y="66"/>
                </a:lnTo>
                <a:lnTo>
                  <a:pt x="86" y="0"/>
                </a:lnTo>
                <a:lnTo>
                  <a:pt x="94" y="123"/>
                </a:lnTo>
                <a:lnTo>
                  <a:pt x="123" y="123"/>
                </a:lnTo>
                <a:lnTo>
                  <a:pt x="107" y="131"/>
                </a:lnTo>
                <a:lnTo>
                  <a:pt x="94" y="123"/>
                </a:lnTo>
                <a:lnTo>
                  <a:pt x="86" y="0"/>
                </a:lnTo>
                <a:close/>
              </a:path>
            </a:pathLst>
          </a:custGeom>
          <a:gradFill rotWithShape="0">
            <a:gsLst>
              <a:gs pos="0">
                <a:srgbClr val="fcdccc"/>
              </a:gs>
              <a:gs pos="100000">
                <a:srgbClr val="e3560e"/>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61" name="フリーフォーム 44"/>
          <p:cNvSpPr/>
          <p:nvPr/>
        </p:nvSpPr>
        <p:spPr>
          <a:xfrm rot="5400000">
            <a:off x="7322040" y="5055480"/>
            <a:ext cx="1895400" cy="1677960"/>
          </a:xfrm>
          <a:custGeom>
            <a:avLst/>
            <a:gdLst>
              <a:gd name="textAreaLeft" fmla="*/ 0 w 1895400"/>
              <a:gd name="textAreaRight" fmla="*/ 1895760 w 1895400"/>
              <a:gd name="textAreaTop" fmla="*/ 0 h 1677960"/>
              <a:gd name="textAreaBottom" fmla="*/ 1678320 h 1677960"/>
            </a:gdLst>
            <a:ahLst/>
            <a:rect l="textAreaLeft" t="textAreaTop" r="textAreaRight" b="textAreaBottom"/>
            <a:pathLst>
              <a:path w="309" h="263">
                <a:moveTo>
                  <a:pt x="0" y="0"/>
                </a:moveTo>
                <a:lnTo>
                  <a:pt x="39" y="19"/>
                </a:lnTo>
                <a:lnTo>
                  <a:pt x="79" y="42"/>
                </a:lnTo>
                <a:lnTo>
                  <a:pt x="131" y="73"/>
                </a:lnTo>
                <a:lnTo>
                  <a:pt x="156" y="90"/>
                </a:lnTo>
                <a:lnTo>
                  <a:pt x="183" y="111"/>
                </a:lnTo>
                <a:lnTo>
                  <a:pt x="209" y="132"/>
                </a:lnTo>
                <a:lnTo>
                  <a:pt x="232" y="155"/>
                </a:lnTo>
                <a:lnTo>
                  <a:pt x="257" y="180"/>
                </a:lnTo>
                <a:lnTo>
                  <a:pt x="277" y="205"/>
                </a:lnTo>
                <a:lnTo>
                  <a:pt x="296" y="234"/>
                </a:lnTo>
                <a:lnTo>
                  <a:pt x="309" y="263"/>
                </a:lnTo>
              </a:path>
            </a:pathLst>
          </a:custGeom>
          <a:noFill/>
          <a:ln w="1260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pic>
        <p:nvPicPr>
          <p:cNvPr id="162" name="図形グループ 9" descr=""/>
          <p:cNvPicPr/>
          <p:nvPr/>
        </p:nvPicPr>
        <p:blipFill>
          <a:blip r:embed="rId5"/>
          <a:stretch/>
        </p:blipFill>
        <p:spPr>
          <a:xfrm>
            <a:off x="7284960" y="3870360"/>
            <a:ext cx="1541520" cy="1427040"/>
          </a:xfrm>
          <a:prstGeom prst="rect">
            <a:avLst/>
          </a:prstGeom>
          <a:ln w="0">
            <a:noFill/>
          </a:ln>
        </p:spPr>
      </p:pic>
      <p:pic>
        <p:nvPicPr>
          <p:cNvPr id="163" name="図形グループ 10" descr=""/>
          <p:cNvPicPr/>
          <p:nvPr/>
        </p:nvPicPr>
        <p:blipFill>
          <a:blip r:embed="rId6"/>
          <a:stretch/>
        </p:blipFill>
        <p:spPr>
          <a:xfrm>
            <a:off x="6340320" y="5016600"/>
            <a:ext cx="1090800" cy="1023840"/>
          </a:xfrm>
          <a:prstGeom prst="rect">
            <a:avLst/>
          </a:prstGeom>
          <a:ln w="0">
            <a:noFill/>
          </a:ln>
        </p:spPr>
      </p:pic>
      <p:sp>
        <p:nvSpPr>
          <p:cNvPr id="164" name="フリーフォーム 53"/>
          <p:cNvSpPr/>
          <p:nvPr/>
        </p:nvSpPr>
        <p:spPr>
          <a:xfrm>
            <a:off x="5857920" y="5857920"/>
            <a:ext cx="244440" cy="231840"/>
          </a:xfrm>
          <a:custGeom>
            <a:avLst/>
            <a:gdLst>
              <a:gd name="textAreaLeft" fmla="*/ 0 w 244440"/>
              <a:gd name="textAreaRight" fmla="*/ 244800 w 244440"/>
              <a:gd name="textAreaTop" fmla="*/ 0 h 231840"/>
              <a:gd name="textAreaBottom" fmla="*/ 232200 h 231840"/>
            </a:gdLst>
            <a:ahLst/>
            <a:rect l="textAreaLeft" t="textAreaTop" r="textAreaRight" b="textAreaBottom"/>
            <a:pathLst>
              <a:path w="151" h="144">
                <a:moveTo>
                  <a:pt x="86" y="0"/>
                </a:moveTo>
                <a:lnTo>
                  <a:pt x="50" y="6"/>
                </a:lnTo>
                <a:lnTo>
                  <a:pt x="28" y="22"/>
                </a:lnTo>
                <a:lnTo>
                  <a:pt x="0" y="66"/>
                </a:lnTo>
                <a:lnTo>
                  <a:pt x="0" y="87"/>
                </a:lnTo>
                <a:lnTo>
                  <a:pt x="36" y="79"/>
                </a:lnTo>
                <a:lnTo>
                  <a:pt x="28" y="102"/>
                </a:lnTo>
                <a:lnTo>
                  <a:pt x="13" y="108"/>
                </a:lnTo>
                <a:lnTo>
                  <a:pt x="36" y="131"/>
                </a:lnTo>
                <a:lnTo>
                  <a:pt x="65" y="144"/>
                </a:lnTo>
                <a:lnTo>
                  <a:pt x="94" y="144"/>
                </a:lnTo>
                <a:lnTo>
                  <a:pt x="115" y="137"/>
                </a:lnTo>
                <a:lnTo>
                  <a:pt x="151" y="116"/>
                </a:lnTo>
                <a:lnTo>
                  <a:pt x="151" y="66"/>
                </a:lnTo>
                <a:lnTo>
                  <a:pt x="138" y="35"/>
                </a:lnTo>
                <a:lnTo>
                  <a:pt x="115" y="22"/>
                </a:lnTo>
                <a:lnTo>
                  <a:pt x="94" y="0"/>
                </a:lnTo>
                <a:lnTo>
                  <a:pt x="86" y="0"/>
                </a:lnTo>
                <a:lnTo>
                  <a:pt x="86" y="66"/>
                </a:lnTo>
                <a:lnTo>
                  <a:pt x="78" y="71"/>
                </a:lnTo>
                <a:lnTo>
                  <a:pt x="50" y="66"/>
                </a:lnTo>
                <a:lnTo>
                  <a:pt x="36" y="58"/>
                </a:lnTo>
                <a:lnTo>
                  <a:pt x="42" y="29"/>
                </a:lnTo>
                <a:lnTo>
                  <a:pt x="73" y="22"/>
                </a:lnTo>
                <a:lnTo>
                  <a:pt x="86" y="29"/>
                </a:lnTo>
                <a:lnTo>
                  <a:pt x="86" y="50"/>
                </a:lnTo>
                <a:lnTo>
                  <a:pt x="86" y="66"/>
                </a:lnTo>
                <a:lnTo>
                  <a:pt x="86" y="0"/>
                </a:lnTo>
                <a:lnTo>
                  <a:pt x="94" y="123"/>
                </a:lnTo>
                <a:lnTo>
                  <a:pt x="123" y="123"/>
                </a:lnTo>
                <a:lnTo>
                  <a:pt x="107" y="131"/>
                </a:lnTo>
                <a:lnTo>
                  <a:pt x="94" y="123"/>
                </a:lnTo>
                <a:lnTo>
                  <a:pt x="86" y="0"/>
                </a:lnTo>
                <a:close/>
              </a:path>
            </a:pathLst>
          </a:custGeom>
          <a:gradFill rotWithShape="0">
            <a:gsLst>
              <a:gs pos="0">
                <a:srgbClr val="fcdccc"/>
              </a:gs>
              <a:gs pos="100000">
                <a:srgbClr val="e3560e"/>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16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166" name="PlaceHolder 2"/>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sp>
        <p:nvSpPr>
          <p:cNvPr id="167" name="PlaceHolder 3"/>
          <p:cNvSpPr>
            <a:spLocks noGrp="1"/>
          </p:cNvSpPr>
          <p:nvPr>
            <p:ph type="dt" idx="10"/>
          </p:nvPr>
        </p:nvSpPr>
        <p:spPr>
          <a:xfrm>
            <a:off x="-360" y="-360"/>
            <a:ext cx="213372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DF9C3-CEDE-40AE-8F45-60243BEC1DE5}"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168" name="PlaceHolder 4"/>
          <p:cNvSpPr>
            <a:spLocks noGrp="1"/>
          </p:cNvSpPr>
          <p:nvPr>
            <p:ph type="ftr" idx="11"/>
          </p:nvPr>
        </p:nvSpPr>
        <p:spPr>
          <a:xfrm>
            <a:off x="2199960" y="-360"/>
            <a:ext cx="4498920" cy="36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69" name="PlaceHolder 5"/>
          <p:cNvSpPr>
            <a:spLocks noGrp="1"/>
          </p:cNvSpPr>
          <p:nvPr>
            <p:ph type="sldNum" idx="12"/>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A6C63-DC0D-4BB5-B736-7C8163A0F663}"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図形グループ 1"/>
          <p:cNvGrpSpPr/>
          <p:nvPr/>
        </p:nvGrpSpPr>
        <p:grpSpPr>
          <a:xfrm>
            <a:off x="-28440" y="0"/>
            <a:ext cx="9171360" cy="6855480"/>
            <a:chOff x="-28440" y="0"/>
            <a:chExt cx="9171360" cy="6855480"/>
          </a:xfrm>
        </p:grpSpPr>
        <p:sp>
          <p:nvSpPr>
            <p:cNvPr id="207" name="フリーフォーム 17"/>
            <p:cNvSpPr/>
            <p:nvPr/>
          </p:nvSpPr>
          <p:spPr>
            <a:xfrm>
              <a:off x="-28440" y="5010120"/>
              <a:ext cx="5669640" cy="1821960"/>
            </a:xfrm>
            <a:custGeom>
              <a:avLst/>
              <a:gdLst>
                <a:gd name="textAreaLeft" fmla="*/ 0 w 5669640"/>
                <a:gd name="textAreaRight" fmla="*/ 5670000 w 5669640"/>
                <a:gd name="textAreaTop" fmla="*/ 0 h 1821960"/>
                <a:gd name="textAreaBottom" fmla="*/ 1822320 h 1821960"/>
              </a:gdLst>
              <a:ahLst/>
              <a:rect l="textAreaLeft" t="textAreaTop" r="textAreaRight" b="textAreaBottom"/>
              <a:pathLst>
                <a:path w="991" h="300">
                  <a:moveTo>
                    <a:pt x="0" y="0"/>
                  </a:moveTo>
                  <a:lnTo>
                    <a:pt x="15" y="14"/>
                  </a:lnTo>
                  <a:lnTo>
                    <a:pt x="32" y="33"/>
                  </a:lnTo>
                  <a:lnTo>
                    <a:pt x="57" y="54"/>
                  </a:lnTo>
                  <a:lnTo>
                    <a:pt x="92" y="79"/>
                  </a:lnTo>
                  <a:lnTo>
                    <a:pt x="132" y="106"/>
                  </a:lnTo>
                  <a:lnTo>
                    <a:pt x="182" y="133"/>
                  </a:lnTo>
                  <a:lnTo>
                    <a:pt x="236" y="163"/>
                  </a:lnTo>
                  <a:lnTo>
                    <a:pt x="301" y="192"/>
                  </a:lnTo>
                  <a:lnTo>
                    <a:pt x="374" y="219"/>
                  </a:lnTo>
                  <a:lnTo>
                    <a:pt x="457" y="244"/>
                  </a:lnTo>
                  <a:lnTo>
                    <a:pt x="501" y="255"/>
                  </a:lnTo>
                  <a:lnTo>
                    <a:pt x="545" y="267"/>
                  </a:lnTo>
                  <a:lnTo>
                    <a:pt x="595" y="275"/>
                  </a:lnTo>
                  <a:lnTo>
                    <a:pt x="647" y="282"/>
                  </a:lnTo>
                  <a:lnTo>
                    <a:pt x="699" y="290"/>
                  </a:lnTo>
                  <a:lnTo>
                    <a:pt x="752" y="294"/>
                  </a:lnTo>
                  <a:lnTo>
                    <a:pt x="810" y="298"/>
                  </a:lnTo>
                  <a:lnTo>
                    <a:pt x="868" y="300"/>
                  </a:lnTo>
                  <a:lnTo>
                    <a:pt x="927" y="298"/>
                  </a:lnTo>
                  <a:lnTo>
                    <a:pt x="991" y="296"/>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08" name="フリーフォーム 18"/>
            <p:cNvSpPr/>
            <p:nvPr/>
          </p:nvSpPr>
          <p:spPr>
            <a:xfrm>
              <a:off x="4782240" y="0"/>
              <a:ext cx="3907800" cy="6855480"/>
            </a:xfrm>
            <a:custGeom>
              <a:avLst/>
              <a:gdLst>
                <a:gd name="textAreaLeft" fmla="*/ 0 w 3907800"/>
                <a:gd name="textAreaRight" fmla="*/ 3908160 w 3907800"/>
                <a:gd name="textAreaTop" fmla="*/ 0 h 6855480"/>
                <a:gd name="textAreaBottom" fmla="*/ 6855840 h 6855480"/>
              </a:gdLst>
              <a:ahLst/>
              <a:rect l="textAreaLeft" t="textAreaTop" r="textAreaRight" b="textAreaBottom"/>
              <a:pathLst>
                <a:path w="539" h="1129">
                  <a:moveTo>
                    <a:pt x="0" y="1129"/>
                  </a:moveTo>
                  <a:lnTo>
                    <a:pt x="42" y="1125"/>
                  </a:lnTo>
                  <a:lnTo>
                    <a:pt x="132" y="1115"/>
                  </a:lnTo>
                  <a:lnTo>
                    <a:pt x="188" y="1106"/>
                  </a:lnTo>
                  <a:lnTo>
                    <a:pt x="241" y="1094"/>
                  </a:lnTo>
                  <a:lnTo>
                    <a:pt x="289" y="1079"/>
                  </a:lnTo>
                  <a:lnTo>
                    <a:pt x="311" y="1071"/>
                  </a:lnTo>
                  <a:lnTo>
                    <a:pt x="328" y="1062"/>
                  </a:lnTo>
                  <a:lnTo>
                    <a:pt x="339" y="1056"/>
                  </a:lnTo>
                  <a:lnTo>
                    <a:pt x="351" y="1048"/>
                  </a:lnTo>
                  <a:lnTo>
                    <a:pt x="366" y="1037"/>
                  </a:lnTo>
                  <a:lnTo>
                    <a:pt x="385" y="1019"/>
                  </a:lnTo>
                  <a:lnTo>
                    <a:pt x="405" y="998"/>
                  </a:lnTo>
                  <a:lnTo>
                    <a:pt x="426" y="969"/>
                  </a:lnTo>
                  <a:lnTo>
                    <a:pt x="449" y="939"/>
                  </a:lnTo>
                  <a:lnTo>
                    <a:pt x="470" y="898"/>
                  </a:lnTo>
                  <a:lnTo>
                    <a:pt x="489" y="848"/>
                  </a:lnTo>
                  <a:lnTo>
                    <a:pt x="506" y="793"/>
                  </a:lnTo>
                  <a:lnTo>
                    <a:pt x="520" y="727"/>
                  </a:lnTo>
                  <a:lnTo>
                    <a:pt x="531" y="655"/>
                  </a:lnTo>
                  <a:lnTo>
                    <a:pt x="537" y="572"/>
                  </a:lnTo>
                  <a:lnTo>
                    <a:pt x="539" y="530"/>
                  </a:lnTo>
                  <a:lnTo>
                    <a:pt x="537" y="482"/>
                  </a:lnTo>
                  <a:lnTo>
                    <a:pt x="535" y="432"/>
                  </a:lnTo>
                  <a:lnTo>
                    <a:pt x="533" y="378"/>
                  </a:lnTo>
                  <a:lnTo>
                    <a:pt x="531" y="357"/>
                  </a:lnTo>
                  <a:lnTo>
                    <a:pt x="524" y="286"/>
                  </a:lnTo>
                  <a:lnTo>
                    <a:pt x="516" y="232"/>
                  </a:lnTo>
                  <a:lnTo>
                    <a:pt x="503" y="169"/>
                  </a:lnTo>
                  <a:lnTo>
                    <a:pt x="487" y="90"/>
                  </a:lnTo>
                  <a:lnTo>
                    <a:pt x="466"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09" name="フリーフォーム 19"/>
            <p:cNvSpPr/>
            <p:nvPr/>
          </p:nvSpPr>
          <p:spPr>
            <a:xfrm>
              <a:off x="0" y="0"/>
              <a:ext cx="9131040" cy="6473880"/>
            </a:xfrm>
            <a:custGeom>
              <a:avLst/>
              <a:gdLst>
                <a:gd name="textAreaLeft" fmla="*/ 0 w 9131040"/>
                <a:gd name="textAreaRight" fmla="*/ 9131400 w 9131040"/>
                <a:gd name="textAreaTop" fmla="*/ 0 h 6473880"/>
                <a:gd name="textAreaBottom" fmla="*/ 6474240 h 6473880"/>
              </a:gdLst>
              <a:ahLst/>
              <a:rect l="textAreaLeft" t="textAreaTop" r="textAreaRight" b="textAreaBottom"/>
              <a:pathLst>
                <a:path w="1607" h="1085">
                  <a:moveTo>
                    <a:pt x="0" y="929"/>
                  </a:moveTo>
                  <a:lnTo>
                    <a:pt x="40" y="941"/>
                  </a:lnTo>
                  <a:lnTo>
                    <a:pt x="148" y="966"/>
                  </a:lnTo>
                  <a:lnTo>
                    <a:pt x="305" y="1000"/>
                  </a:lnTo>
                  <a:lnTo>
                    <a:pt x="399" y="1019"/>
                  </a:lnTo>
                  <a:lnTo>
                    <a:pt x="501" y="1037"/>
                  </a:lnTo>
                  <a:lnTo>
                    <a:pt x="608" y="1052"/>
                  </a:lnTo>
                  <a:lnTo>
                    <a:pt x="718" y="1067"/>
                  </a:lnTo>
                  <a:lnTo>
                    <a:pt x="827" y="1077"/>
                  </a:lnTo>
                  <a:lnTo>
                    <a:pt x="937" y="1083"/>
                  </a:lnTo>
                  <a:lnTo>
                    <a:pt x="991" y="1085"/>
                  </a:lnTo>
                  <a:lnTo>
                    <a:pt x="1044" y="1085"/>
                  </a:lnTo>
                  <a:lnTo>
                    <a:pt x="1096" y="1083"/>
                  </a:lnTo>
                  <a:lnTo>
                    <a:pt x="1146" y="1079"/>
                  </a:lnTo>
                  <a:lnTo>
                    <a:pt x="1194" y="1073"/>
                  </a:lnTo>
                  <a:lnTo>
                    <a:pt x="1240" y="1065"/>
                  </a:lnTo>
                  <a:lnTo>
                    <a:pt x="1284" y="1058"/>
                  </a:lnTo>
                  <a:lnTo>
                    <a:pt x="1327" y="1046"/>
                  </a:lnTo>
                  <a:lnTo>
                    <a:pt x="1338" y="1042"/>
                  </a:lnTo>
                  <a:lnTo>
                    <a:pt x="1371" y="1031"/>
                  </a:lnTo>
                  <a:lnTo>
                    <a:pt x="1392" y="1019"/>
                  </a:lnTo>
                  <a:lnTo>
                    <a:pt x="1415" y="1008"/>
                  </a:lnTo>
                  <a:lnTo>
                    <a:pt x="1444" y="990"/>
                  </a:lnTo>
                  <a:lnTo>
                    <a:pt x="1469" y="971"/>
                  </a:lnTo>
                  <a:lnTo>
                    <a:pt x="1496" y="950"/>
                  </a:lnTo>
                  <a:lnTo>
                    <a:pt x="1520" y="923"/>
                  </a:lnTo>
                  <a:lnTo>
                    <a:pt x="1544" y="893"/>
                  </a:lnTo>
                  <a:lnTo>
                    <a:pt x="1565" y="854"/>
                  </a:lnTo>
                  <a:lnTo>
                    <a:pt x="1582" y="814"/>
                  </a:lnTo>
                  <a:lnTo>
                    <a:pt x="1590" y="791"/>
                  </a:lnTo>
                  <a:lnTo>
                    <a:pt x="1595" y="768"/>
                  </a:lnTo>
                  <a:lnTo>
                    <a:pt x="1601" y="743"/>
                  </a:lnTo>
                  <a:lnTo>
                    <a:pt x="1605" y="716"/>
                  </a:lnTo>
                  <a:lnTo>
                    <a:pt x="1607" y="689"/>
                  </a:lnTo>
                  <a:lnTo>
                    <a:pt x="1607" y="660"/>
                  </a:lnTo>
                  <a:lnTo>
                    <a:pt x="1607" y="643"/>
                  </a:lnTo>
                  <a:lnTo>
                    <a:pt x="1607" y="599"/>
                  </a:lnTo>
                  <a:lnTo>
                    <a:pt x="1599" y="530"/>
                  </a:lnTo>
                  <a:lnTo>
                    <a:pt x="1593" y="487"/>
                  </a:lnTo>
                  <a:lnTo>
                    <a:pt x="1586" y="441"/>
                  </a:lnTo>
                  <a:lnTo>
                    <a:pt x="1574" y="391"/>
                  </a:lnTo>
                  <a:lnTo>
                    <a:pt x="1559" y="340"/>
                  </a:lnTo>
                  <a:lnTo>
                    <a:pt x="1542" y="282"/>
                  </a:lnTo>
                  <a:lnTo>
                    <a:pt x="1519" y="226"/>
                  </a:lnTo>
                  <a:lnTo>
                    <a:pt x="1492" y="171"/>
                  </a:lnTo>
                  <a:lnTo>
                    <a:pt x="1461" y="113"/>
                  </a:lnTo>
                  <a:lnTo>
                    <a:pt x="1424" y="56"/>
                  </a:lnTo>
                  <a:lnTo>
                    <a:pt x="1378"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10" name="フリーフォーム 21"/>
            <p:cNvSpPr/>
            <p:nvPr/>
          </p:nvSpPr>
          <p:spPr>
            <a:xfrm>
              <a:off x="16920" y="2575080"/>
              <a:ext cx="9126000" cy="3989520"/>
            </a:xfrm>
            <a:custGeom>
              <a:avLst/>
              <a:gdLst>
                <a:gd name="textAreaLeft" fmla="*/ 0 w 9126000"/>
                <a:gd name="textAreaRight" fmla="*/ 9126360 w 9126000"/>
                <a:gd name="textAreaTop" fmla="*/ 0 h 3989520"/>
                <a:gd name="textAreaBottom" fmla="*/ 3989880 h 3989520"/>
              </a:gdLst>
              <a:ahLst/>
              <a:rect l="textAreaLeft" t="textAreaTop" r="textAreaRight" b="textAreaBottom"/>
              <a:pathLst>
                <a:path w="1620" h="657">
                  <a:moveTo>
                    <a:pt x="0" y="584"/>
                  </a:moveTo>
                  <a:lnTo>
                    <a:pt x="29" y="590"/>
                  </a:lnTo>
                  <a:lnTo>
                    <a:pt x="109" y="605"/>
                  </a:lnTo>
                  <a:lnTo>
                    <a:pt x="234" y="624"/>
                  </a:lnTo>
                  <a:lnTo>
                    <a:pt x="303" y="634"/>
                  </a:lnTo>
                  <a:lnTo>
                    <a:pt x="382" y="642"/>
                  </a:lnTo>
                  <a:lnTo>
                    <a:pt x="468" y="649"/>
                  </a:lnTo>
                  <a:lnTo>
                    <a:pt x="557" y="653"/>
                  </a:lnTo>
                  <a:lnTo>
                    <a:pt x="651" y="657"/>
                  </a:lnTo>
                  <a:lnTo>
                    <a:pt x="743" y="655"/>
                  </a:lnTo>
                  <a:lnTo>
                    <a:pt x="835" y="651"/>
                  </a:lnTo>
                  <a:lnTo>
                    <a:pt x="927" y="643"/>
                  </a:lnTo>
                  <a:lnTo>
                    <a:pt x="1017" y="630"/>
                  </a:lnTo>
                  <a:lnTo>
                    <a:pt x="1062" y="620"/>
                  </a:lnTo>
                  <a:lnTo>
                    <a:pt x="1104" y="611"/>
                  </a:lnTo>
                  <a:lnTo>
                    <a:pt x="1117" y="607"/>
                  </a:lnTo>
                  <a:lnTo>
                    <a:pt x="1156" y="597"/>
                  </a:lnTo>
                  <a:lnTo>
                    <a:pt x="1213" y="576"/>
                  </a:lnTo>
                  <a:lnTo>
                    <a:pt x="1246" y="563"/>
                  </a:lnTo>
                  <a:lnTo>
                    <a:pt x="1280" y="547"/>
                  </a:lnTo>
                  <a:lnTo>
                    <a:pt x="1319" y="528"/>
                  </a:lnTo>
                  <a:lnTo>
                    <a:pt x="1355" y="507"/>
                  </a:lnTo>
                  <a:lnTo>
                    <a:pt x="1394" y="482"/>
                  </a:lnTo>
                  <a:lnTo>
                    <a:pt x="1434" y="451"/>
                  </a:lnTo>
                  <a:lnTo>
                    <a:pt x="1471" y="419"/>
                  </a:lnTo>
                  <a:lnTo>
                    <a:pt x="1503" y="380"/>
                  </a:lnTo>
                  <a:lnTo>
                    <a:pt x="1536" y="338"/>
                  </a:lnTo>
                  <a:lnTo>
                    <a:pt x="1549" y="317"/>
                  </a:lnTo>
                  <a:lnTo>
                    <a:pt x="1563" y="294"/>
                  </a:lnTo>
                  <a:lnTo>
                    <a:pt x="1572" y="265"/>
                  </a:lnTo>
                  <a:lnTo>
                    <a:pt x="1582" y="235"/>
                  </a:lnTo>
                  <a:lnTo>
                    <a:pt x="1593" y="196"/>
                  </a:lnTo>
                  <a:lnTo>
                    <a:pt x="1605" y="150"/>
                  </a:lnTo>
                  <a:lnTo>
                    <a:pt x="1615" y="102"/>
                  </a:lnTo>
                  <a:lnTo>
                    <a:pt x="1620" y="52"/>
                  </a:lnTo>
                  <a:lnTo>
                    <a:pt x="1620" y="25"/>
                  </a:lnTo>
                  <a:lnTo>
                    <a:pt x="162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11" name="フリーフォーム 22"/>
            <p:cNvSpPr/>
            <p:nvPr/>
          </p:nvSpPr>
          <p:spPr>
            <a:xfrm>
              <a:off x="2408040" y="0"/>
              <a:ext cx="6533640" cy="6832080"/>
            </a:xfrm>
            <a:custGeom>
              <a:avLst/>
              <a:gdLst>
                <a:gd name="textAreaLeft" fmla="*/ 0 w 6533640"/>
                <a:gd name="textAreaRight" fmla="*/ 6534000 w 6533640"/>
                <a:gd name="textAreaTop" fmla="*/ 0 h 6832080"/>
                <a:gd name="textAreaBottom" fmla="*/ 6832440 h 6832080"/>
              </a:gdLst>
              <a:ahLst/>
              <a:rect l="textAreaLeft" t="textAreaTop" r="textAreaRight" b="textAreaBottom"/>
              <a:pathLst>
                <a:path w="1142" h="1146">
                  <a:moveTo>
                    <a:pt x="0" y="1144"/>
                  </a:moveTo>
                  <a:lnTo>
                    <a:pt x="36" y="1146"/>
                  </a:lnTo>
                  <a:lnTo>
                    <a:pt x="132" y="1144"/>
                  </a:lnTo>
                  <a:lnTo>
                    <a:pt x="200" y="1142"/>
                  </a:lnTo>
                  <a:lnTo>
                    <a:pt x="274" y="1136"/>
                  </a:lnTo>
                  <a:lnTo>
                    <a:pt x="355" y="1131"/>
                  </a:lnTo>
                  <a:lnTo>
                    <a:pt x="438" y="1119"/>
                  </a:lnTo>
                  <a:lnTo>
                    <a:pt x="526" y="1106"/>
                  </a:lnTo>
                  <a:lnTo>
                    <a:pt x="614" y="1087"/>
                  </a:lnTo>
                  <a:lnTo>
                    <a:pt x="658" y="1075"/>
                  </a:lnTo>
                  <a:lnTo>
                    <a:pt x="701" y="1064"/>
                  </a:lnTo>
                  <a:lnTo>
                    <a:pt x="743" y="1050"/>
                  </a:lnTo>
                  <a:lnTo>
                    <a:pt x="783" y="1035"/>
                  </a:lnTo>
                  <a:lnTo>
                    <a:pt x="822" y="1017"/>
                  </a:lnTo>
                  <a:lnTo>
                    <a:pt x="860" y="998"/>
                  </a:lnTo>
                  <a:lnTo>
                    <a:pt x="895" y="979"/>
                  </a:lnTo>
                  <a:lnTo>
                    <a:pt x="927" y="958"/>
                  </a:lnTo>
                  <a:lnTo>
                    <a:pt x="958" y="935"/>
                  </a:lnTo>
                  <a:lnTo>
                    <a:pt x="985" y="910"/>
                  </a:lnTo>
                  <a:lnTo>
                    <a:pt x="1012" y="883"/>
                  </a:lnTo>
                  <a:lnTo>
                    <a:pt x="1033" y="852"/>
                  </a:lnTo>
                  <a:lnTo>
                    <a:pt x="1040" y="841"/>
                  </a:lnTo>
                  <a:lnTo>
                    <a:pt x="1060" y="808"/>
                  </a:lnTo>
                  <a:lnTo>
                    <a:pt x="1073" y="783"/>
                  </a:lnTo>
                  <a:lnTo>
                    <a:pt x="1085" y="751"/>
                  </a:lnTo>
                  <a:lnTo>
                    <a:pt x="1098" y="712"/>
                  </a:lnTo>
                  <a:lnTo>
                    <a:pt x="1112" y="664"/>
                  </a:lnTo>
                  <a:lnTo>
                    <a:pt x="1123" y="610"/>
                  </a:lnTo>
                  <a:lnTo>
                    <a:pt x="1133" y="551"/>
                  </a:lnTo>
                  <a:lnTo>
                    <a:pt x="1140" y="482"/>
                  </a:lnTo>
                  <a:lnTo>
                    <a:pt x="1142" y="403"/>
                  </a:lnTo>
                  <a:lnTo>
                    <a:pt x="1142" y="317"/>
                  </a:lnTo>
                  <a:lnTo>
                    <a:pt x="1136" y="219"/>
                  </a:lnTo>
                  <a:lnTo>
                    <a:pt x="1127" y="115"/>
                  </a:lnTo>
                  <a:lnTo>
                    <a:pt x="111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12" name="フリーフォーム 23"/>
            <p:cNvSpPr/>
            <p:nvPr/>
          </p:nvSpPr>
          <p:spPr>
            <a:xfrm>
              <a:off x="7448400" y="0"/>
              <a:ext cx="1694160" cy="1494000"/>
            </a:xfrm>
            <a:custGeom>
              <a:avLst/>
              <a:gdLst>
                <a:gd name="textAreaLeft" fmla="*/ 0 w 1694160"/>
                <a:gd name="textAreaRight" fmla="*/ 1694520 w 1694160"/>
                <a:gd name="textAreaTop" fmla="*/ 0 h 1494000"/>
                <a:gd name="textAreaBottom" fmla="*/ 1494360 h 1494000"/>
              </a:gdLst>
              <a:ahLst/>
              <a:rect l="textAreaLeft" t="textAreaTop" r="textAreaRight" b="textAreaBottom"/>
              <a:pathLst>
                <a:path w="309" h="263">
                  <a:moveTo>
                    <a:pt x="0" y="0"/>
                  </a:moveTo>
                  <a:lnTo>
                    <a:pt x="39" y="19"/>
                  </a:lnTo>
                  <a:lnTo>
                    <a:pt x="79" y="42"/>
                  </a:lnTo>
                  <a:lnTo>
                    <a:pt x="131" y="73"/>
                  </a:lnTo>
                  <a:lnTo>
                    <a:pt x="156" y="90"/>
                  </a:lnTo>
                  <a:lnTo>
                    <a:pt x="183" y="111"/>
                  </a:lnTo>
                  <a:lnTo>
                    <a:pt x="209" y="132"/>
                  </a:lnTo>
                  <a:lnTo>
                    <a:pt x="232" y="155"/>
                  </a:lnTo>
                  <a:lnTo>
                    <a:pt x="257" y="180"/>
                  </a:lnTo>
                  <a:lnTo>
                    <a:pt x="277" y="205"/>
                  </a:lnTo>
                  <a:lnTo>
                    <a:pt x="296" y="234"/>
                  </a:lnTo>
                  <a:lnTo>
                    <a:pt x="309" y="263"/>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13" name="フリーフォーム 24"/>
            <p:cNvSpPr/>
            <p:nvPr/>
          </p:nvSpPr>
          <p:spPr>
            <a:xfrm>
              <a:off x="0" y="5877720"/>
              <a:ext cx="5439960" cy="954360"/>
            </a:xfrm>
            <a:custGeom>
              <a:avLst/>
              <a:gdLst>
                <a:gd name="textAreaLeft" fmla="*/ 0 w 5439960"/>
                <a:gd name="textAreaRight" fmla="*/ 5440320 w 5439960"/>
                <a:gd name="textAreaTop" fmla="*/ 0 h 954360"/>
                <a:gd name="textAreaBottom" fmla="*/ 954720 h 954360"/>
              </a:gdLst>
              <a:ahLst/>
              <a:rect l="textAreaLeft" t="textAreaTop" r="textAreaRight" b="textAreaBottom"/>
              <a:pathLst>
                <a:path w="960" h="157">
                  <a:moveTo>
                    <a:pt x="0" y="0"/>
                  </a:moveTo>
                  <a:lnTo>
                    <a:pt x="98" y="27"/>
                  </a:lnTo>
                  <a:lnTo>
                    <a:pt x="209" y="53"/>
                  </a:lnTo>
                  <a:lnTo>
                    <a:pt x="340" y="84"/>
                  </a:lnTo>
                  <a:lnTo>
                    <a:pt x="493" y="113"/>
                  </a:lnTo>
                  <a:lnTo>
                    <a:pt x="572" y="126"/>
                  </a:lnTo>
                  <a:lnTo>
                    <a:pt x="654" y="138"/>
                  </a:lnTo>
                  <a:lnTo>
                    <a:pt x="735" y="146"/>
                  </a:lnTo>
                  <a:lnTo>
                    <a:pt x="812" y="153"/>
                  </a:lnTo>
                  <a:lnTo>
                    <a:pt x="887" y="157"/>
                  </a:lnTo>
                  <a:lnTo>
                    <a:pt x="960" y="155"/>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grpSp>
      <p:pic>
        <p:nvPicPr>
          <p:cNvPr id="214" name="図形グループ 2" descr=""/>
          <p:cNvPicPr/>
          <p:nvPr/>
        </p:nvPicPr>
        <p:blipFill>
          <a:blip r:embed="rId3"/>
          <a:stretch/>
        </p:blipFill>
        <p:spPr>
          <a:xfrm>
            <a:off x="8058240" y="5846760"/>
            <a:ext cx="1085760" cy="1023840"/>
          </a:xfrm>
          <a:prstGeom prst="rect">
            <a:avLst/>
          </a:prstGeom>
          <a:ln w="0">
            <a:noFill/>
          </a:ln>
        </p:spPr>
      </p:pic>
      <p:sp>
        <p:nvSpPr>
          <p:cNvPr id="21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216" name="PlaceHolder 2"/>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sp>
        <p:nvSpPr>
          <p:cNvPr id="217" name="PlaceHolder 3"/>
          <p:cNvSpPr>
            <a:spLocks noGrp="1"/>
          </p:cNvSpPr>
          <p:nvPr>
            <p:ph type="dt" idx="13"/>
          </p:nvPr>
        </p:nvSpPr>
        <p:spPr>
          <a:xfrm>
            <a:off x="-360" y="-360"/>
            <a:ext cx="213516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3673C-6AC5-4347-BC44-48EF5CA44A97}"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218" name="PlaceHolder 4"/>
          <p:cNvSpPr>
            <a:spLocks noGrp="1"/>
          </p:cNvSpPr>
          <p:nvPr>
            <p:ph type="ftr" idx="14"/>
          </p:nvPr>
        </p:nvSpPr>
        <p:spPr>
          <a:xfrm>
            <a:off x="2199960" y="-360"/>
            <a:ext cx="4498920" cy="36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19" name="PlaceHolder 5"/>
          <p:cNvSpPr>
            <a:spLocks noGrp="1"/>
          </p:cNvSpPr>
          <p:nvPr>
            <p:ph type="sldNum" idx="15"/>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8A98A-5982-4610-8D36-54E25A02CCB1}"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6" name="図形グループ 1"/>
          <p:cNvGrpSpPr/>
          <p:nvPr/>
        </p:nvGrpSpPr>
        <p:grpSpPr>
          <a:xfrm>
            <a:off x="-28440" y="0"/>
            <a:ext cx="9171360" cy="6855480"/>
            <a:chOff x="-28440" y="0"/>
            <a:chExt cx="9171360" cy="6855480"/>
          </a:xfrm>
        </p:grpSpPr>
        <p:sp>
          <p:nvSpPr>
            <p:cNvPr id="257" name="フリーフォーム 17"/>
            <p:cNvSpPr/>
            <p:nvPr/>
          </p:nvSpPr>
          <p:spPr>
            <a:xfrm>
              <a:off x="-28440" y="5010120"/>
              <a:ext cx="5669640" cy="1821960"/>
            </a:xfrm>
            <a:custGeom>
              <a:avLst/>
              <a:gdLst>
                <a:gd name="textAreaLeft" fmla="*/ 0 w 5669640"/>
                <a:gd name="textAreaRight" fmla="*/ 5670000 w 5669640"/>
                <a:gd name="textAreaTop" fmla="*/ 0 h 1821960"/>
                <a:gd name="textAreaBottom" fmla="*/ 1822320 h 1821960"/>
              </a:gdLst>
              <a:ahLst/>
              <a:rect l="textAreaLeft" t="textAreaTop" r="textAreaRight" b="textAreaBottom"/>
              <a:pathLst>
                <a:path w="991" h="300">
                  <a:moveTo>
                    <a:pt x="0" y="0"/>
                  </a:moveTo>
                  <a:lnTo>
                    <a:pt x="15" y="14"/>
                  </a:lnTo>
                  <a:lnTo>
                    <a:pt x="32" y="33"/>
                  </a:lnTo>
                  <a:lnTo>
                    <a:pt x="57" y="54"/>
                  </a:lnTo>
                  <a:lnTo>
                    <a:pt x="92" y="79"/>
                  </a:lnTo>
                  <a:lnTo>
                    <a:pt x="132" y="106"/>
                  </a:lnTo>
                  <a:lnTo>
                    <a:pt x="182" y="133"/>
                  </a:lnTo>
                  <a:lnTo>
                    <a:pt x="236" y="163"/>
                  </a:lnTo>
                  <a:lnTo>
                    <a:pt x="301" y="192"/>
                  </a:lnTo>
                  <a:lnTo>
                    <a:pt x="374" y="219"/>
                  </a:lnTo>
                  <a:lnTo>
                    <a:pt x="457" y="244"/>
                  </a:lnTo>
                  <a:lnTo>
                    <a:pt x="501" y="255"/>
                  </a:lnTo>
                  <a:lnTo>
                    <a:pt x="545" y="267"/>
                  </a:lnTo>
                  <a:lnTo>
                    <a:pt x="595" y="275"/>
                  </a:lnTo>
                  <a:lnTo>
                    <a:pt x="647" y="282"/>
                  </a:lnTo>
                  <a:lnTo>
                    <a:pt x="699" y="290"/>
                  </a:lnTo>
                  <a:lnTo>
                    <a:pt x="752" y="294"/>
                  </a:lnTo>
                  <a:lnTo>
                    <a:pt x="810" y="298"/>
                  </a:lnTo>
                  <a:lnTo>
                    <a:pt x="868" y="300"/>
                  </a:lnTo>
                  <a:lnTo>
                    <a:pt x="927" y="298"/>
                  </a:lnTo>
                  <a:lnTo>
                    <a:pt x="991" y="296"/>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58" name="フリーフォーム 18"/>
            <p:cNvSpPr/>
            <p:nvPr/>
          </p:nvSpPr>
          <p:spPr>
            <a:xfrm>
              <a:off x="4782240" y="0"/>
              <a:ext cx="3907800" cy="6855480"/>
            </a:xfrm>
            <a:custGeom>
              <a:avLst/>
              <a:gdLst>
                <a:gd name="textAreaLeft" fmla="*/ 0 w 3907800"/>
                <a:gd name="textAreaRight" fmla="*/ 3908160 w 3907800"/>
                <a:gd name="textAreaTop" fmla="*/ 0 h 6855480"/>
                <a:gd name="textAreaBottom" fmla="*/ 6855840 h 6855480"/>
              </a:gdLst>
              <a:ahLst/>
              <a:rect l="textAreaLeft" t="textAreaTop" r="textAreaRight" b="textAreaBottom"/>
              <a:pathLst>
                <a:path w="539" h="1129">
                  <a:moveTo>
                    <a:pt x="0" y="1129"/>
                  </a:moveTo>
                  <a:lnTo>
                    <a:pt x="42" y="1125"/>
                  </a:lnTo>
                  <a:lnTo>
                    <a:pt x="132" y="1115"/>
                  </a:lnTo>
                  <a:lnTo>
                    <a:pt x="188" y="1106"/>
                  </a:lnTo>
                  <a:lnTo>
                    <a:pt x="241" y="1094"/>
                  </a:lnTo>
                  <a:lnTo>
                    <a:pt x="289" y="1079"/>
                  </a:lnTo>
                  <a:lnTo>
                    <a:pt x="311" y="1071"/>
                  </a:lnTo>
                  <a:lnTo>
                    <a:pt x="328" y="1062"/>
                  </a:lnTo>
                  <a:lnTo>
                    <a:pt x="339" y="1056"/>
                  </a:lnTo>
                  <a:lnTo>
                    <a:pt x="351" y="1048"/>
                  </a:lnTo>
                  <a:lnTo>
                    <a:pt x="366" y="1037"/>
                  </a:lnTo>
                  <a:lnTo>
                    <a:pt x="385" y="1019"/>
                  </a:lnTo>
                  <a:lnTo>
                    <a:pt x="405" y="998"/>
                  </a:lnTo>
                  <a:lnTo>
                    <a:pt x="426" y="969"/>
                  </a:lnTo>
                  <a:lnTo>
                    <a:pt x="449" y="939"/>
                  </a:lnTo>
                  <a:lnTo>
                    <a:pt x="470" y="898"/>
                  </a:lnTo>
                  <a:lnTo>
                    <a:pt x="489" y="848"/>
                  </a:lnTo>
                  <a:lnTo>
                    <a:pt x="506" y="793"/>
                  </a:lnTo>
                  <a:lnTo>
                    <a:pt x="520" y="727"/>
                  </a:lnTo>
                  <a:lnTo>
                    <a:pt x="531" y="655"/>
                  </a:lnTo>
                  <a:lnTo>
                    <a:pt x="537" y="572"/>
                  </a:lnTo>
                  <a:lnTo>
                    <a:pt x="539" y="530"/>
                  </a:lnTo>
                  <a:lnTo>
                    <a:pt x="537" y="482"/>
                  </a:lnTo>
                  <a:lnTo>
                    <a:pt x="535" y="432"/>
                  </a:lnTo>
                  <a:lnTo>
                    <a:pt x="533" y="378"/>
                  </a:lnTo>
                  <a:lnTo>
                    <a:pt x="531" y="357"/>
                  </a:lnTo>
                  <a:lnTo>
                    <a:pt x="524" y="286"/>
                  </a:lnTo>
                  <a:lnTo>
                    <a:pt x="516" y="232"/>
                  </a:lnTo>
                  <a:lnTo>
                    <a:pt x="503" y="169"/>
                  </a:lnTo>
                  <a:lnTo>
                    <a:pt x="487" y="90"/>
                  </a:lnTo>
                  <a:lnTo>
                    <a:pt x="466"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59" name="フリーフォーム 19"/>
            <p:cNvSpPr/>
            <p:nvPr/>
          </p:nvSpPr>
          <p:spPr>
            <a:xfrm>
              <a:off x="0" y="0"/>
              <a:ext cx="9131040" cy="6473880"/>
            </a:xfrm>
            <a:custGeom>
              <a:avLst/>
              <a:gdLst>
                <a:gd name="textAreaLeft" fmla="*/ 0 w 9131040"/>
                <a:gd name="textAreaRight" fmla="*/ 9131400 w 9131040"/>
                <a:gd name="textAreaTop" fmla="*/ 0 h 6473880"/>
                <a:gd name="textAreaBottom" fmla="*/ 6474240 h 6473880"/>
              </a:gdLst>
              <a:ahLst/>
              <a:rect l="textAreaLeft" t="textAreaTop" r="textAreaRight" b="textAreaBottom"/>
              <a:pathLst>
                <a:path w="1607" h="1085">
                  <a:moveTo>
                    <a:pt x="0" y="929"/>
                  </a:moveTo>
                  <a:lnTo>
                    <a:pt x="40" y="941"/>
                  </a:lnTo>
                  <a:lnTo>
                    <a:pt x="148" y="966"/>
                  </a:lnTo>
                  <a:lnTo>
                    <a:pt x="305" y="1000"/>
                  </a:lnTo>
                  <a:lnTo>
                    <a:pt x="399" y="1019"/>
                  </a:lnTo>
                  <a:lnTo>
                    <a:pt x="501" y="1037"/>
                  </a:lnTo>
                  <a:lnTo>
                    <a:pt x="608" y="1052"/>
                  </a:lnTo>
                  <a:lnTo>
                    <a:pt x="718" y="1067"/>
                  </a:lnTo>
                  <a:lnTo>
                    <a:pt x="827" y="1077"/>
                  </a:lnTo>
                  <a:lnTo>
                    <a:pt x="937" y="1083"/>
                  </a:lnTo>
                  <a:lnTo>
                    <a:pt x="991" y="1085"/>
                  </a:lnTo>
                  <a:lnTo>
                    <a:pt x="1044" y="1085"/>
                  </a:lnTo>
                  <a:lnTo>
                    <a:pt x="1096" y="1083"/>
                  </a:lnTo>
                  <a:lnTo>
                    <a:pt x="1146" y="1079"/>
                  </a:lnTo>
                  <a:lnTo>
                    <a:pt x="1194" y="1073"/>
                  </a:lnTo>
                  <a:lnTo>
                    <a:pt x="1240" y="1065"/>
                  </a:lnTo>
                  <a:lnTo>
                    <a:pt x="1284" y="1058"/>
                  </a:lnTo>
                  <a:lnTo>
                    <a:pt x="1327" y="1046"/>
                  </a:lnTo>
                  <a:lnTo>
                    <a:pt x="1338" y="1042"/>
                  </a:lnTo>
                  <a:lnTo>
                    <a:pt x="1371" y="1031"/>
                  </a:lnTo>
                  <a:lnTo>
                    <a:pt x="1392" y="1019"/>
                  </a:lnTo>
                  <a:lnTo>
                    <a:pt x="1415" y="1008"/>
                  </a:lnTo>
                  <a:lnTo>
                    <a:pt x="1444" y="990"/>
                  </a:lnTo>
                  <a:lnTo>
                    <a:pt x="1469" y="971"/>
                  </a:lnTo>
                  <a:lnTo>
                    <a:pt x="1496" y="950"/>
                  </a:lnTo>
                  <a:lnTo>
                    <a:pt x="1520" y="923"/>
                  </a:lnTo>
                  <a:lnTo>
                    <a:pt x="1544" y="893"/>
                  </a:lnTo>
                  <a:lnTo>
                    <a:pt x="1565" y="854"/>
                  </a:lnTo>
                  <a:lnTo>
                    <a:pt x="1582" y="814"/>
                  </a:lnTo>
                  <a:lnTo>
                    <a:pt x="1590" y="791"/>
                  </a:lnTo>
                  <a:lnTo>
                    <a:pt x="1595" y="768"/>
                  </a:lnTo>
                  <a:lnTo>
                    <a:pt x="1601" y="743"/>
                  </a:lnTo>
                  <a:lnTo>
                    <a:pt x="1605" y="716"/>
                  </a:lnTo>
                  <a:lnTo>
                    <a:pt x="1607" y="689"/>
                  </a:lnTo>
                  <a:lnTo>
                    <a:pt x="1607" y="660"/>
                  </a:lnTo>
                  <a:lnTo>
                    <a:pt x="1607" y="643"/>
                  </a:lnTo>
                  <a:lnTo>
                    <a:pt x="1607" y="599"/>
                  </a:lnTo>
                  <a:lnTo>
                    <a:pt x="1599" y="530"/>
                  </a:lnTo>
                  <a:lnTo>
                    <a:pt x="1593" y="487"/>
                  </a:lnTo>
                  <a:lnTo>
                    <a:pt x="1586" y="441"/>
                  </a:lnTo>
                  <a:lnTo>
                    <a:pt x="1574" y="391"/>
                  </a:lnTo>
                  <a:lnTo>
                    <a:pt x="1559" y="340"/>
                  </a:lnTo>
                  <a:lnTo>
                    <a:pt x="1542" y="282"/>
                  </a:lnTo>
                  <a:lnTo>
                    <a:pt x="1519" y="226"/>
                  </a:lnTo>
                  <a:lnTo>
                    <a:pt x="1492" y="171"/>
                  </a:lnTo>
                  <a:lnTo>
                    <a:pt x="1461" y="113"/>
                  </a:lnTo>
                  <a:lnTo>
                    <a:pt x="1424" y="56"/>
                  </a:lnTo>
                  <a:lnTo>
                    <a:pt x="1378"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60" name="フリーフォーム 21"/>
            <p:cNvSpPr/>
            <p:nvPr/>
          </p:nvSpPr>
          <p:spPr>
            <a:xfrm>
              <a:off x="16920" y="2575080"/>
              <a:ext cx="9126000" cy="3989520"/>
            </a:xfrm>
            <a:custGeom>
              <a:avLst/>
              <a:gdLst>
                <a:gd name="textAreaLeft" fmla="*/ 0 w 9126000"/>
                <a:gd name="textAreaRight" fmla="*/ 9126360 w 9126000"/>
                <a:gd name="textAreaTop" fmla="*/ 0 h 3989520"/>
                <a:gd name="textAreaBottom" fmla="*/ 3989880 h 3989520"/>
              </a:gdLst>
              <a:ahLst/>
              <a:rect l="textAreaLeft" t="textAreaTop" r="textAreaRight" b="textAreaBottom"/>
              <a:pathLst>
                <a:path w="1620" h="657">
                  <a:moveTo>
                    <a:pt x="0" y="584"/>
                  </a:moveTo>
                  <a:lnTo>
                    <a:pt x="29" y="590"/>
                  </a:lnTo>
                  <a:lnTo>
                    <a:pt x="109" y="605"/>
                  </a:lnTo>
                  <a:lnTo>
                    <a:pt x="234" y="624"/>
                  </a:lnTo>
                  <a:lnTo>
                    <a:pt x="303" y="634"/>
                  </a:lnTo>
                  <a:lnTo>
                    <a:pt x="382" y="642"/>
                  </a:lnTo>
                  <a:lnTo>
                    <a:pt x="468" y="649"/>
                  </a:lnTo>
                  <a:lnTo>
                    <a:pt x="557" y="653"/>
                  </a:lnTo>
                  <a:lnTo>
                    <a:pt x="651" y="657"/>
                  </a:lnTo>
                  <a:lnTo>
                    <a:pt x="743" y="655"/>
                  </a:lnTo>
                  <a:lnTo>
                    <a:pt x="835" y="651"/>
                  </a:lnTo>
                  <a:lnTo>
                    <a:pt x="927" y="643"/>
                  </a:lnTo>
                  <a:lnTo>
                    <a:pt x="1017" y="630"/>
                  </a:lnTo>
                  <a:lnTo>
                    <a:pt x="1062" y="620"/>
                  </a:lnTo>
                  <a:lnTo>
                    <a:pt x="1104" y="611"/>
                  </a:lnTo>
                  <a:lnTo>
                    <a:pt x="1117" y="607"/>
                  </a:lnTo>
                  <a:lnTo>
                    <a:pt x="1156" y="597"/>
                  </a:lnTo>
                  <a:lnTo>
                    <a:pt x="1213" y="576"/>
                  </a:lnTo>
                  <a:lnTo>
                    <a:pt x="1246" y="563"/>
                  </a:lnTo>
                  <a:lnTo>
                    <a:pt x="1280" y="547"/>
                  </a:lnTo>
                  <a:lnTo>
                    <a:pt x="1319" y="528"/>
                  </a:lnTo>
                  <a:lnTo>
                    <a:pt x="1355" y="507"/>
                  </a:lnTo>
                  <a:lnTo>
                    <a:pt x="1394" y="482"/>
                  </a:lnTo>
                  <a:lnTo>
                    <a:pt x="1434" y="451"/>
                  </a:lnTo>
                  <a:lnTo>
                    <a:pt x="1471" y="419"/>
                  </a:lnTo>
                  <a:lnTo>
                    <a:pt x="1503" y="380"/>
                  </a:lnTo>
                  <a:lnTo>
                    <a:pt x="1536" y="338"/>
                  </a:lnTo>
                  <a:lnTo>
                    <a:pt x="1549" y="317"/>
                  </a:lnTo>
                  <a:lnTo>
                    <a:pt x="1563" y="294"/>
                  </a:lnTo>
                  <a:lnTo>
                    <a:pt x="1572" y="265"/>
                  </a:lnTo>
                  <a:lnTo>
                    <a:pt x="1582" y="235"/>
                  </a:lnTo>
                  <a:lnTo>
                    <a:pt x="1593" y="196"/>
                  </a:lnTo>
                  <a:lnTo>
                    <a:pt x="1605" y="150"/>
                  </a:lnTo>
                  <a:lnTo>
                    <a:pt x="1615" y="102"/>
                  </a:lnTo>
                  <a:lnTo>
                    <a:pt x="1620" y="52"/>
                  </a:lnTo>
                  <a:lnTo>
                    <a:pt x="1620" y="25"/>
                  </a:lnTo>
                  <a:lnTo>
                    <a:pt x="162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61" name="フリーフォーム 22"/>
            <p:cNvSpPr/>
            <p:nvPr/>
          </p:nvSpPr>
          <p:spPr>
            <a:xfrm>
              <a:off x="2408040" y="0"/>
              <a:ext cx="6533640" cy="6832080"/>
            </a:xfrm>
            <a:custGeom>
              <a:avLst/>
              <a:gdLst>
                <a:gd name="textAreaLeft" fmla="*/ 0 w 6533640"/>
                <a:gd name="textAreaRight" fmla="*/ 6534000 w 6533640"/>
                <a:gd name="textAreaTop" fmla="*/ 0 h 6832080"/>
                <a:gd name="textAreaBottom" fmla="*/ 6832440 h 6832080"/>
              </a:gdLst>
              <a:ahLst/>
              <a:rect l="textAreaLeft" t="textAreaTop" r="textAreaRight" b="textAreaBottom"/>
              <a:pathLst>
                <a:path w="1142" h="1146">
                  <a:moveTo>
                    <a:pt x="0" y="1144"/>
                  </a:moveTo>
                  <a:lnTo>
                    <a:pt x="36" y="1146"/>
                  </a:lnTo>
                  <a:lnTo>
                    <a:pt x="132" y="1144"/>
                  </a:lnTo>
                  <a:lnTo>
                    <a:pt x="200" y="1142"/>
                  </a:lnTo>
                  <a:lnTo>
                    <a:pt x="274" y="1136"/>
                  </a:lnTo>
                  <a:lnTo>
                    <a:pt x="355" y="1131"/>
                  </a:lnTo>
                  <a:lnTo>
                    <a:pt x="438" y="1119"/>
                  </a:lnTo>
                  <a:lnTo>
                    <a:pt x="526" y="1106"/>
                  </a:lnTo>
                  <a:lnTo>
                    <a:pt x="614" y="1087"/>
                  </a:lnTo>
                  <a:lnTo>
                    <a:pt x="658" y="1075"/>
                  </a:lnTo>
                  <a:lnTo>
                    <a:pt x="701" y="1064"/>
                  </a:lnTo>
                  <a:lnTo>
                    <a:pt x="743" y="1050"/>
                  </a:lnTo>
                  <a:lnTo>
                    <a:pt x="783" y="1035"/>
                  </a:lnTo>
                  <a:lnTo>
                    <a:pt x="822" y="1017"/>
                  </a:lnTo>
                  <a:lnTo>
                    <a:pt x="860" y="998"/>
                  </a:lnTo>
                  <a:lnTo>
                    <a:pt x="895" y="979"/>
                  </a:lnTo>
                  <a:lnTo>
                    <a:pt x="927" y="958"/>
                  </a:lnTo>
                  <a:lnTo>
                    <a:pt x="958" y="935"/>
                  </a:lnTo>
                  <a:lnTo>
                    <a:pt x="985" y="910"/>
                  </a:lnTo>
                  <a:lnTo>
                    <a:pt x="1012" y="883"/>
                  </a:lnTo>
                  <a:lnTo>
                    <a:pt x="1033" y="852"/>
                  </a:lnTo>
                  <a:lnTo>
                    <a:pt x="1040" y="841"/>
                  </a:lnTo>
                  <a:lnTo>
                    <a:pt x="1060" y="808"/>
                  </a:lnTo>
                  <a:lnTo>
                    <a:pt x="1073" y="783"/>
                  </a:lnTo>
                  <a:lnTo>
                    <a:pt x="1085" y="751"/>
                  </a:lnTo>
                  <a:lnTo>
                    <a:pt x="1098" y="712"/>
                  </a:lnTo>
                  <a:lnTo>
                    <a:pt x="1112" y="664"/>
                  </a:lnTo>
                  <a:lnTo>
                    <a:pt x="1123" y="610"/>
                  </a:lnTo>
                  <a:lnTo>
                    <a:pt x="1133" y="551"/>
                  </a:lnTo>
                  <a:lnTo>
                    <a:pt x="1140" y="482"/>
                  </a:lnTo>
                  <a:lnTo>
                    <a:pt x="1142" y="403"/>
                  </a:lnTo>
                  <a:lnTo>
                    <a:pt x="1142" y="317"/>
                  </a:lnTo>
                  <a:lnTo>
                    <a:pt x="1136" y="219"/>
                  </a:lnTo>
                  <a:lnTo>
                    <a:pt x="1127" y="115"/>
                  </a:lnTo>
                  <a:lnTo>
                    <a:pt x="111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62" name="フリーフォーム 23"/>
            <p:cNvSpPr/>
            <p:nvPr/>
          </p:nvSpPr>
          <p:spPr>
            <a:xfrm>
              <a:off x="7448400" y="0"/>
              <a:ext cx="1694160" cy="1494000"/>
            </a:xfrm>
            <a:custGeom>
              <a:avLst/>
              <a:gdLst>
                <a:gd name="textAreaLeft" fmla="*/ 0 w 1694160"/>
                <a:gd name="textAreaRight" fmla="*/ 1694520 w 1694160"/>
                <a:gd name="textAreaTop" fmla="*/ 0 h 1494000"/>
                <a:gd name="textAreaBottom" fmla="*/ 1494360 h 1494000"/>
              </a:gdLst>
              <a:ahLst/>
              <a:rect l="textAreaLeft" t="textAreaTop" r="textAreaRight" b="textAreaBottom"/>
              <a:pathLst>
                <a:path w="309" h="263">
                  <a:moveTo>
                    <a:pt x="0" y="0"/>
                  </a:moveTo>
                  <a:lnTo>
                    <a:pt x="39" y="19"/>
                  </a:lnTo>
                  <a:lnTo>
                    <a:pt x="79" y="42"/>
                  </a:lnTo>
                  <a:lnTo>
                    <a:pt x="131" y="73"/>
                  </a:lnTo>
                  <a:lnTo>
                    <a:pt x="156" y="90"/>
                  </a:lnTo>
                  <a:lnTo>
                    <a:pt x="183" y="111"/>
                  </a:lnTo>
                  <a:lnTo>
                    <a:pt x="209" y="132"/>
                  </a:lnTo>
                  <a:lnTo>
                    <a:pt x="232" y="155"/>
                  </a:lnTo>
                  <a:lnTo>
                    <a:pt x="257" y="180"/>
                  </a:lnTo>
                  <a:lnTo>
                    <a:pt x="277" y="205"/>
                  </a:lnTo>
                  <a:lnTo>
                    <a:pt x="296" y="234"/>
                  </a:lnTo>
                  <a:lnTo>
                    <a:pt x="309" y="263"/>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263" name="フリーフォーム 24"/>
            <p:cNvSpPr/>
            <p:nvPr/>
          </p:nvSpPr>
          <p:spPr>
            <a:xfrm>
              <a:off x="0" y="5877720"/>
              <a:ext cx="5439960" cy="954360"/>
            </a:xfrm>
            <a:custGeom>
              <a:avLst/>
              <a:gdLst>
                <a:gd name="textAreaLeft" fmla="*/ 0 w 5439960"/>
                <a:gd name="textAreaRight" fmla="*/ 5440320 w 5439960"/>
                <a:gd name="textAreaTop" fmla="*/ 0 h 954360"/>
                <a:gd name="textAreaBottom" fmla="*/ 954720 h 954360"/>
              </a:gdLst>
              <a:ahLst/>
              <a:rect l="textAreaLeft" t="textAreaTop" r="textAreaRight" b="textAreaBottom"/>
              <a:pathLst>
                <a:path w="960" h="157">
                  <a:moveTo>
                    <a:pt x="0" y="0"/>
                  </a:moveTo>
                  <a:lnTo>
                    <a:pt x="98" y="27"/>
                  </a:lnTo>
                  <a:lnTo>
                    <a:pt x="209" y="53"/>
                  </a:lnTo>
                  <a:lnTo>
                    <a:pt x="340" y="84"/>
                  </a:lnTo>
                  <a:lnTo>
                    <a:pt x="493" y="113"/>
                  </a:lnTo>
                  <a:lnTo>
                    <a:pt x="572" y="126"/>
                  </a:lnTo>
                  <a:lnTo>
                    <a:pt x="654" y="138"/>
                  </a:lnTo>
                  <a:lnTo>
                    <a:pt x="735" y="146"/>
                  </a:lnTo>
                  <a:lnTo>
                    <a:pt x="812" y="153"/>
                  </a:lnTo>
                  <a:lnTo>
                    <a:pt x="887" y="157"/>
                  </a:lnTo>
                  <a:lnTo>
                    <a:pt x="960" y="155"/>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grpSp>
      <p:pic>
        <p:nvPicPr>
          <p:cNvPr id="264" name="図形グループ 2" descr=""/>
          <p:cNvPicPr/>
          <p:nvPr/>
        </p:nvPicPr>
        <p:blipFill>
          <a:blip r:embed="rId3"/>
          <a:stretch/>
        </p:blipFill>
        <p:spPr>
          <a:xfrm>
            <a:off x="8058240" y="5846760"/>
            <a:ext cx="1085760" cy="1023840"/>
          </a:xfrm>
          <a:prstGeom prst="rect">
            <a:avLst/>
          </a:prstGeom>
          <a:ln w="0">
            <a:noFill/>
          </a:ln>
        </p:spPr>
      </p:pic>
      <p:sp>
        <p:nvSpPr>
          <p:cNvPr id="26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266" name="PlaceHolder 2"/>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sp>
        <p:nvSpPr>
          <p:cNvPr id="267" name="PlaceHolder 3"/>
          <p:cNvSpPr>
            <a:spLocks noGrp="1"/>
          </p:cNvSpPr>
          <p:nvPr>
            <p:ph type="dt" idx="16"/>
          </p:nvPr>
        </p:nvSpPr>
        <p:spPr>
          <a:xfrm>
            <a:off x="-360" y="-360"/>
            <a:ext cx="213516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93259-406F-451B-B9FE-B7054A62CFF4}"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268" name="PlaceHolder 4"/>
          <p:cNvSpPr>
            <a:spLocks noGrp="1"/>
          </p:cNvSpPr>
          <p:nvPr>
            <p:ph type="ftr" idx="17"/>
          </p:nvPr>
        </p:nvSpPr>
        <p:spPr>
          <a:xfrm>
            <a:off x="2199960" y="-360"/>
            <a:ext cx="4498920" cy="36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69" name="PlaceHolder 5"/>
          <p:cNvSpPr>
            <a:spLocks noGrp="1"/>
          </p:cNvSpPr>
          <p:nvPr>
            <p:ph type="sldNum" idx="18"/>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C4850-BE2B-44AB-92E9-A4D758BAC99A}"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6" name="図形グループ 1"/>
          <p:cNvGrpSpPr/>
          <p:nvPr/>
        </p:nvGrpSpPr>
        <p:grpSpPr>
          <a:xfrm>
            <a:off x="-28440" y="0"/>
            <a:ext cx="9171360" cy="6855480"/>
            <a:chOff x="-28440" y="0"/>
            <a:chExt cx="9171360" cy="6855480"/>
          </a:xfrm>
        </p:grpSpPr>
        <p:sp>
          <p:nvSpPr>
            <p:cNvPr id="307" name="フリーフォーム 17"/>
            <p:cNvSpPr/>
            <p:nvPr/>
          </p:nvSpPr>
          <p:spPr>
            <a:xfrm>
              <a:off x="-28440" y="5010120"/>
              <a:ext cx="5669640" cy="1821960"/>
            </a:xfrm>
            <a:custGeom>
              <a:avLst/>
              <a:gdLst>
                <a:gd name="textAreaLeft" fmla="*/ 0 w 5669640"/>
                <a:gd name="textAreaRight" fmla="*/ 5670000 w 5669640"/>
                <a:gd name="textAreaTop" fmla="*/ 0 h 1821960"/>
                <a:gd name="textAreaBottom" fmla="*/ 1822320 h 1821960"/>
              </a:gdLst>
              <a:ahLst/>
              <a:rect l="textAreaLeft" t="textAreaTop" r="textAreaRight" b="textAreaBottom"/>
              <a:pathLst>
                <a:path w="991" h="300">
                  <a:moveTo>
                    <a:pt x="0" y="0"/>
                  </a:moveTo>
                  <a:lnTo>
                    <a:pt x="15" y="14"/>
                  </a:lnTo>
                  <a:lnTo>
                    <a:pt x="32" y="33"/>
                  </a:lnTo>
                  <a:lnTo>
                    <a:pt x="57" y="54"/>
                  </a:lnTo>
                  <a:lnTo>
                    <a:pt x="92" y="79"/>
                  </a:lnTo>
                  <a:lnTo>
                    <a:pt x="132" y="106"/>
                  </a:lnTo>
                  <a:lnTo>
                    <a:pt x="182" y="133"/>
                  </a:lnTo>
                  <a:lnTo>
                    <a:pt x="236" y="163"/>
                  </a:lnTo>
                  <a:lnTo>
                    <a:pt x="301" y="192"/>
                  </a:lnTo>
                  <a:lnTo>
                    <a:pt x="374" y="219"/>
                  </a:lnTo>
                  <a:lnTo>
                    <a:pt x="457" y="244"/>
                  </a:lnTo>
                  <a:lnTo>
                    <a:pt x="501" y="255"/>
                  </a:lnTo>
                  <a:lnTo>
                    <a:pt x="545" y="267"/>
                  </a:lnTo>
                  <a:lnTo>
                    <a:pt x="595" y="275"/>
                  </a:lnTo>
                  <a:lnTo>
                    <a:pt x="647" y="282"/>
                  </a:lnTo>
                  <a:lnTo>
                    <a:pt x="699" y="290"/>
                  </a:lnTo>
                  <a:lnTo>
                    <a:pt x="752" y="294"/>
                  </a:lnTo>
                  <a:lnTo>
                    <a:pt x="810" y="298"/>
                  </a:lnTo>
                  <a:lnTo>
                    <a:pt x="868" y="300"/>
                  </a:lnTo>
                  <a:lnTo>
                    <a:pt x="927" y="298"/>
                  </a:lnTo>
                  <a:lnTo>
                    <a:pt x="991" y="296"/>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08" name="フリーフォーム 18"/>
            <p:cNvSpPr/>
            <p:nvPr/>
          </p:nvSpPr>
          <p:spPr>
            <a:xfrm>
              <a:off x="4782240" y="0"/>
              <a:ext cx="3907800" cy="6855480"/>
            </a:xfrm>
            <a:custGeom>
              <a:avLst/>
              <a:gdLst>
                <a:gd name="textAreaLeft" fmla="*/ 0 w 3907800"/>
                <a:gd name="textAreaRight" fmla="*/ 3908160 w 3907800"/>
                <a:gd name="textAreaTop" fmla="*/ 0 h 6855480"/>
                <a:gd name="textAreaBottom" fmla="*/ 6855840 h 6855480"/>
              </a:gdLst>
              <a:ahLst/>
              <a:rect l="textAreaLeft" t="textAreaTop" r="textAreaRight" b="textAreaBottom"/>
              <a:pathLst>
                <a:path w="539" h="1129">
                  <a:moveTo>
                    <a:pt x="0" y="1129"/>
                  </a:moveTo>
                  <a:lnTo>
                    <a:pt x="42" y="1125"/>
                  </a:lnTo>
                  <a:lnTo>
                    <a:pt x="132" y="1115"/>
                  </a:lnTo>
                  <a:lnTo>
                    <a:pt x="188" y="1106"/>
                  </a:lnTo>
                  <a:lnTo>
                    <a:pt x="241" y="1094"/>
                  </a:lnTo>
                  <a:lnTo>
                    <a:pt x="289" y="1079"/>
                  </a:lnTo>
                  <a:lnTo>
                    <a:pt x="311" y="1071"/>
                  </a:lnTo>
                  <a:lnTo>
                    <a:pt x="328" y="1062"/>
                  </a:lnTo>
                  <a:lnTo>
                    <a:pt x="339" y="1056"/>
                  </a:lnTo>
                  <a:lnTo>
                    <a:pt x="351" y="1048"/>
                  </a:lnTo>
                  <a:lnTo>
                    <a:pt x="366" y="1037"/>
                  </a:lnTo>
                  <a:lnTo>
                    <a:pt x="385" y="1019"/>
                  </a:lnTo>
                  <a:lnTo>
                    <a:pt x="405" y="998"/>
                  </a:lnTo>
                  <a:lnTo>
                    <a:pt x="426" y="969"/>
                  </a:lnTo>
                  <a:lnTo>
                    <a:pt x="449" y="939"/>
                  </a:lnTo>
                  <a:lnTo>
                    <a:pt x="470" y="898"/>
                  </a:lnTo>
                  <a:lnTo>
                    <a:pt x="489" y="848"/>
                  </a:lnTo>
                  <a:lnTo>
                    <a:pt x="506" y="793"/>
                  </a:lnTo>
                  <a:lnTo>
                    <a:pt x="520" y="727"/>
                  </a:lnTo>
                  <a:lnTo>
                    <a:pt x="531" y="655"/>
                  </a:lnTo>
                  <a:lnTo>
                    <a:pt x="537" y="572"/>
                  </a:lnTo>
                  <a:lnTo>
                    <a:pt x="539" y="530"/>
                  </a:lnTo>
                  <a:lnTo>
                    <a:pt x="537" y="482"/>
                  </a:lnTo>
                  <a:lnTo>
                    <a:pt x="535" y="432"/>
                  </a:lnTo>
                  <a:lnTo>
                    <a:pt x="533" y="378"/>
                  </a:lnTo>
                  <a:lnTo>
                    <a:pt x="531" y="357"/>
                  </a:lnTo>
                  <a:lnTo>
                    <a:pt x="524" y="286"/>
                  </a:lnTo>
                  <a:lnTo>
                    <a:pt x="516" y="232"/>
                  </a:lnTo>
                  <a:lnTo>
                    <a:pt x="503" y="169"/>
                  </a:lnTo>
                  <a:lnTo>
                    <a:pt x="487" y="90"/>
                  </a:lnTo>
                  <a:lnTo>
                    <a:pt x="466"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09" name="フリーフォーム 19"/>
            <p:cNvSpPr/>
            <p:nvPr/>
          </p:nvSpPr>
          <p:spPr>
            <a:xfrm>
              <a:off x="0" y="0"/>
              <a:ext cx="9131040" cy="6473880"/>
            </a:xfrm>
            <a:custGeom>
              <a:avLst/>
              <a:gdLst>
                <a:gd name="textAreaLeft" fmla="*/ 0 w 9131040"/>
                <a:gd name="textAreaRight" fmla="*/ 9131400 w 9131040"/>
                <a:gd name="textAreaTop" fmla="*/ 0 h 6473880"/>
                <a:gd name="textAreaBottom" fmla="*/ 6474240 h 6473880"/>
              </a:gdLst>
              <a:ahLst/>
              <a:rect l="textAreaLeft" t="textAreaTop" r="textAreaRight" b="textAreaBottom"/>
              <a:pathLst>
                <a:path w="1607" h="1085">
                  <a:moveTo>
                    <a:pt x="0" y="929"/>
                  </a:moveTo>
                  <a:lnTo>
                    <a:pt x="40" y="941"/>
                  </a:lnTo>
                  <a:lnTo>
                    <a:pt x="148" y="966"/>
                  </a:lnTo>
                  <a:lnTo>
                    <a:pt x="305" y="1000"/>
                  </a:lnTo>
                  <a:lnTo>
                    <a:pt x="399" y="1019"/>
                  </a:lnTo>
                  <a:lnTo>
                    <a:pt x="501" y="1037"/>
                  </a:lnTo>
                  <a:lnTo>
                    <a:pt x="608" y="1052"/>
                  </a:lnTo>
                  <a:lnTo>
                    <a:pt x="718" y="1067"/>
                  </a:lnTo>
                  <a:lnTo>
                    <a:pt x="827" y="1077"/>
                  </a:lnTo>
                  <a:lnTo>
                    <a:pt x="937" y="1083"/>
                  </a:lnTo>
                  <a:lnTo>
                    <a:pt x="991" y="1085"/>
                  </a:lnTo>
                  <a:lnTo>
                    <a:pt x="1044" y="1085"/>
                  </a:lnTo>
                  <a:lnTo>
                    <a:pt x="1096" y="1083"/>
                  </a:lnTo>
                  <a:lnTo>
                    <a:pt x="1146" y="1079"/>
                  </a:lnTo>
                  <a:lnTo>
                    <a:pt x="1194" y="1073"/>
                  </a:lnTo>
                  <a:lnTo>
                    <a:pt x="1240" y="1065"/>
                  </a:lnTo>
                  <a:lnTo>
                    <a:pt x="1284" y="1058"/>
                  </a:lnTo>
                  <a:lnTo>
                    <a:pt x="1327" y="1046"/>
                  </a:lnTo>
                  <a:lnTo>
                    <a:pt x="1338" y="1042"/>
                  </a:lnTo>
                  <a:lnTo>
                    <a:pt x="1371" y="1031"/>
                  </a:lnTo>
                  <a:lnTo>
                    <a:pt x="1392" y="1019"/>
                  </a:lnTo>
                  <a:lnTo>
                    <a:pt x="1415" y="1008"/>
                  </a:lnTo>
                  <a:lnTo>
                    <a:pt x="1444" y="990"/>
                  </a:lnTo>
                  <a:lnTo>
                    <a:pt x="1469" y="971"/>
                  </a:lnTo>
                  <a:lnTo>
                    <a:pt x="1496" y="950"/>
                  </a:lnTo>
                  <a:lnTo>
                    <a:pt x="1520" y="923"/>
                  </a:lnTo>
                  <a:lnTo>
                    <a:pt x="1544" y="893"/>
                  </a:lnTo>
                  <a:lnTo>
                    <a:pt x="1565" y="854"/>
                  </a:lnTo>
                  <a:lnTo>
                    <a:pt x="1582" y="814"/>
                  </a:lnTo>
                  <a:lnTo>
                    <a:pt x="1590" y="791"/>
                  </a:lnTo>
                  <a:lnTo>
                    <a:pt x="1595" y="768"/>
                  </a:lnTo>
                  <a:lnTo>
                    <a:pt x="1601" y="743"/>
                  </a:lnTo>
                  <a:lnTo>
                    <a:pt x="1605" y="716"/>
                  </a:lnTo>
                  <a:lnTo>
                    <a:pt x="1607" y="689"/>
                  </a:lnTo>
                  <a:lnTo>
                    <a:pt x="1607" y="660"/>
                  </a:lnTo>
                  <a:lnTo>
                    <a:pt x="1607" y="643"/>
                  </a:lnTo>
                  <a:lnTo>
                    <a:pt x="1607" y="599"/>
                  </a:lnTo>
                  <a:lnTo>
                    <a:pt x="1599" y="530"/>
                  </a:lnTo>
                  <a:lnTo>
                    <a:pt x="1593" y="487"/>
                  </a:lnTo>
                  <a:lnTo>
                    <a:pt x="1586" y="441"/>
                  </a:lnTo>
                  <a:lnTo>
                    <a:pt x="1574" y="391"/>
                  </a:lnTo>
                  <a:lnTo>
                    <a:pt x="1559" y="340"/>
                  </a:lnTo>
                  <a:lnTo>
                    <a:pt x="1542" y="282"/>
                  </a:lnTo>
                  <a:lnTo>
                    <a:pt x="1519" y="226"/>
                  </a:lnTo>
                  <a:lnTo>
                    <a:pt x="1492" y="171"/>
                  </a:lnTo>
                  <a:lnTo>
                    <a:pt x="1461" y="113"/>
                  </a:lnTo>
                  <a:lnTo>
                    <a:pt x="1424" y="56"/>
                  </a:lnTo>
                  <a:lnTo>
                    <a:pt x="1378"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10" name="フリーフォーム 21"/>
            <p:cNvSpPr/>
            <p:nvPr/>
          </p:nvSpPr>
          <p:spPr>
            <a:xfrm>
              <a:off x="16920" y="2575080"/>
              <a:ext cx="9126000" cy="3989520"/>
            </a:xfrm>
            <a:custGeom>
              <a:avLst/>
              <a:gdLst>
                <a:gd name="textAreaLeft" fmla="*/ 0 w 9126000"/>
                <a:gd name="textAreaRight" fmla="*/ 9126360 w 9126000"/>
                <a:gd name="textAreaTop" fmla="*/ 0 h 3989520"/>
                <a:gd name="textAreaBottom" fmla="*/ 3989880 h 3989520"/>
              </a:gdLst>
              <a:ahLst/>
              <a:rect l="textAreaLeft" t="textAreaTop" r="textAreaRight" b="textAreaBottom"/>
              <a:pathLst>
                <a:path w="1620" h="657">
                  <a:moveTo>
                    <a:pt x="0" y="584"/>
                  </a:moveTo>
                  <a:lnTo>
                    <a:pt x="29" y="590"/>
                  </a:lnTo>
                  <a:lnTo>
                    <a:pt x="109" y="605"/>
                  </a:lnTo>
                  <a:lnTo>
                    <a:pt x="234" y="624"/>
                  </a:lnTo>
                  <a:lnTo>
                    <a:pt x="303" y="634"/>
                  </a:lnTo>
                  <a:lnTo>
                    <a:pt x="382" y="642"/>
                  </a:lnTo>
                  <a:lnTo>
                    <a:pt x="468" y="649"/>
                  </a:lnTo>
                  <a:lnTo>
                    <a:pt x="557" y="653"/>
                  </a:lnTo>
                  <a:lnTo>
                    <a:pt x="651" y="657"/>
                  </a:lnTo>
                  <a:lnTo>
                    <a:pt x="743" y="655"/>
                  </a:lnTo>
                  <a:lnTo>
                    <a:pt x="835" y="651"/>
                  </a:lnTo>
                  <a:lnTo>
                    <a:pt x="927" y="643"/>
                  </a:lnTo>
                  <a:lnTo>
                    <a:pt x="1017" y="630"/>
                  </a:lnTo>
                  <a:lnTo>
                    <a:pt x="1062" y="620"/>
                  </a:lnTo>
                  <a:lnTo>
                    <a:pt x="1104" y="611"/>
                  </a:lnTo>
                  <a:lnTo>
                    <a:pt x="1117" y="607"/>
                  </a:lnTo>
                  <a:lnTo>
                    <a:pt x="1156" y="597"/>
                  </a:lnTo>
                  <a:lnTo>
                    <a:pt x="1213" y="576"/>
                  </a:lnTo>
                  <a:lnTo>
                    <a:pt x="1246" y="563"/>
                  </a:lnTo>
                  <a:lnTo>
                    <a:pt x="1280" y="547"/>
                  </a:lnTo>
                  <a:lnTo>
                    <a:pt x="1319" y="528"/>
                  </a:lnTo>
                  <a:lnTo>
                    <a:pt x="1355" y="507"/>
                  </a:lnTo>
                  <a:lnTo>
                    <a:pt x="1394" y="482"/>
                  </a:lnTo>
                  <a:lnTo>
                    <a:pt x="1434" y="451"/>
                  </a:lnTo>
                  <a:lnTo>
                    <a:pt x="1471" y="419"/>
                  </a:lnTo>
                  <a:lnTo>
                    <a:pt x="1503" y="380"/>
                  </a:lnTo>
                  <a:lnTo>
                    <a:pt x="1536" y="338"/>
                  </a:lnTo>
                  <a:lnTo>
                    <a:pt x="1549" y="317"/>
                  </a:lnTo>
                  <a:lnTo>
                    <a:pt x="1563" y="294"/>
                  </a:lnTo>
                  <a:lnTo>
                    <a:pt x="1572" y="265"/>
                  </a:lnTo>
                  <a:lnTo>
                    <a:pt x="1582" y="235"/>
                  </a:lnTo>
                  <a:lnTo>
                    <a:pt x="1593" y="196"/>
                  </a:lnTo>
                  <a:lnTo>
                    <a:pt x="1605" y="150"/>
                  </a:lnTo>
                  <a:lnTo>
                    <a:pt x="1615" y="102"/>
                  </a:lnTo>
                  <a:lnTo>
                    <a:pt x="1620" y="52"/>
                  </a:lnTo>
                  <a:lnTo>
                    <a:pt x="1620" y="25"/>
                  </a:lnTo>
                  <a:lnTo>
                    <a:pt x="162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11" name="フリーフォーム 22"/>
            <p:cNvSpPr/>
            <p:nvPr/>
          </p:nvSpPr>
          <p:spPr>
            <a:xfrm>
              <a:off x="2408040" y="0"/>
              <a:ext cx="6533640" cy="6832080"/>
            </a:xfrm>
            <a:custGeom>
              <a:avLst/>
              <a:gdLst>
                <a:gd name="textAreaLeft" fmla="*/ 0 w 6533640"/>
                <a:gd name="textAreaRight" fmla="*/ 6534000 w 6533640"/>
                <a:gd name="textAreaTop" fmla="*/ 0 h 6832080"/>
                <a:gd name="textAreaBottom" fmla="*/ 6832440 h 6832080"/>
              </a:gdLst>
              <a:ahLst/>
              <a:rect l="textAreaLeft" t="textAreaTop" r="textAreaRight" b="textAreaBottom"/>
              <a:pathLst>
                <a:path w="1142" h="1146">
                  <a:moveTo>
                    <a:pt x="0" y="1144"/>
                  </a:moveTo>
                  <a:lnTo>
                    <a:pt x="36" y="1146"/>
                  </a:lnTo>
                  <a:lnTo>
                    <a:pt x="132" y="1144"/>
                  </a:lnTo>
                  <a:lnTo>
                    <a:pt x="200" y="1142"/>
                  </a:lnTo>
                  <a:lnTo>
                    <a:pt x="274" y="1136"/>
                  </a:lnTo>
                  <a:lnTo>
                    <a:pt x="355" y="1131"/>
                  </a:lnTo>
                  <a:lnTo>
                    <a:pt x="438" y="1119"/>
                  </a:lnTo>
                  <a:lnTo>
                    <a:pt x="526" y="1106"/>
                  </a:lnTo>
                  <a:lnTo>
                    <a:pt x="614" y="1087"/>
                  </a:lnTo>
                  <a:lnTo>
                    <a:pt x="658" y="1075"/>
                  </a:lnTo>
                  <a:lnTo>
                    <a:pt x="701" y="1064"/>
                  </a:lnTo>
                  <a:lnTo>
                    <a:pt x="743" y="1050"/>
                  </a:lnTo>
                  <a:lnTo>
                    <a:pt x="783" y="1035"/>
                  </a:lnTo>
                  <a:lnTo>
                    <a:pt x="822" y="1017"/>
                  </a:lnTo>
                  <a:lnTo>
                    <a:pt x="860" y="998"/>
                  </a:lnTo>
                  <a:lnTo>
                    <a:pt x="895" y="979"/>
                  </a:lnTo>
                  <a:lnTo>
                    <a:pt x="927" y="958"/>
                  </a:lnTo>
                  <a:lnTo>
                    <a:pt x="958" y="935"/>
                  </a:lnTo>
                  <a:lnTo>
                    <a:pt x="985" y="910"/>
                  </a:lnTo>
                  <a:lnTo>
                    <a:pt x="1012" y="883"/>
                  </a:lnTo>
                  <a:lnTo>
                    <a:pt x="1033" y="852"/>
                  </a:lnTo>
                  <a:lnTo>
                    <a:pt x="1040" y="841"/>
                  </a:lnTo>
                  <a:lnTo>
                    <a:pt x="1060" y="808"/>
                  </a:lnTo>
                  <a:lnTo>
                    <a:pt x="1073" y="783"/>
                  </a:lnTo>
                  <a:lnTo>
                    <a:pt x="1085" y="751"/>
                  </a:lnTo>
                  <a:lnTo>
                    <a:pt x="1098" y="712"/>
                  </a:lnTo>
                  <a:lnTo>
                    <a:pt x="1112" y="664"/>
                  </a:lnTo>
                  <a:lnTo>
                    <a:pt x="1123" y="610"/>
                  </a:lnTo>
                  <a:lnTo>
                    <a:pt x="1133" y="551"/>
                  </a:lnTo>
                  <a:lnTo>
                    <a:pt x="1140" y="482"/>
                  </a:lnTo>
                  <a:lnTo>
                    <a:pt x="1142" y="403"/>
                  </a:lnTo>
                  <a:lnTo>
                    <a:pt x="1142" y="317"/>
                  </a:lnTo>
                  <a:lnTo>
                    <a:pt x="1136" y="219"/>
                  </a:lnTo>
                  <a:lnTo>
                    <a:pt x="1127" y="115"/>
                  </a:lnTo>
                  <a:lnTo>
                    <a:pt x="111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12" name="フリーフォーム 23"/>
            <p:cNvSpPr/>
            <p:nvPr/>
          </p:nvSpPr>
          <p:spPr>
            <a:xfrm>
              <a:off x="7448400" y="0"/>
              <a:ext cx="1694160" cy="1494000"/>
            </a:xfrm>
            <a:custGeom>
              <a:avLst/>
              <a:gdLst>
                <a:gd name="textAreaLeft" fmla="*/ 0 w 1694160"/>
                <a:gd name="textAreaRight" fmla="*/ 1694520 w 1694160"/>
                <a:gd name="textAreaTop" fmla="*/ 0 h 1494000"/>
                <a:gd name="textAreaBottom" fmla="*/ 1494360 h 1494000"/>
              </a:gdLst>
              <a:ahLst/>
              <a:rect l="textAreaLeft" t="textAreaTop" r="textAreaRight" b="textAreaBottom"/>
              <a:pathLst>
                <a:path w="309" h="263">
                  <a:moveTo>
                    <a:pt x="0" y="0"/>
                  </a:moveTo>
                  <a:lnTo>
                    <a:pt x="39" y="19"/>
                  </a:lnTo>
                  <a:lnTo>
                    <a:pt x="79" y="42"/>
                  </a:lnTo>
                  <a:lnTo>
                    <a:pt x="131" y="73"/>
                  </a:lnTo>
                  <a:lnTo>
                    <a:pt x="156" y="90"/>
                  </a:lnTo>
                  <a:lnTo>
                    <a:pt x="183" y="111"/>
                  </a:lnTo>
                  <a:lnTo>
                    <a:pt x="209" y="132"/>
                  </a:lnTo>
                  <a:lnTo>
                    <a:pt x="232" y="155"/>
                  </a:lnTo>
                  <a:lnTo>
                    <a:pt x="257" y="180"/>
                  </a:lnTo>
                  <a:lnTo>
                    <a:pt x="277" y="205"/>
                  </a:lnTo>
                  <a:lnTo>
                    <a:pt x="296" y="234"/>
                  </a:lnTo>
                  <a:lnTo>
                    <a:pt x="309" y="263"/>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13" name="フリーフォーム 24"/>
            <p:cNvSpPr/>
            <p:nvPr/>
          </p:nvSpPr>
          <p:spPr>
            <a:xfrm>
              <a:off x="0" y="5877720"/>
              <a:ext cx="5439960" cy="954360"/>
            </a:xfrm>
            <a:custGeom>
              <a:avLst/>
              <a:gdLst>
                <a:gd name="textAreaLeft" fmla="*/ 0 w 5439960"/>
                <a:gd name="textAreaRight" fmla="*/ 5440320 w 5439960"/>
                <a:gd name="textAreaTop" fmla="*/ 0 h 954360"/>
                <a:gd name="textAreaBottom" fmla="*/ 954720 h 954360"/>
              </a:gdLst>
              <a:ahLst/>
              <a:rect l="textAreaLeft" t="textAreaTop" r="textAreaRight" b="textAreaBottom"/>
              <a:pathLst>
                <a:path w="960" h="157">
                  <a:moveTo>
                    <a:pt x="0" y="0"/>
                  </a:moveTo>
                  <a:lnTo>
                    <a:pt x="98" y="27"/>
                  </a:lnTo>
                  <a:lnTo>
                    <a:pt x="209" y="53"/>
                  </a:lnTo>
                  <a:lnTo>
                    <a:pt x="340" y="84"/>
                  </a:lnTo>
                  <a:lnTo>
                    <a:pt x="493" y="113"/>
                  </a:lnTo>
                  <a:lnTo>
                    <a:pt x="572" y="126"/>
                  </a:lnTo>
                  <a:lnTo>
                    <a:pt x="654" y="138"/>
                  </a:lnTo>
                  <a:lnTo>
                    <a:pt x="735" y="146"/>
                  </a:lnTo>
                  <a:lnTo>
                    <a:pt x="812" y="153"/>
                  </a:lnTo>
                  <a:lnTo>
                    <a:pt x="887" y="157"/>
                  </a:lnTo>
                  <a:lnTo>
                    <a:pt x="960" y="155"/>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grpSp>
      <p:pic>
        <p:nvPicPr>
          <p:cNvPr id="314" name="図形グループ 2" descr=""/>
          <p:cNvPicPr/>
          <p:nvPr/>
        </p:nvPicPr>
        <p:blipFill>
          <a:blip r:embed="rId3"/>
          <a:stretch/>
        </p:blipFill>
        <p:spPr>
          <a:xfrm>
            <a:off x="8058240" y="5846760"/>
            <a:ext cx="1085760" cy="1023840"/>
          </a:xfrm>
          <a:prstGeom prst="rect">
            <a:avLst/>
          </a:prstGeom>
          <a:ln w="0">
            <a:noFill/>
          </a:ln>
        </p:spPr>
      </p:pic>
      <p:sp>
        <p:nvSpPr>
          <p:cNvPr id="31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316" name="PlaceHolder 2"/>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sp>
        <p:nvSpPr>
          <p:cNvPr id="317" name="PlaceHolder 3"/>
          <p:cNvSpPr>
            <a:spLocks noGrp="1"/>
          </p:cNvSpPr>
          <p:nvPr>
            <p:ph type="dt" idx="19"/>
          </p:nvPr>
        </p:nvSpPr>
        <p:spPr>
          <a:xfrm>
            <a:off x="-360" y="-360"/>
            <a:ext cx="213372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D7D1C-F603-4C76-8C4A-BF98A80C6159}"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318" name="PlaceHolder 4"/>
          <p:cNvSpPr>
            <a:spLocks noGrp="1"/>
          </p:cNvSpPr>
          <p:nvPr>
            <p:ph type="ftr" idx="20"/>
          </p:nvPr>
        </p:nvSpPr>
        <p:spPr>
          <a:xfrm>
            <a:off x="2199960" y="-360"/>
            <a:ext cx="4498920" cy="36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319" name="PlaceHolder 5"/>
          <p:cNvSpPr>
            <a:spLocks noGrp="1"/>
          </p:cNvSpPr>
          <p:nvPr>
            <p:ph type="sldNum" idx="21"/>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937CD-7661-435A-A447-8782D2ECF986}"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6" name="図形グループ 1"/>
          <p:cNvGrpSpPr/>
          <p:nvPr/>
        </p:nvGrpSpPr>
        <p:grpSpPr>
          <a:xfrm>
            <a:off x="-28440" y="0"/>
            <a:ext cx="9171360" cy="6855480"/>
            <a:chOff x="-28440" y="0"/>
            <a:chExt cx="9171360" cy="6855480"/>
          </a:xfrm>
        </p:grpSpPr>
        <p:sp>
          <p:nvSpPr>
            <p:cNvPr id="357" name="フリーフォーム 17"/>
            <p:cNvSpPr/>
            <p:nvPr/>
          </p:nvSpPr>
          <p:spPr>
            <a:xfrm>
              <a:off x="-28440" y="5010120"/>
              <a:ext cx="5669640" cy="1821960"/>
            </a:xfrm>
            <a:custGeom>
              <a:avLst/>
              <a:gdLst>
                <a:gd name="textAreaLeft" fmla="*/ 0 w 5669640"/>
                <a:gd name="textAreaRight" fmla="*/ 5670000 w 5669640"/>
                <a:gd name="textAreaTop" fmla="*/ 0 h 1821960"/>
                <a:gd name="textAreaBottom" fmla="*/ 1822320 h 1821960"/>
              </a:gdLst>
              <a:ahLst/>
              <a:rect l="textAreaLeft" t="textAreaTop" r="textAreaRight" b="textAreaBottom"/>
              <a:pathLst>
                <a:path w="991" h="300">
                  <a:moveTo>
                    <a:pt x="0" y="0"/>
                  </a:moveTo>
                  <a:lnTo>
                    <a:pt x="15" y="14"/>
                  </a:lnTo>
                  <a:lnTo>
                    <a:pt x="32" y="33"/>
                  </a:lnTo>
                  <a:lnTo>
                    <a:pt x="57" y="54"/>
                  </a:lnTo>
                  <a:lnTo>
                    <a:pt x="92" y="79"/>
                  </a:lnTo>
                  <a:lnTo>
                    <a:pt x="132" y="106"/>
                  </a:lnTo>
                  <a:lnTo>
                    <a:pt x="182" y="133"/>
                  </a:lnTo>
                  <a:lnTo>
                    <a:pt x="236" y="163"/>
                  </a:lnTo>
                  <a:lnTo>
                    <a:pt x="301" y="192"/>
                  </a:lnTo>
                  <a:lnTo>
                    <a:pt x="374" y="219"/>
                  </a:lnTo>
                  <a:lnTo>
                    <a:pt x="457" y="244"/>
                  </a:lnTo>
                  <a:lnTo>
                    <a:pt x="501" y="255"/>
                  </a:lnTo>
                  <a:lnTo>
                    <a:pt x="545" y="267"/>
                  </a:lnTo>
                  <a:lnTo>
                    <a:pt x="595" y="275"/>
                  </a:lnTo>
                  <a:lnTo>
                    <a:pt x="647" y="282"/>
                  </a:lnTo>
                  <a:lnTo>
                    <a:pt x="699" y="290"/>
                  </a:lnTo>
                  <a:lnTo>
                    <a:pt x="752" y="294"/>
                  </a:lnTo>
                  <a:lnTo>
                    <a:pt x="810" y="298"/>
                  </a:lnTo>
                  <a:lnTo>
                    <a:pt x="868" y="300"/>
                  </a:lnTo>
                  <a:lnTo>
                    <a:pt x="927" y="298"/>
                  </a:lnTo>
                  <a:lnTo>
                    <a:pt x="991" y="296"/>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58" name="フリーフォーム 18"/>
            <p:cNvSpPr/>
            <p:nvPr/>
          </p:nvSpPr>
          <p:spPr>
            <a:xfrm>
              <a:off x="4782240" y="0"/>
              <a:ext cx="3907800" cy="6855480"/>
            </a:xfrm>
            <a:custGeom>
              <a:avLst/>
              <a:gdLst>
                <a:gd name="textAreaLeft" fmla="*/ 0 w 3907800"/>
                <a:gd name="textAreaRight" fmla="*/ 3908160 w 3907800"/>
                <a:gd name="textAreaTop" fmla="*/ 0 h 6855480"/>
                <a:gd name="textAreaBottom" fmla="*/ 6855840 h 6855480"/>
              </a:gdLst>
              <a:ahLst/>
              <a:rect l="textAreaLeft" t="textAreaTop" r="textAreaRight" b="textAreaBottom"/>
              <a:pathLst>
                <a:path w="539" h="1129">
                  <a:moveTo>
                    <a:pt x="0" y="1129"/>
                  </a:moveTo>
                  <a:lnTo>
                    <a:pt x="42" y="1125"/>
                  </a:lnTo>
                  <a:lnTo>
                    <a:pt x="132" y="1115"/>
                  </a:lnTo>
                  <a:lnTo>
                    <a:pt x="188" y="1106"/>
                  </a:lnTo>
                  <a:lnTo>
                    <a:pt x="241" y="1094"/>
                  </a:lnTo>
                  <a:lnTo>
                    <a:pt x="289" y="1079"/>
                  </a:lnTo>
                  <a:lnTo>
                    <a:pt x="311" y="1071"/>
                  </a:lnTo>
                  <a:lnTo>
                    <a:pt x="328" y="1062"/>
                  </a:lnTo>
                  <a:lnTo>
                    <a:pt x="339" y="1056"/>
                  </a:lnTo>
                  <a:lnTo>
                    <a:pt x="351" y="1048"/>
                  </a:lnTo>
                  <a:lnTo>
                    <a:pt x="366" y="1037"/>
                  </a:lnTo>
                  <a:lnTo>
                    <a:pt x="385" y="1019"/>
                  </a:lnTo>
                  <a:lnTo>
                    <a:pt x="405" y="998"/>
                  </a:lnTo>
                  <a:lnTo>
                    <a:pt x="426" y="969"/>
                  </a:lnTo>
                  <a:lnTo>
                    <a:pt x="449" y="939"/>
                  </a:lnTo>
                  <a:lnTo>
                    <a:pt x="470" y="898"/>
                  </a:lnTo>
                  <a:lnTo>
                    <a:pt x="489" y="848"/>
                  </a:lnTo>
                  <a:lnTo>
                    <a:pt x="506" y="793"/>
                  </a:lnTo>
                  <a:lnTo>
                    <a:pt x="520" y="727"/>
                  </a:lnTo>
                  <a:lnTo>
                    <a:pt x="531" y="655"/>
                  </a:lnTo>
                  <a:lnTo>
                    <a:pt x="537" y="572"/>
                  </a:lnTo>
                  <a:lnTo>
                    <a:pt x="539" y="530"/>
                  </a:lnTo>
                  <a:lnTo>
                    <a:pt x="537" y="482"/>
                  </a:lnTo>
                  <a:lnTo>
                    <a:pt x="535" y="432"/>
                  </a:lnTo>
                  <a:lnTo>
                    <a:pt x="533" y="378"/>
                  </a:lnTo>
                  <a:lnTo>
                    <a:pt x="531" y="357"/>
                  </a:lnTo>
                  <a:lnTo>
                    <a:pt x="524" y="286"/>
                  </a:lnTo>
                  <a:lnTo>
                    <a:pt x="516" y="232"/>
                  </a:lnTo>
                  <a:lnTo>
                    <a:pt x="503" y="169"/>
                  </a:lnTo>
                  <a:lnTo>
                    <a:pt x="487" y="90"/>
                  </a:lnTo>
                  <a:lnTo>
                    <a:pt x="466"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59" name="フリーフォーム 19"/>
            <p:cNvSpPr/>
            <p:nvPr/>
          </p:nvSpPr>
          <p:spPr>
            <a:xfrm>
              <a:off x="0" y="0"/>
              <a:ext cx="9131040" cy="6473880"/>
            </a:xfrm>
            <a:custGeom>
              <a:avLst/>
              <a:gdLst>
                <a:gd name="textAreaLeft" fmla="*/ 0 w 9131040"/>
                <a:gd name="textAreaRight" fmla="*/ 9131400 w 9131040"/>
                <a:gd name="textAreaTop" fmla="*/ 0 h 6473880"/>
                <a:gd name="textAreaBottom" fmla="*/ 6474240 h 6473880"/>
              </a:gdLst>
              <a:ahLst/>
              <a:rect l="textAreaLeft" t="textAreaTop" r="textAreaRight" b="textAreaBottom"/>
              <a:pathLst>
                <a:path w="1607" h="1085">
                  <a:moveTo>
                    <a:pt x="0" y="929"/>
                  </a:moveTo>
                  <a:lnTo>
                    <a:pt x="40" y="941"/>
                  </a:lnTo>
                  <a:lnTo>
                    <a:pt x="148" y="966"/>
                  </a:lnTo>
                  <a:lnTo>
                    <a:pt x="305" y="1000"/>
                  </a:lnTo>
                  <a:lnTo>
                    <a:pt x="399" y="1019"/>
                  </a:lnTo>
                  <a:lnTo>
                    <a:pt x="501" y="1037"/>
                  </a:lnTo>
                  <a:lnTo>
                    <a:pt x="608" y="1052"/>
                  </a:lnTo>
                  <a:lnTo>
                    <a:pt x="718" y="1067"/>
                  </a:lnTo>
                  <a:lnTo>
                    <a:pt x="827" y="1077"/>
                  </a:lnTo>
                  <a:lnTo>
                    <a:pt x="937" y="1083"/>
                  </a:lnTo>
                  <a:lnTo>
                    <a:pt x="991" y="1085"/>
                  </a:lnTo>
                  <a:lnTo>
                    <a:pt x="1044" y="1085"/>
                  </a:lnTo>
                  <a:lnTo>
                    <a:pt x="1096" y="1083"/>
                  </a:lnTo>
                  <a:lnTo>
                    <a:pt x="1146" y="1079"/>
                  </a:lnTo>
                  <a:lnTo>
                    <a:pt x="1194" y="1073"/>
                  </a:lnTo>
                  <a:lnTo>
                    <a:pt x="1240" y="1065"/>
                  </a:lnTo>
                  <a:lnTo>
                    <a:pt x="1284" y="1058"/>
                  </a:lnTo>
                  <a:lnTo>
                    <a:pt x="1327" y="1046"/>
                  </a:lnTo>
                  <a:lnTo>
                    <a:pt x="1338" y="1042"/>
                  </a:lnTo>
                  <a:lnTo>
                    <a:pt x="1371" y="1031"/>
                  </a:lnTo>
                  <a:lnTo>
                    <a:pt x="1392" y="1019"/>
                  </a:lnTo>
                  <a:lnTo>
                    <a:pt x="1415" y="1008"/>
                  </a:lnTo>
                  <a:lnTo>
                    <a:pt x="1444" y="990"/>
                  </a:lnTo>
                  <a:lnTo>
                    <a:pt x="1469" y="971"/>
                  </a:lnTo>
                  <a:lnTo>
                    <a:pt x="1496" y="950"/>
                  </a:lnTo>
                  <a:lnTo>
                    <a:pt x="1520" y="923"/>
                  </a:lnTo>
                  <a:lnTo>
                    <a:pt x="1544" y="893"/>
                  </a:lnTo>
                  <a:lnTo>
                    <a:pt x="1565" y="854"/>
                  </a:lnTo>
                  <a:lnTo>
                    <a:pt x="1582" y="814"/>
                  </a:lnTo>
                  <a:lnTo>
                    <a:pt x="1590" y="791"/>
                  </a:lnTo>
                  <a:lnTo>
                    <a:pt x="1595" y="768"/>
                  </a:lnTo>
                  <a:lnTo>
                    <a:pt x="1601" y="743"/>
                  </a:lnTo>
                  <a:lnTo>
                    <a:pt x="1605" y="716"/>
                  </a:lnTo>
                  <a:lnTo>
                    <a:pt x="1607" y="689"/>
                  </a:lnTo>
                  <a:lnTo>
                    <a:pt x="1607" y="660"/>
                  </a:lnTo>
                  <a:lnTo>
                    <a:pt x="1607" y="643"/>
                  </a:lnTo>
                  <a:lnTo>
                    <a:pt x="1607" y="599"/>
                  </a:lnTo>
                  <a:lnTo>
                    <a:pt x="1599" y="530"/>
                  </a:lnTo>
                  <a:lnTo>
                    <a:pt x="1593" y="487"/>
                  </a:lnTo>
                  <a:lnTo>
                    <a:pt x="1586" y="441"/>
                  </a:lnTo>
                  <a:lnTo>
                    <a:pt x="1574" y="391"/>
                  </a:lnTo>
                  <a:lnTo>
                    <a:pt x="1559" y="340"/>
                  </a:lnTo>
                  <a:lnTo>
                    <a:pt x="1542" y="282"/>
                  </a:lnTo>
                  <a:lnTo>
                    <a:pt x="1519" y="226"/>
                  </a:lnTo>
                  <a:lnTo>
                    <a:pt x="1492" y="171"/>
                  </a:lnTo>
                  <a:lnTo>
                    <a:pt x="1461" y="113"/>
                  </a:lnTo>
                  <a:lnTo>
                    <a:pt x="1424" y="56"/>
                  </a:lnTo>
                  <a:lnTo>
                    <a:pt x="1378"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60" name="フリーフォーム 21"/>
            <p:cNvSpPr/>
            <p:nvPr/>
          </p:nvSpPr>
          <p:spPr>
            <a:xfrm>
              <a:off x="16920" y="2575080"/>
              <a:ext cx="9126000" cy="3989520"/>
            </a:xfrm>
            <a:custGeom>
              <a:avLst/>
              <a:gdLst>
                <a:gd name="textAreaLeft" fmla="*/ 0 w 9126000"/>
                <a:gd name="textAreaRight" fmla="*/ 9126360 w 9126000"/>
                <a:gd name="textAreaTop" fmla="*/ 0 h 3989520"/>
                <a:gd name="textAreaBottom" fmla="*/ 3989880 h 3989520"/>
              </a:gdLst>
              <a:ahLst/>
              <a:rect l="textAreaLeft" t="textAreaTop" r="textAreaRight" b="textAreaBottom"/>
              <a:pathLst>
                <a:path w="1620" h="657">
                  <a:moveTo>
                    <a:pt x="0" y="584"/>
                  </a:moveTo>
                  <a:lnTo>
                    <a:pt x="29" y="590"/>
                  </a:lnTo>
                  <a:lnTo>
                    <a:pt x="109" y="605"/>
                  </a:lnTo>
                  <a:lnTo>
                    <a:pt x="234" y="624"/>
                  </a:lnTo>
                  <a:lnTo>
                    <a:pt x="303" y="634"/>
                  </a:lnTo>
                  <a:lnTo>
                    <a:pt x="382" y="642"/>
                  </a:lnTo>
                  <a:lnTo>
                    <a:pt x="468" y="649"/>
                  </a:lnTo>
                  <a:lnTo>
                    <a:pt x="557" y="653"/>
                  </a:lnTo>
                  <a:lnTo>
                    <a:pt x="651" y="657"/>
                  </a:lnTo>
                  <a:lnTo>
                    <a:pt x="743" y="655"/>
                  </a:lnTo>
                  <a:lnTo>
                    <a:pt x="835" y="651"/>
                  </a:lnTo>
                  <a:lnTo>
                    <a:pt x="927" y="643"/>
                  </a:lnTo>
                  <a:lnTo>
                    <a:pt x="1017" y="630"/>
                  </a:lnTo>
                  <a:lnTo>
                    <a:pt x="1062" y="620"/>
                  </a:lnTo>
                  <a:lnTo>
                    <a:pt x="1104" y="611"/>
                  </a:lnTo>
                  <a:lnTo>
                    <a:pt x="1117" y="607"/>
                  </a:lnTo>
                  <a:lnTo>
                    <a:pt x="1156" y="597"/>
                  </a:lnTo>
                  <a:lnTo>
                    <a:pt x="1213" y="576"/>
                  </a:lnTo>
                  <a:lnTo>
                    <a:pt x="1246" y="563"/>
                  </a:lnTo>
                  <a:lnTo>
                    <a:pt x="1280" y="547"/>
                  </a:lnTo>
                  <a:lnTo>
                    <a:pt x="1319" y="528"/>
                  </a:lnTo>
                  <a:lnTo>
                    <a:pt x="1355" y="507"/>
                  </a:lnTo>
                  <a:lnTo>
                    <a:pt x="1394" y="482"/>
                  </a:lnTo>
                  <a:lnTo>
                    <a:pt x="1434" y="451"/>
                  </a:lnTo>
                  <a:lnTo>
                    <a:pt x="1471" y="419"/>
                  </a:lnTo>
                  <a:lnTo>
                    <a:pt x="1503" y="380"/>
                  </a:lnTo>
                  <a:lnTo>
                    <a:pt x="1536" y="338"/>
                  </a:lnTo>
                  <a:lnTo>
                    <a:pt x="1549" y="317"/>
                  </a:lnTo>
                  <a:lnTo>
                    <a:pt x="1563" y="294"/>
                  </a:lnTo>
                  <a:lnTo>
                    <a:pt x="1572" y="265"/>
                  </a:lnTo>
                  <a:lnTo>
                    <a:pt x="1582" y="235"/>
                  </a:lnTo>
                  <a:lnTo>
                    <a:pt x="1593" y="196"/>
                  </a:lnTo>
                  <a:lnTo>
                    <a:pt x="1605" y="150"/>
                  </a:lnTo>
                  <a:lnTo>
                    <a:pt x="1615" y="102"/>
                  </a:lnTo>
                  <a:lnTo>
                    <a:pt x="1620" y="52"/>
                  </a:lnTo>
                  <a:lnTo>
                    <a:pt x="1620" y="25"/>
                  </a:lnTo>
                  <a:lnTo>
                    <a:pt x="162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61" name="フリーフォーム 22"/>
            <p:cNvSpPr/>
            <p:nvPr/>
          </p:nvSpPr>
          <p:spPr>
            <a:xfrm>
              <a:off x="2408040" y="0"/>
              <a:ext cx="6533640" cy="6832080"/>
            </a:xfrm>
            <a:custGeom>
              <a:avLst/>
              <a:gdLst>
                <a:gd name="textAreaLeft" fmla="*/ 0 w 6533640"/>
                <a:gd name="textAreaRight" fmla="*/ 6534000 w 6533640"/>
                <a:gd name="textAreaTop" fmla="*/ 0 h 6832080"/>
                <a:gd name="textAreaBottom" fmla="*/ 6832440 h 6832080"/>
              </a:gdLst>
              <a:ahLst/>
              <a:rect l="textAreaLeft" t="textAreaTop" r="textAreaRight" b="textAreaBottom"/>
              <a:pathLst>
                <a:path w="1142" h="1146">
                  <a:moveTo>
                    <a:pt x="0" y="1144"/>
                  </a:moveTo>
                  <a:lnTo>
                    <a:pt x="36" y="1146"/>
                  </a:lnTo>
                  <a:lnTo>
                    <a:pt x="132" y="1144"/>
                  </a:lnTo>
                  <a:lnTo>
                    <a:pt x="200" y="1142"/>
                  </a:lnTo>
                  <a:lnTo>
                    <a:pt x="274" y="1136"/>
                  </a:lnTo>
                  <a:lnTo>
                    <a:pt x="355" y="1131"/>
                  </a:lnTo>
                  <a:lnTo>
                    <a:pt x="438" y="1119"/>
                  </a:lnTo>
                  <a:lnTo>
                    <a:pt x="526" y="1106"/>
                  </a:lnTo>
                  <a:lnTo>
                    <a:pt x="614" y="1087"/>
                  </a:lnTo>
                  <a:lnTo>
                    <a:pt x="658" y="1075"/>
                  </a:lnTo>
                  <a:lnTo>
                    <a:pt x="701" y="1064"/>
                  </a:lnTo>
                  <a:lnTo>
                    <a:pt x="743" y="1050"/>
                  </a:lnTo>
                  <a:lnTo>
                    <a:pt x="783" y="1035"/>
                  </a:lnTo>
                  <a:lnTo>
                    <a:pt x="822" y="1017"/>
                  </a:lnTo>
                  <a:lnTo>
                    <a:pt x="860" y="998"/>
                  </a:lnTo>
                  <a:lnTo>
                    <a:pt x="895" y="979"/>
                  </a:lnTo>
                  <a:lnTo>
                    <a:pt x="927" y="958"/>
                  </a:lnTo>
                  <a:lnTo>
                    <a:pt x="958" y="935"/>
                  </a:lnTo>
                  <a:lnTo>
                    <a:pt x="985" y="910"/>
                  </a:lnTo>
                  <a:lnTo>
                    <a:pt x="1012" y="883"/>
                  </a:lnTo>
                  <a:lnTo>
                    <a:pt x="1033" y="852"/>
                  </a:lnTo>
                  <a:lnTo>
                    <a:pt x="1040" y="841"/>
                  </a:lnTo>
                  <a:lnTo>
                    <a:pt x="1060" y="808"/>
                  </a:lnTo>
                  <a:lnTo>
                    <a:pt x="1073" y="783"/>
                  </a:lnTo>
                  <a:lnTo>
                    <a:pt x="1085" y="751"/>
                  </a:lnTo>
                  <a:lnTo>
                    <a:pt x="1098" y="712"/>
                  </a:lnTo>
                  <a:lnTo>
                    <a:pt x="1112" y="664"/>
                  </a:lnTo>
                  <a:lnTo>
                    <a:pt x="1123" y="610"/>
                  </a:lnTo>
                  <a:lnTo>
                    <a:pt x="1133" y="551"/>
                  </a:lnTo>
                  <a:lnTo>
                    <a:pt x="1140" y="482"/>
                  </a:lnTo>
                  <a:lnTo>
                    <a:pt x="1142" y="403"/>
                  </a:lnTo>
                  <a:lnTo>
                    <a:pt x="1142" y="317"/>
                  </a:lnTo>
                  <a:lnTo>
                    <a:pt x="1136" y="219"/>
                  </a:lnTo>
                  <a:lnTo>
                    <a:pt x="1127" y="115"/>
                  </a:lnTo>
                  <a:lnTo>
                    <a:pt x="111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62" name="フリーフォーム 23"/>
            <p:cNvSpPr/>
            <p:nvPr/>
          </p:nvSpPr>
          <p:spPr>
            <a:xfrm>
              <a:off x="7448400" y="0"/>
              <a:ext cx="1694160" cy="1494000"/>
            </a:xfrm>
            <a:custGeom>
              <a:avLst/>
              <a:gdLst>
                <a:gd name="textAreaLeft" fmla="*/ 0 w 1694160"/>
                <a:gd name="textAreaRight" fmla="*/ 1694520 w 1694160"/>
                <a:gd name="textAreaTop" fmla="*/ 0 h 1494000"/>
                <a:gd name="textAreaBottom" fmla="*/ 1494360 h 1494000"/>
              </a:gdLst>
              <a:ahLst/>
              <a:rect l="textAreaLeft" t="textAreaTop" r="textAreaRight" b="textAreaBottom"/>
              <a:pathLst>
                <a:path w="309" h="263">
                  <a:moveTo>
                    <a:pt x="0" y="0"/>
                  </a:moveTo>
                  <a:lnTo>
                    <a:pt x="39" y="19"/>
                  </a:lnTo>
                  <a:lnTo>
                    <a:pt x="79" y="42"/>
                  </a:lnTo>
                  <a:lnTo>
                    <a:pt x="131" y="73"/>
                  </a:lnTo>
                  <a:lnTo>
                    <a:pt x="156" y="90"/>
                  </a:lnTo>
                  <a:lnTo>
                    <a:pt x="183" y="111"/>
                  </a:lnTo>
                  <a:lnTo>
                    <a:pt x="209" y="132"/>
                  </a:lnTo>
                  <a:lnTo>
                    <a:pt x="232" y="155"/>
                  </a:lnTo>
                  <a:lnTo>
                    <a:pt x="257" y="180"/>
                  </a:lnTo>
                  <a:lnTo>
                    <a:pt x="277" y="205"/>
                  </a:lnTo>
                  <a:lnTo>
                    <a:pt x="296" y="234"/>
                  </a:lnTo>
                  <a:lnTo>
                    <a:pt x="309" y="263"/>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363" name="フリーフォーム 24"/>
            <p:cNvSpPr/>
            <p:nvPr/>
          </p:nvSpPr>
          <p:spPr>
            <a:xfrm>
              <a:off x="0" y="5877720"/>
              <a:ext cx="5439960" cy="954360"/>
            </a:xfrm>
            <a:custGeom>
              <a:avLst/>
              <a:gdLst>
                <a:gd name="textAreaLeft" fmla="*/ 0 w 5439960"/>
                <a:gd name="textAreaRight" fmla="*/ 5440320 w 5439960"/>
                <a:gd name="textAreaTop" fmla="*/ 0 h 954360"/>
                <a:gd name="textAreaBottom" fmla="*/ 954720 h 954360"/>
              </a:gdLst>
              <a:ahLst/>
              <a:rect l="textAreaLeft" t="textAreaTop" r="textAreaRight" b="textAreaBottom"/>
              <a:pathLst>
                <a:path w="960" h="157">
                  <a:moveTo>
                    <a:pt x="0" y="0"/>
                  </a:moveTo>
                  <a:lnTo>
                    <a:pt x="98" y="27"/>
                  </a:lnTo>
                  <a:lnTo>
                    <a:pt x="209" y="53"/>
                  </a:lnTo>
                  <a:lnTo>
                    <a:pt x="340" y="84"/>
                  </a:lnTo>
                  <a:lnTo>
                    <a:pt x="493" y="113"/>
                  </a:lnTo>
                  <a:lnTo>
                    <a:pt x="572" y="126"/>
                  </a:lnTo>
                  <a:lnTo>
                    <a:pt x="654" y="138"/>
                  </a:lnTo>
                  <a:lnTo>
                    <a:pt x="735" y="146"/>
                  </a:lnTo>
                  <a:lnTo>
                    <a:pt x="812" y="153"/>
                  </a:lnTo>
                  <a:lnTo>
                    <a:pt x="887" y="157"/>
                  </a:lnTo>
                  <a:lnTo>
                    <a:pt x="960" y="155"/>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grpSp>
      <p:pic>
        <p:nvPicPr>
          <p:cNvPr id="364" name="図形グループ 2" descr=""/>
          <p:cNvPicPr/>
          <p:nvPr/>
        </p:nvPicPr>
        <p:blipFill>
          <a:blip r:embed="rId3"/>
          <a:stretch/>
        </p:blipFill>
        <p:spPr>
          <a:xfrm>
            <a:off x="8058240" y="5846760"/>
            <a:ext cx="1085760" cy="1023840"/>
          </a:xfrm>
          <a:prstGeom prst="rect">
            <a:avLst/>
          </a:prstGeom>
          <a:ln w="0">
            <a:noFill/>
          </a:ln>
        </p:spPr>
      </p:pic>
      <p:sp>
        <p:nvSpPr>
          <p:cNvPr id="36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366" name="PlaceHolder 2"/>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sp>
        <p:nvSpPr>
          <p:cNvPr id="367" name="PlaceHolder 3"/>
          <p:cNvSpPr>
            <a:spLocks noGrp="1"/>
          </p:cNvSpPr>
          <p:nvPr>
            <p:ph type="dt" idx="22"/>
          </p:nvPr>
        </p:nvSpPr>
        <p:spPr>
          <a:xfrm>
            <a:off x="-360" y="-360"/>
            <a:ext cx="213372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D062B-C279-47D5-BAB5-2F3A3881FA64}"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368" name="PlaceHolder 4"/>
          <p:cNvSpPr>
            <a:spLocks noGrp="1"/>
          </p:cNvSpPr>
          <p:nvPr>
            <p:ph type="ftr" idx="23"/>
          </p:nvPr>
        </p:nvSpPr>
        <p:spPr>
          <a:xfrm>
            <a:off x="2199960" y="-360"/>
            <a:ext cx="4498920" cy="36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369" name="PlaceHolder 5"/>
          <p:cNvSpPr>
            <a:spLocks noGrp="1"/>
          </p:cNvSpPr>
          <p:nvPr>
            <p:ph type="sldNum" idx="24"/>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281A3-E4FA-473D-B81E-80003D8CE81D}"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6" name="図形グループ 1"/>
          <p:cNvGrpSpPr/>
          <p:nvPr/>
        </p:nvGrpSpPr>
        <p:grpSpPr>
          <a:xfrm>
            <a:off x="-28440" y="0"/>
            <a:ext cx="9171360" cy="6855480"/>
            <a:chOff x="-28440" y="0"/>
            <a:chExt cx="9171360" cy="6855480"/>
          </a:xfrm>
        </p:grpSpPr>
        <p:sp>
          <p:nvSpPr>
            <p:cNvPr id="407" name="フリーフォーム 17"/>
            <p:cNvSpPr/>
            <p:nvPr/>
          </p:nvSpPr>
          <p:spPr>
            <a:xfrm>
              <a:off x="-28440" y="5010120"/>
              <a:ext cx="5669640" cy="1821960"/>
            </a:xfrm>
            <a:custGeom>
              <a:avLst/>
              <a:gdLst>
                <a:gd name="textAreaLeft" fmla="*/ 0 w 5669640"/>
                <a:gd name="textAreaRight" fmla="*/ 5670000 w 5669640"/>
                <a:gd name="textAreaTop" fmla="*/ 0 h 1821960"/>
                <a:gd name="textAreaBottom" fmla="*/ 1822320 h 1821960"/>
              </a:gdLst>
              <a:ahLst/>
              <a:rect l="textAreaLeft" t="textAreaTop" r="textAreaRight" b="textAreaBottom"/>
              <a:pathLst>
                <a:path w="991" h="300">
                  <a:moveTo>
                    <a:pt x="0" y="0"/>
                  </a:moveTo>
                  <a:lnTo>
                    <a:pt x="15" y="14"/>
                  </a:lnTo>
                  <a:lnTo>
                    <a:pt x="32" y="33"/>
                  </a:lnTo>
                  <a:lnTo>
                    <a:pt x="57" y="54"/>
                  </a:lnTo>
                  <a:lnTo>
                    <a:pt x="92" y="79"/>
                  </a:lnTo>
                  <a:lnTo>
                    <a:pt x="132" y="106"/>
                  </a:lnTo>
                  <a:lnTo>
                    <a:pt x="182" y="133"/>
                  </a:lnTo>
                  <a:lnTo>
                    <a:pt x="236" y="163"/>
                  </a:lnTo>
                  <a:lnTo>
                    <a:pt x="301" y="192"/>
                  </a:lnTo>
                  <a:lnTo>
                    <a:pt x="374" y="219"/>
                  </a:lnTo>
                  <a:lnTo>
                    <a:pt x="457" y="244"/>
                  </a:lnTo>
                  <a:lnTo>
                    <a:pt x="501" y="255"/>
                  </a:lnTo>
                  <a:lnTo>
                    <a:pt x="545" y="267"/>
                  </a:lnTo>
                  <a:lnTo>
                    <a:pt x="595" y="275"/>
                  </a:lnTo>
                  <a:lnTo>
                    <a:pt x="647" y="282"/>
                  </a:lnTo>
                  <a:lnTo>
                    <a:pt x="699" y="290"/>
                  </a:lnTo>
                  <a:lnTo>
                    <a:pt x="752" y="294"/>
                  </a:lnTo>
                  <a:lnTo>
                    <a:pt x="810" y="298"/>
                  </a:lnTo>
                  <a:lnTo>
                    <a:pt x="868" y="300"/>
                  </a:lnTo>
                  <a:lnTo>
                    <a:pt x="927" y="298"/>
                  </a:lnTo>
                  <a:lnTo>
                    <a:pt x="991" y="296"/>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08" name="フリーフォーム 18"/>
            <p:cNvSpPr/>
            <p:nvPr/>
          </p:nvSpPr>
          <p:spPr>
            <a:xfrm>
              <a:off x="4782240" y="0"/>
              <a:ext cx="3907800" cy="6855480"/>
            </a:xfrm>
            <a:custGeom>
              <a:avLst/>
              <a:gdLst>
                <a:gd name="textAreaLeft" fmla="*/ 0 w 3907800"/>
                <a:gd name="textAreaRight" fmla="*/ 3908160 w 3907800"/>
                <a:gd name="textAreaTop" fmla="*/ 0 h 6855480"/>
                <a:gd name="textAreaBottom" fmla="*/ 6855840 h 6855480"/>
              </a:gdLst>
              <a:ahLst/>
              <a:rect l="textAreaLeft" t="textAreaTop" r="textAreaRight" b="textAreaBottom"/>
              <a:pathLst>
                <a:path w="539" h="1129">
                  <a:moveTo>
                    <a:pt x="0" y="1129"/>
                  </a:moveTo>
                  <a:lnTo>
                    <a:pt x="42" y="1125"/>
                  </a:lnTo>
                  <a:lnTo>
                    <a:pt x="132" y="1115"/>
                  </a:lnTo>
                  <a:lnTo>
                    <a:pt x="188" y="1106"/>
                  </a:lnTo>
                  <a:lnTo>
                    <a:pt x="241" y="1094"/>
                  </a:lnTo>
                  <a:lnTo>
                    <a:pt x="289" y="1079"/>
                  </a:lnTo>
                  <a:lnTo>
                    <a:pt x="311" y="1071"/>
                  </a:lnTo>
                  <a:lnTo>
                    <a:pt x="328" y="1062"/>
                  </a:lnTo>
                  <a:lnTo>
                    <a:pt x="339" y="1056"/>
                  </a:lnTo>
                  <a:lnTo>
                    <a:pt x="351" y="1048"/>
                  </a:lnTo>
                  <a:lnTo>
                    <a:pt x="366" y="1037"/>
                  </a:lnTo>
                  <a:lnTo>
                    <a:pt x="385" y="1019"/>
                  </a:lnTo>
                  <a:lnTo>
                    <a:pt x="405" y="998"/>
                  </a:lnTo>
                  <a:lnTo>
                    <a:pt x="426" y="969"/>
                  </a:lnTo>
                  <a:lnTo>
                    <a:pt x="449" y="939"/>
                  </a:lnTo>
                  <a:lnTo>
                    <a:pt x="470" y="898"/>
                  </a:lnTo>
                  <a:lnTo>
                    <a:pt x="489" y="848"/>
                  </a:lnTo>
                  <a:lnTo>
                    <a:pt x="506" y="793"/>
                  </a:lnTo>
                  <a:lnTo>
                    <a:pt x="520" y="727"/>
                  </a:lnTo>
                  <a:lnTo>
                    <a:pt x="531" y="655"/>
                  </a:lnTo>
                  <a:lnTo>
                    <a:pt x="537" y="572"/>
                  </a:lnTo>
                  <a:lnTo>
                    <a:pt x="539" y="530"/>
                  </a:lnTo>
                  <a:lnTo>
                    <a:pt x="537" y="482"/>
                  </a:lnTo>
                  <a:lnTo>
                    <a:pt x="535" y="432"/>
                  </a:lnTo>
                  <a:lnTo>
                    <a:pt x="533" y="378"/>
                  </a:lnTo>
                  <a:lnTo>
                    <a:pt x="531" y="357"/>
                  </a:lnTo>
                  <a:lnTo>
                    <a:pt x="524" y="286"/>
                  </a:lnTo>
                  <a:lnTo>
                    <a:pt x="516" y="232"/>
                  </a:lnTo>
                  <a:lnTo>
                    <a:pt x="503" y="169"/>
                  </a:lnTo>
                  <a:lnTo>
                    <a:pt x="487" y="90"/>
                  </a:lnTo>
                  <a:lnTo>
                    <a:pt x="466"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09" name="フリーフォーム 19"/>
            <p:cNvSpPr/>
            <p:nvPr/>
          </p:nvSpPr>
          <p:spPr>
            <a:xfrm>
              <a:off x="0" y="0"/>
              <a:ext cx="9131040" cy="6473880"/>
            </a:xfrm>
            <a:custGeom>
              <a:avLst/>
              <a:gdLst>
                <a:gd name="textAreaLeft" fmla="*/ 0 w 9131040"/>
                <a:gd name="textAreaRight" fmla="*/ 9131400 w 9131040"/>
                <a:gd name="textAreaTop" fmla="*/ 0 h 6473880"/>
                <a:gd name="textAreaBottom" fmla="*/ 6474240 h 6473880"/>
              </a:gdLst>
              <a:ahLst/>
              <a:rect l="textAreaLeft" t="textAreaTop" r="textAreaRight" b="textAreaBottom"/>
              <a:pathLst>
                <a:path w="1607" h="1085">
                  <a:moveTo>
                    <a:pt x="0" y="929"/>
                  </a:moveTo>
                  <a:lnTo>
                    <a:pt x="40" y="941"/>
                  </a:lnTo>
                  <a:lnTo>
                    <a:pt x="148" y="966"/>
                  </a:lnTo>
                  <a:lnTo>
                    <a:pt x="305" y="1000"/>
                  </a:lnTo>
                  <a:lnTo>
                    <a:pt x="399" y="1019"/>
                  </a:lnTo>
                  <a:lnTo>
                    <a:pt x="501" y="1037"/>
                  </a:lnTo>
                  <a:lnTo>
                    <a:pt x="608" y="1052"/>
                  </a:lnTo>
                  <a:lnTo>
                    <a:pt x="718" y="1067"/>
                  </a:lnTo>
                  <a:lnTo>
                    <a:pt x="827" y="1077"/>
                  </a:lnTo>
                  <a:lnTo>
                    <a:pt x="937" y="1083"/>
                  </a:lnTo>
                  <a:lnTo>
                    <a:pt x="991" y="1085"/>
                  </a:lnTo>
                  <a:lnTo>
                    <a:pt x="1044" y="1085"/>
                  </a:lnTo>
                  <a:lnTo>
                    <a:pt x="1096" y="1083"/>
                  </a:lnTo>
                  <a:lnTo>
                    <a:pt x="1146" y="1079"/>
                  </a:lnTo>
                  <a:lnTo>
                    <a:pt x="1194" y="1073"/>
                  </a:lnTo>
                  <a:lnTo>
                    <a:pt x="1240" y="1065"/>
                  </a:lnTo>
                  <a:lnTo>
                    <a:pt x="1284" y="1058"/>
                  </a:lnTo>
                  <a:lnTo>
                    <a:pt x="1327" y="1046"/>
                  </a:lnTo>
                  <a:lnTo>
                    <a:pt x="1338" y="1042"/>
                  </a:lnTo>
                  <a:lnTo>
                    <a:pt x="1371" y="1031"/>
                  </a:lnTo>
                  <a:lnTo>
                    <a:pt x="1392" y="1019"/>
                  </a:lnTo>
                  <a:lnTo>
                    <a:pt x="1415" y="1008"/>
                  </a:lnTo>
                  <a:lnTo>
                    <a:pt x="1444" y="990"/>
                  </a:lnTo>
                  <a:lnTo>
                    <a:pt x="1469" y="971"/>
                  </a:lnTo>
                  <a:lnTo>
                    <a:pt x="1496" y="950"/>
                  </a:lnTo>
                  <a:lnTo>
                    <a:pt x="1520" y="923"/>
                  </a:lnTo>
                  <a:lnTo>
                    <a:pt x="1544" y="893"/>
                  </a:lnTo>
                  <a:lnTo>
                    <a:pt x="1565" y="854"/>
                  </a:lnTo>
                  <a:lnTo>
                    <a:pt x="1582" y="814"/>
                  </a:lnTo>
                  <a:lnTo>
                    <a:pt x="1590" y="791"/>
                  </a:lnTo>
                  <a:lnTo>
                    <a:pt x="1595" y="768"/>
                  </a:lnTo>
                  <a:lnTo>
                    <a:pt x="1601" y="743"/>
                  </a:lnTo>
                  <a:lnTo>
                    <a:pt x="1605" y="716"/>
                  </a:lnTo>
                  <a:lnTo>
                    <a:pt x="1607" y="689"/>
                  </a:lnTo>
                  <a:lnTo>
                    <a:pt x="1607" y="660"/>
                  </a:lnTo>
                  <a:lnTo>
                    <a:pt x="1607" y="643"/>
                  </a:lnTo>
                  <a:lnTo>
                    <a:pt x="1607" y="599"/>
                  </a:lnTo>
                  <a:lnTo>
                    <a:pt x="1599" y="530"/>
                  </a:lnTo>
                  <a:lnTo>
                    <a:pt x="1593" y="487"/>
                  </a:lnTo>
                  <a:lnTo>
                    <a:pt x="1586" y="441"/>
                  </a:lnTo>
                  <a:lnTo>
                    <a:pt x="1574" y="391"/>
                  </a:lnTo>
                  <a:lnTo>
                    <a:pt x="1559" y="340"/>
                  </a:lnTo>
                  <a:lnTo>
                    <a:pt x="1542" y="282"/>
                  </a:lnTo>
                  <a:lnTo>
                    <a:pt x="1519" y="226"/>
                  </a:lnTo>
                  <a:lnTo>
                    <a:pt x="1492" y="171"/>
                  </a:lnTo>
                  <a:lnTo>
                    <a:pt x="1461" y="113"/>
                  </a:lnTo>
                  <a:lnTo>
                    <a:pt x="1424" y="56"/>
                  </a:lnTo>
                  <a:lnTo>
                    <a:pt x="1378"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10" name="フリーフォーム 21"/>
            <p:cNvSpPr/>
            <p:nvPr/>
          </p:nvSpPr>
          <p:spPr>
            <a:xfrm>
              <a:off x="16920" y="2575080"/>
              <a:ext cx="9126000" cy="3989520"/>
            </a:xfrm>
            <a:custGeom>
              <a:avLst/>
              <a:gdLst>
                <a:gd name="textAreaLeft" fmla="*/ 0 w 9126000"/>
                <a:gd name="textAreaRight" fmla="*/ 9126360 w 9126000"/>
                <a:gd name="textAreaTop" fmla="*/ 0 h 3989520"/>
                <a:gd name="textAreaBottom" fmla="*/ 3989880 h 3989520"/>
              </a:gdLst>
              <a:ahLst/>
              <a:rect l="textAreaLeft" t="textAreaTop" r="textAreaRight" b="textAreaBottom"/>
              <a:pathLst>
                <a:path w="1620" h="657">
                  <a:moveTo>
                    <a:pt x="0" y="584"/>
                  </a:moveTo>
                  <a:lnTo>
                    <a:pt x="29" y="590"/>
                  </a:lnTo>
                  <a:lnTo>
                    <a:pt x="109" y="605"/>
                  </a:lnTo>
                  <a:lnTo>
                    <a:pt x="234" y="624"/>
                  </a:lnTo>
                  <a:lnTo>
                    <a:pt x="303" y="634"/>
                  </a:lnTo>
                  <a:lnTo>
                    <a:pt x="382" y="642"/>
                  </a:lnTo>
                  <a:lnTo>
                    <a:pt x="468" y="649"/>
                  </a:lnTo>
                  <a:lnTo>
                    <a:pt x="557" y="653"/>
                  </a:lnTo>
                  <a:lnTo>
                    <a:pt x="651" y="657"/>
                  </a:lnTo>
                  <a:lnTo>
                    <a:pt x="743" y="655"/>
                  </a:lnTo>
                  <a:lnTo>
                    <a:pt x="835" y="651"/>
                  </a:lnTo>
                  <a:lnTo>
                    <a:pt x="927" y="643"/>
                  </a:lnTo>
                  <a:lnTo>
                    <a:pt x="1017" y="630"/>
                  </a:lnTo>
                  <a:lnTo>
                    <a:pt x="1062" y="620"/>
                  </a:lnTo>
                  <a:lnTo>
                    <a:pt x="1104" y="611"/>
                  </a:lnTo>
                  <a:lnTo>
                    <a:pt x="1117" y="607"/>
                  </a:lnTo>
                  <a:lnTo>
                    <a:pt x="1156" y="597"/>
                  </a:lnTo>
                  <a:lnTo>
                    <a:pt x="1213" y="576"/>
                  </a:lnTo>
                  <a:lnTo>
                    <a:pt x="1246" y="563"/>
                  </a:lnTo>
                  <a:lnTo>
                    <a:pt x="1280" y="547"/>
                  </a:lnTo>
                  <a:lnTo>
                    <a:pt x="1319" y="528"/>
                  </a:lnTo>
                  <a:lnTo>
                    <a:pt x="1355" y="507"/>
                  </a:lnTo>
                  <a:lnTo>
                    <a:pt x="1394" y="482"/>
                  </a:lnTo>
                  <a:lnTo>
                    <a:pt x="1434" y="451"/>
                  </a:lnTo>
                  <a:lnTo>
                    <a:pt x="1471" y="419"/>
                  </a:lnTo>
                  <a:lnTo>
                    <a:pt x="1503" y="380"/>
                  </a:lnTo>
                  <a:lnTo>
                    <a:pt x="1536" y="338"/>
                  </a:lnTo>
                  <a:lnTo>
                    <a:pt x="1549" y="317"/>
                  </a:lnTo>
                  <a:lnTo>
                    <a:pt x="1563" y="294"/>
                  </a:lnTo>
                  <a:lnTo>
                    <a:pt x="1572" y="265"/>
                  </a:lnTo>
                  <a:lnTo>
                    <a:pt x="1582" y="235"/>
                  </a:lnTo>
                  <a:lnTo>
                    <a:pt x="1593" y="196"/>
                  </a:lnTo>
                  <a:lnTo>
                    <a:pt x="1605" y="150"/>
                  </a:lnTo>
                  <a:lnTo>
                    <a:pt x="1615" y="102"/>
                  </a:lnTo>
                  <a:lnTo>
                    <a:pt x="1620" y="52"/>
                  </a:lnTo>
                  <a:lnTo>
                    <a:pt x="1620" y="25"/>
                  </a:lnTo>
                  <a:lnTo>
                    <a:pt x="162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11" name="フリーフォーム 22"/>
            <p:cNvSpPr/>
            <p:nvPr/>
          </p:nvSpPr>
          <p:spPr>
            <a:xfrm>
              <a:off x="2408040" y="0"/>
              <a:ext cx="6533640" cy="6832080"/>
            </a:xfrm>
            <a:custGeom>
              <a:avLst/>
              <a:gdLst>
                <a:gd name="textAreaLeft" fmla="*/ 0 w 6533640"/>
                <a:gd name="textAreaRight" fmla="*/ 6534000 w 6533640"/>
                <a:gd name="textAreaTop" fmla="*/ 0 h 6832080"/>
                <a:gd name="textAreaBottom" fmla="*/ 6832440 h 6832080"/>
              </a:gdLst>
              <a:ahLst/>
              <a:rect l="textAreaLeft" t="textAreaTop" r="textAreaRight" b="textAreaBottom"/>
              <a:pathLst>
                <a:path w="1142" h="1146">
                  <a:moveTo>
                    <a:pt x="0" y="1144"/>
                  </a:moveTo>
                  <a:lnTo>
                    <a:pt x="36" y="1146"/>
                  </a:lnTo>
                  <a:lnTo>
                    <a:pt x="132" y="1144"/>
                  </a:lnTo>
                  <a:lnTo>
                    <a:pt x="200" y="1142"/>
                  </a:lnTo>
                  <a:lnTo>
                    <a:pt x="274" y="1136"/>
                  </a:lnTo>
                  <a:lnTo>
                    <a:pt x="355" y="1131"/>
                  </a:lnTo>
                  <a:lnTo>
                    <a:pt x="438" y="1119"/>
                  </a:lnTo>
                  <a:lnTo>
                    <a:pt x="526" y="1106"/>
                  </a:lnTo>
                  <a:lnTo>
                    <a:pt x="614" y="1087"/>
                  </a:lnTo>
                  <a:lnTo>
                    <a:pt x="658" y="1075"/>
                  </a:lnTo>
                  <a:lnTo>
                    <a:pt x="701" y="1064"/>
                  </a:lnTo>
                  <a:lnTo>
                    <a:pt x="743" y="1050"/>
                  </a:lnTo>
                  <a:lnTo>
                    <a:pt x="783" y="1035"/>
                  </a:lnTo>
                  <a:lnTo>
                    <a:pt x="822" y="1017"/>
                  </a:lnTo>
                  <a:lnTo>
                    <a:pt x="860" y="998"/>
                  </a:lnTo>
                  <a:lnTo>
                    <a:pt x="895" y="979"/>
                  </a:lnTo>
                  <a:lnTo>
                    <a:pt x="927" y="958"/>
                  </a:lnTo>
                  <a:lnTo>
                    <a:pt x="958" y="935"/>
                  </a:lnTo>
                  <a:lnTo>
                    <a:pt x="985" y="910"/>
                  </a:lnTo>
                  <a:lnTo>
                    <a:pt x="1012" y="883"/>
                  </a:lnTo>
                  <a:lnTo>
                    <a:pt x="1033" y="852"/>
                  </a:lnTo>
                  <a:lnTo>
                    <a:pt x="1040" y="841"/>
                  </a:lnTo>
                  <a:lnTo>
                    <a:pt x="1060" y="808"/>
                  </a:lnTo>
                  <a:lnTo>
                    <a:pt x="1073" y="783"/>
                  </a:lnTo>
                  <a:lnTo>
                    <a:pt x="1085" y="751"/>
                  </a:lnTo>
                  <a:lnTo>
                    <a:pt x="1098" y="712"/>
                  </a:lnTo>
                  <a:lnTo>
                    <a:pt x="1112" y="664"/>
                  </a:lnTo>
                  <a:lnTo>
                    <a:pt x="1123" y="610"/>
                  </a:lnTo>
                  <a:lnTo>
                    <a:pt x="1133" y="551"/>
                  </a:lnTo>
                  <a:lnTo>
                    <a:pt x="1140" y="482"/>
                  </a:lnTo>
                  <a:lnTo>
                    <a:pt x="1142" y="403"/>
                  </a:lnTo>
                  <a:lnTo>
                    <a:pt x="1142" y="317"/>
                  </a:lnTo>
                  <a:lnTo>
                    <a:pt x="1136" y="219"/>
                  </a:lnTo>
                  <a:lnTo>
                    <a:pt x="1127" y="115"/>
                  </a:lnTo>
                  <a:lnTo>
                    <a:pt x="1110" y="0"/>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12" name="フリーフォーム 23"/>
            <p:cNvSpPr/>
            <p:nvPr/>
          </p:nvSpPr>
          <p:spPr>
            <a:xfrm>
              <a:off x="7448400" y="0"/>
              <a:ext cx="1694160" cy="1494000"/>
            </a:xfrm>
            <a:custGeom>
              <a:avLst/>
              <a:gdLst>
                <a:gd name="textAreaLeft" fmla="*/ 0 w 1694160"/>
                <a:gd name="textAreaRight" fmla="*/ 1694520 w 1694160"/>
                <a:gd name="textAreaTop" fmla="*/ 0 h 1494000"/>
                <a:gd name="textAreaBottom" fmla="*/ 1494360 h 1494000"/>
              </a:gdLst>
              <a:ahLst/>
              <a:rect l="textAreaLeft" t="textAreaTop" r="textAreaRight" b="textAreaBottom"/>
              <a:pathLst>
                <a:path w="309" h="263">
                  <a:moveTo>
                    <a:pt x="0" y="0"/>
                  </a:moveTo>
                  <a:lnTo>
                    <a:pt x="39" y="19"/>
                  </a:lnTo>
                  <a:lnTo>
                    <a:pt x="79" y="42"/>
                  </a:lnTo>
                  <a:lnTo>
                    <a:pt x="131" y="73"/>
                  </a:lnTo>
                  <a:lnTo>
                    <a:pt x="156" y="90"/>
                  </a:lnTo>
                  <a:lnTo>
                    <a:pt x="183" y="111"/>
                  </a:lnTo>
                  <a:lnTo>
                    <a:pt x="209" y="132"/>
                  </a:lnTo>
                  <a:lnTo>
                    <a:pt x="232" y="155"/>
                  </a:lnTo>
                  <a:lnTo>
                    <a:pt x="257" y="180"/>
                  </a:lnTo>
                  <a:lnTo>
                    <a:pt x="277" y="205"/>
                  </a:lnTo>
                  <a:lnTo>
                    <a:pt x="296" y="234"/>
                  </a:lnTo>
                  <a:lnTo>
                    <a:pt x="309" y="263"/>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sp>
          <p:nvSpPr>
            <p:cNvPr id="413" name="フリーフォーム 24"/>
            <p:cNvSpPr/>
            <p:nvPr/>
          </p:nvSpPr>
          <p:spPr>
            <a:xfrm>
              <a:off x="0" y="5877720"/>
              <a:ext cx="5439960" cy="954360"/>
            </a:xfrm>
            <a:custGeom>
              <a:avLst/>
              <a:gdLst>
                <a:gd name="textAreaLeft" fmla="*/ 0 w 5439960"/>
                <a:gd name="textAreaRight" fmla="*/ 5440320 w 5439960"/>
                <a:gd name="textAreaTop" fmla="*/ 0 h 954360"/>
                <a:gd name="textAreaBottom" fmla="*/ 954720 h 954360"/>
              </a:gdLst>
              <a:ahLst/>
              <a:rect l="textAreaLeft" t="textAreaTop" r="textAreaRight" b="textAreaBottom"/>
              <a:pathLst>
                <a:path w="960" h="157">
                  <a:moveTo>
                    <a:pt x="0" y="0"/>
                  </a:moveTo>
                  <a:lnTo>
                    <a:pt x="98" y="27"/>
                  </a:lnTo>
                  <a:lnTo>
                    <a:pt x="209" y="53"/>
                  </a:lnTo>
                  <a:lnTo>
                    <a:pt x="340" y="84"/>
                  </a:lnTo>
                  <a:lnTo>
                    <a:pt x="493" y="113"/>
                  </a:lnTo>
                  <a:lnTo>
                    <a:pt x="572" y="126"/>
                  </a:lnTo>
                  <a:lnTo>
                    <a:pt x="654" y="138"/>
                  </a:lnTo>
                  <a:lnTo>
                    <a:pt x="735" y="146"/>
                  </a:lnTo>
                  <a:lnTo>
                    <a:pt x="812" y="153"/>
                  </a:lnTo>
                  <a:lnTo>
                    <a:pt x="887" y="157"/>
                  </a:lnTo>
                  <a:lnTo>
                    <a:pt x="960" y="155"/>
                  </a:lnTo>
                </a:path>
              </a:pathLst>
            </a:custGeom>
            <a:noFill/>
            <a:ln w="12600">
              <a:solidFill>
                <a:srgbClr val="e3560e">
                  <a:alpha val="29000"/>
                </a:srgbClr>
              </a:solidFill>
              <a:round/>
            </a:ln>
          </p:spPr>
          <p:style>
            <a:lnRef idx="0"/>
            <a:fillRef idx="0"/>
            <a:effectRef idx="0"/>
            <a:fontRef idx="minor"/>
          </p:style>
          <p:txBody>
            <a:bodyPr anchor="t">
              <a:noAutofit/>
            </a:bodyPr>
            <a:p>
              <a:endParaRPr b="0" lang="en-US" sz="1800" spc="-1" strike="noStrike">
                <a:solidFill>
                  <a:srgbClr val="000000"/>
                </a:solidFill>
                <a:latin typeface="Corbel"/>
              </a:endParaRPr>
            </a:p>
          </p:txBody>
        </p:sp>
      </p:grpSp>
      <p:pic>
        <p:nvPicPr>
          <p:cNvPr id="414" name="図形グループ 2" descr=""/>
          <p:cNvPicPr/>
          <p:nvPr/>
        </p:nvPicPr>
        <p:blipFill>
          <a:blip r:embed="rId3"/>
          <a:stretch/>
        </p:blipFill>
        <p:spPr>
          <a:xfrm>
            <a:off x="8058240" y="5846760"/>
            <a:ext cx="1085760" cy="1023840"/>
          </a:xfrm>
          <a:prstGeom prst="rect">
            <a:avLst/>
          </a:prstGeom>
          <a:ln w="0">
            <a:noFill/>
          </a:ln>
        </p:spPr>
      </p:pic>
      <p:sp>
        <p:nvSpPr>
          <p:cNvPr id="415" name="PlaceHolder 1"/>
          <p:cNvSpPr>
            <a:spLocks noGrp="1"/>
          </p:cNvSpPr>
          <p:nvPr>
            <p:ph type="title"/>
          </p:nvPr>
        </p:nvSpPr>
        <p:spPr>
          <a:xfrm>
            <a:off x="457200" y="428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75c1e"/>
                </a:solidFill>
                <a:latin typeface="Calibri"/>
              </a:rPr>
              <a:t>Click to edit the title text format</a:t>
            </a:r>
            <a:endParaRPr b="0" lang="en-US" sz="4400" spc="-1" strike="noStrike">
              <a:solidFill>
                <a:srgbClr val="975c1e"/>
              </a:solidFill>
              <a:latin typeface="Calibri"/>
            </a:endParaRPr>
          </a:p>
        </p:txBody>
      </p:sp>
      <p:sp>
        <p:nvSpPr>
          <p:cNvPr id="416" name="PlaceHolder 2"/>
          <p:cNvSpPr>
            <a:spLocks noGrp="1"/>
          </p:cNvSpPr>
          <p:nvPr>
            <p:ph type="body"/>
          </p:nvPr>
        </p:nvSpPr>
        <p:spPr>
          <a:xfrm>
            <a:off x="457200" y="1601640"/>
            <a:ext cx="8229600" cy="4685040"/>
          </a:xfrm>
          <a:prstGeom prst="rect">
            <a:avLst/>
          </a:prstGeom>
          <a:noFill/>
          <a:ln w="0">
            <a:noFill/>
          </a:ln>
        </p:spPr>
        <p:txBody>
          <a:bodyPr lIns="90000" rIns="90000" tIns="46800" bIns="46800" anchor="t">
            <a:normAutofit/>
          </a:bodyPr>
          <a:p>
            <a:pPr marL="343080" indent="-343080">
              <a:spcBef>
                <a:spcPts val="7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Click to edit the outline text format</a:t>
            </a:r>
            <a:endParaRPr b="0" lang="en-US" sz="3200" spc="-1" strike="noStrike">
              <a:solidFill>
                <a:srgbClr val="975c1e"/>
              </a:solidFill>
              <a:latin typeface="Corbel"/>
            </a:endParaRPr>
          </a:p>
          <a:p>
            <a:pPr lvl="1" marL="743040" indent="-285840">
              <a:spcBef>
                <a:spcPts val="799"/>
              </a:spcBef>
              <a:buClr>
                <a:srgbClr val="c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cond Outline Level</a:t>
            </a:r>
            <a:endParaRPr b="0" lang="en-US" sz="3200" spc="-1" strike="noStrike">
              <a:solidFill>
                <a:srgbClr val="975c1e"/>
              </a:solidFill>
              <a:latin typeface="Corbel"/>
            </a:endParaRPr>
          </a:p>
          <a:p>
            <a:pPr lvl="2" marL="1143000" indent="-228600">
              <a:spcBef>
                <a:spcPts val="7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Third Outline Level</a:t>
            </a:r>
            <a:endParaRPr b="0" lang="en-US" sz="3200" spc="-1" strike="noStrike">
              <a:solidFill>
                <a:srgbClr val="975c1e"/>
              </a:solidFill>
              <a:latin typeface="Corbel"/>
            </a:endParaRPr>
          </a:p>
          <a:p>
            <a:pPr lvl="3" marL="1600200" indent="-228600">
              <a:spcBef>
                <a:spcPts val="799"/>
              </a:spcBef>
              <a:buClr>
                <a:srgbClr val="e3560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ourth Outline Level</a:t>
            </a:r>
            <a:endParaRPr b="0" lang="en-US" sz="3200" spc="-1" strike="noStrike">
              <a:solidFill>
                <a:srgbClr val="975c1e"/>
              </a:solidFill>
              <a:latin typeface="Corbel"/>
            </a:endParaRPr>
          </a:p>
          <a:p>
            <a:pPr lvl="4" marL="2057400" indent="-228600">
              <a:spcBef>
                <a:spcPts val="799"/>
              </a:spcBef>
              <a:buClr>
                <a:srgbClr val="e3560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Fifth Outline Level</a:t>
            </a:r>
            <a:endParaRPr b="0" lang="en-US" sz="3200" spc="-1" strike="noStrike">
              <a:solidFill>
                <a:srgbClr val="975c1e"/>
              </a:solidFill>
              <a:latin typeface="Corbe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ixth Outline Level</a:t>
            </a:r>
            <a:endParaRPr b="0" lang="en-US" sz="3200" spc="-1" strike="noStrike">
              <a:solidFill>
                <a:srgbClr val="975c1e"/>
              </a:solidFill>
              <a:latin typeface="Corbe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75c1e"/>
                </a:solidFill>
                <a:latin typeface="Corbel"/>
              </a:rPr>
              <a:t>Seventh Outline Level</a:t>
            </a:r>
            <a:endParaRPr b="0" lang="en-US" sz="3200" spc="-1" strike="noStrike">
              <a:solidFill>
                <a:srgbClr val="975c1e"/>
              </a:solidFill>
              <a:latin typeface="Corbel"/>
            </a:endParaRPr>
          </a:p>
        </p:txBody>
      </p:sp>
      <p:sp>
        <p:nvSpPr>
          <p:cNvPr id="417" name="PlaceHolder 3"/>
          <p:cNvSpPr>
            <a:spLocks noGrp="1"/>
          </p:cNvSpPr>
          <p:nvPr>
            <p:ph type="dt" idx="25"/>
          </p:nvPr>
        </p:nvSpPr>
        <p:spPr>
          <a:xfrm>
            <a:off x="-360" y="-360"/>
            <a:ext cx="2133720" cy="3603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5CB57-0806-438C-A9EA-11855A0B27BC}" type="datetime">
              <a:rPr b="0" lang="ja-JP" sz="1200" spc="-1" strike="noStrike">
                <a:solidFill>
                  <a:srgbClr val="6e4113"/>
                </a:solidFill>
                <a:latin typeface="Times New Roman"/>
              </a:rPr>
              <a:t>26/07/31</a:t>
            </a:fld>
            <a:endParaRPr b="0" lang="en-US" sz="1200" spc="-1" strike="noStrike">
              <a:solidFill>
                <a:srgbClr val="000000"/>
              </a:solidFill>
              <a:latin typeface="Times New Roman"/>
            </a:endParaRPr>
          </a:p>
        </p:txBody>
      </p:sp>
      <p:sp>
        <p:nvSpPr>
          <p:cNvPr id="418" name="PlaceHolder 4"/>
          <p:cNvSpPr>
            <a:spLocks noGrp="1"/>
          </p:cNvSpPr>
          <p:nvPr>
            <p:ph type="sldNum" idx="26"/>
          </p:nvPr>
        </p:nvSpPr>
        <p:spPr>
          <a:xfrm>
            <a:off x="7714800" y="-360"/>
            <a:ext cx="1428840" cy="3603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6e411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474B2F-5D73-4AB8-AB8C-1582D5964A0A}" type="slidenum">
              <a:rPr b="0" lang="ja-JP" sz="1200" spc="-1" strike="noStrike">
                <a:solidFill>
                  <a:srgbClr val="6e4113"/>
                </a:solidFill>
                <a:latin typeface="Times New Roman"/>
              </a:rPr>
              <a:t>&lt;number&gt;</a:t>
            </a:fld>
            <a:endParaRPr b="0" lang="en-US" sz="1200" spc="-1" strike="noStrike">
              <a:solidFill>
                <a:srgbClr val="000000"/>
              </a:solidFill>
              <a:latin typeface="Times New Roman"/>
            </a:endParaRPr>
          </a:p>
        </p:txBody>
      </p:sp>
      <p:sp>
        <p:nvSpPr>
          <p:cNvPr id="419" name="PlaceHolder 5"/>
          <p:cNvSpPr>
            <a:spLocks noGrp="1"/>
          </p:cNvSpPr>
          <p:nvPr>
            <p:ph type="ftr" idx="27"/>
          </p:nvPr>
        </p:nvSpPr>
        <p:spPr>
          <a:xfrm>
            <a:off x="2199960" y="-360"/>
            <a:ext cx="4498920" cy="36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image" Target="../media/image42.png"/><Relationship Id="rId14" Type="http://schemas.openxmlformats.org/officeDocument/2006/relationships/image" Target="../media/image43.png"/><Relationship Id="rId15"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タイトル 1"/>
          <p:cNvGrpSpPr/>
          <p:nvPr/>
        </p:nvGrpSpPr>
        <p:grpSpPr>
          <a:xfrm>
            <a:off x="858960" y="1212840"/>
            <a:ext cx="7357680" cy="1469520"/>
            <a:chOff x="858960" y="1212840"/>
            <a:chExt cx="7357680" cy="1469520"/>
          </a:xfrm>
        </p:grpSpPr>
        <p:pic>
          <p:nvPicPr>
            <p:cNvPr id="614" name="タイトル 1" descr=""/>
            <p:cNvPicPr/>
            <p:nvPr/>
          </p:nvPicPr>
          <p:blipFill>
            <a:blip r:embed="rId1"/>
            <a:stretch/>
          </p:blipFill>
          <p:spPr>
            <a:xfrm>
              <a:off x="860400" y="1212840"/>
              <a:ext cx="7356240" cy="1468080"/>
            </a:xfrm>
            <a:prstGeom prst="rect">
              <a:avLst/>
            </a:prstGeom>
            <a:ln w="0">
              <a:noFill/>
            </a:ln>
          </p:spPr>
        </p:pic>
        <p:sp>
          <p:nvSpPr>
            <p:cNvPr id="615" name=""/>
            <p:cNvSpPr/>
            <p:nvPr/>
          </p:nvSpPr>
          <p:spPr>
            <a:xfrm>
              <a:off x="858960" y="1213920"/>
              <a:ext cx="7356240" cy="14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900" spc="-1" strike="noStrike">
                  <a:solidFill>
                    <a:srgbClr val="975c1e"/>
                  </a:solidFill>
                  <a:latin typeface="Calibri"/>
                </a:rPr>
                <a:t>日本製低刺激コスメの</a:t>
              </a:r>
              <a:br>
                <a:rPr sz="3900"/>
              </a:br>
              <a:r>
                <a:rPr b="0" lang="ja-JP" sz="3900" spc="-1" strike="noStrike">
                  <a:solidFill>
                    <a:srgbClr val="975c1e"/>
                  </a:solidFill>
                  <a:latin typeface="Calibri"/>
                </a:rPr>
                <a:t>中国での販売事業</a:t>
              </a:r>
              <a:br>
                <a:rPr sz="3900"/>
              </a:br>
              <a:r>
                <a:rPr b="0" lang="ja-JP" sz="3900" spc="-1" strike="noStrike">
                  <a:solidFill>
                    <a:srgbClr val="975c1e"/>
                  </a:solidFill>
                  <a:latin typeface="Calibri"/>
                </a:rPr>
                <a:t>創業プラン</a:t>
              </a:r>
              <a:endParaRPr b="0" lang="en-US" sz="3900" spc="-1" strike="noStrike">
                <a:solidFill>
                  <a:srgbClr val="000000"/>
                </a:solidFill>
                <a:latin typeface="Corbel"/>
              </a:endParaRPr>
            </a:p>
          </p:txBody>
        </p:sp>
      </p:grpSp>
      <p:sp>
        <p:nvSpPr>
          <p:cNvPr id="616" name="PlaceHolder 1"/>
          <p:cNvSpPr>
            <a:spLocks noGrp="1"/>
          </p:cNvSpPr>
          <p:nvPr>
            <p:ph type="subTitle"/>
          </p:nvPr>
        </p:nvSpPr>
        <p:spPr>
          <a:xfrm>
            <a:off x="966600" y="4751280"/>
            <a:ext cx="7358040" cy="9288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75c1e"/>
                </a:solidFill>
                <a:latin typeface="Corbel"/>
              </a:rPr>
              <a:t>チーム名：三人行</a:t>
            </a:r>
            <a:endParaRPr b="0" lang="en-US" sz="2400" spc="-1" strike="noStrike">
              <a:solidFill>
                <a:srgbClr val="975c1e"/>
              </a:solidFill>
              <a:latin typeface="Corbe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975c1e"/>
                </a:solidFill>
                <a:latin typeface="Corbel"/>
              </a:rPr>
              <a:t>リーダー：リン　ショウエイ</a:t>
            </a:r>
            <a:endParaRPr b="0" lang="en-US" sz="1600" spc="-1" strike="noStrike">
              <a:solidFill>
                <a:srgbClr val="975c1e"/>
              </a:solidFill>
              <a:latin typeface="Corbe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975c1e"/>
                </a:solidFill>
                <a:latin typeface="Corbel"/>
              </a:rPr>
              <a:t>メンバー：ショウカトウ、ソウエンホウ、ロデンシ、オウカンミ</a:t>
            </a:r>
            <a:endParaRPr b="0" lang="en-US" sz="1600" spc="-1" strike="noStrike">
              <a:solidFill>
                <a:srgbClr val="975c1e"/>
              </a:solidFill>
              <a:latin typeface="Corbel"/>
            </a:endParaRPr>
          </a:p>
        </p:txBody>
      </p:sp>
      <p:pic>
        <p:nvPicPr>
          <p:cNvPr id="617" name="図 5" descr=""/>
          <p:cNvPicPr/>
          <p:nvPr/>
        </p:nvPicPr>
        <p:blipFill>
          <a:blip r:embed="rId2"/>
          <a:stretch/>
        </p:blipFill>
        <p:spPr>
          <a:xfrm>
            <a:off x="2979720" y="5680080"/>
            <a:ext cx="3319560" cy="59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テキスト ボックス 2"/>
          <p:cNvSpPr/>
          <p:nvPr/>
        </p:nvSpPr>
        <p:spPr>
          <a:xfrm>
            <a:off x="1285200" y="720720"/>
            <a:ext cx="375732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５　ビジネス環境分析</a:t>
            </a:r>
            <a:r>
              <a:rPr b="0" lang="en-US" sz="2400" spc="-1" strike="noStrike">
                <a:solidFill>
                  <a:srgbClr val="000000"/>
                </a:solidFill>
                <a:latin typeface="Corbel"/>
              </a:rPr>
              <a:t>(SWOT</a:t>
            </a:r>
            <a:r>
              <a:rPr b="0" lang="ja-JP" sz="2400" spc="-1" strike="noStrike">
                <a:solidFill>
                  <a:srgbClr val="000000"/>
                </a:solidFill>
                <a:latin typeface="Corbel"/>
              </a:rPr>
              <a:t>分析</a:t>
            </a:r>
            <a:r>
              <a:rPr b="0" lang="en-US" sz="2400" spc="-1" strike="noStrike">
                <a:solidFill>
                  <a:srgbClr val="000000"/>
                </a:solidFill>
                <a:latin typeface="Corbel"/>
              </a:rPr>
              <a:t>)</a:t>
            </a:r>
            <a:endParaRPr b="0" lang="en-US" sz="2400" spc="-1" strike="noStrike">
              <a:solidFill>
                <a:srgbClr val="000000"/>
              </a:solidFill>
              <a:latin typeface="Corbel"/>
            </a:endParaRPr>
          </a:p>
        </p:txBody>
      </p:sp>
      <p:graphicFrame>
        <p:nvGraphicFramePr>
          <p:cNvPr id="668" name=""/>
          <p:cNvGraphicFramePr/>
          <p:nvPr/>
        </p:nvGraphicFramePr>
        <p:xfrm>
          <a:off x="1523880" y="1846440"/>
          <a:ext cx="7074000" cy="4808520"/>
        </p:xfrm>
        <a:graphic>
          <a:graphicData uri="http://schemas.openxmlformats.org/drawingml/2006/table">
            <a:tbl>
              <a:tblPr/>
              <a:tblGrid>
                <a:gridCol w="3373560"/>
                <a:gridCol w="3700440"/>
              </a:tblGrid>
              <a:tr h="2339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中国語が得意</a:t>
                      </a:r>
                      <a:endParaRPr b="0" lang="en-US" sz="20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化粧品・販売の知識と経験がある</a:t>
                      </a:r>
                      <a:endParaRPr b="0" lang="en-US" sz="20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中国でのコミュニケーションの仕組みを理解している</a:t>
                      </a:r>
                      <a:endParaRPr b="0" lang="en-US" sz="2000" spc="-1" strike="noStrike">
                        <a:solidFill>
                          <a:srgbClr val="000000"/>
                        </a:solidFill>
                        <a:latin typeface="Corbe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ビジネス実務経験が少ない</a:t>
                      </a:r>
                      <a:endParaRPr b="0" lang="en-US" sz="20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資金が少ない</a:t>
                      </a:r>
                      <a:endParaRPr b="0" lang="en-US" sz="2000" spc="-1" strike="noStrike">
                        <a:solidFill>
                          <a:srgbClr val="000000"/>
                        </a:solidFill>
                        <a:latin typeface="Corbe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中国の通販市場の拡大</a:t>
                      </a:r>
                      <a:endParaRPr b="0" lang="en-US" sz="20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化粧品を通販で買う人の多さ</a:t>
                      </a:r>
                      <a:endParaRPr b="0" lang="en-US" sz="20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基礎化粧品を使う女性人口の多さ</a:t>
                      </a:r>
                      <a:endParaRPr b="0" lang="en-US" sz="20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基礎化粧品の関税の低さ</a:t>
                      </a:r>
                      <a:endParaRPr b="0" lang="en-US" sz="2000" spc="-1" strike="noStrike">
                        <a:solidFill>
                          <a:srgbClr val="000000"/>
                        </a:solidFill>
                        <a:latin typeface="Corbe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中国国内の化粧品成分規制</a:t>
                      </a:r>
                      <a:endParaRPr b="0" lang="en-US" sz="20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競合他社の存在</a:t>
                      </a:r>
                      <a:endParaRPr b="0" lang="en-US" sz="20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rbel"/>
                        </a:rPr>
                        <a:t>粗悪品・悪質業者の存在</a:t>
                      </a:r>
                      <a:endParaRPr b="0" lang="en-US" sz="2000" spc="-1" strike="noStrike">
                        <a:solidFill>
                          <a:srgbClr val="000000"/>
                        </a:solidFill>
                        <a:latin typeface="Corbe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9" name="テキスト ボックス 4"/>
          <p:cNvSpPr/>
          <p:nvPr/>
        </p:nvSpPr>
        <p:spPr>
          <a:xfrm>
            <a:off x="1544040" y="1855800"/>
            <a:ext cx="250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S</a:t>
            </a:r>
            <a:r>
              <a:rPr b="0" lang="ja-JP" sz="1800" spc="-1" strike="noStrike">
                <a:solidFill>
                  <a:srgbClr val="000000"/>
                </a:solidFill>
                <a:latin typeface="Corbel"/>
              </a:rPr>
              <a:t>　強み　（</a:t>
            </a:r>
            <a:r>
              <a:rPr b="0" lang="en-US" sz="1800" spc="-1" strike="noStrike">
                <a:solidFill>
                  <a:srgbClr val="000000"/>
                </a:solidFill>
                <a:latin typeface="Corbel"/>
              </a:rPr>
              <a:t>Strengths)</a:t>
            </a:r>
            <a:endParaRPr b="0" lang="en-US" sz="1800" spc="-1" strike="noStrike">
              <a:solidFill>
                <a:srgbClr val="000000"/>
              </a:solidFill>
              <a:latin typeface="Corbel"/>
            </a:endParaRPr>
          </a:p>
        </p:txBody>
      </p:sp>
      <p:sp>
        <p:nvSpPr>
          <p:cNvPr id="670" name="テキスト ボックス 5"/>
          <p:cNvSpPr/>
          <p:nvPr/>
        </p:nvSpPr>
        <p:spPr>
          <a:xfrm>
            <a:off x="1524600" y="4098960"/>
            <a:ext cx="293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O</a:t>
            </a:r>
            <a:r>
              <a:rPr b="0" lang="ja-JP" sz="1800" spc="-1" strike="noStrike">
                <a:solidFill>
                  <a:srgbClr val="000000"/>
                </a:solidFill>
                <a:latin typeface="Corbel"/>
              </a:rPr>
              <a:t>　機会　（</a:t>
            </a:r>
            <a:r>
              <a:rPr b="0" lang="en-US" sz="1800" spc="-1" strike="noStrike">
                <a:solidFill>
                  <a:srgbClr val="000000"/>
                </a:solidFill>
                <a:latin typeface="Corbel"/>
              </a:rPr>
              <a:t>Oppotunities)</a:t>
            </a:r>
            <a:endParaRPr b="0" lang="en-US" sz="1800" spc="-1" strike="noStrike">
              <a:solidFill>
                <a:srgbClr val="000000"/>
              </a:solidFill>
              <a:latin typeface="Corbel"/>
            </a:endParaRPr>
          </a:p>
        </p:txBody>
      </p:sp>
      <p:sp>
        <p:nvSpPr>
          <p:cNvPr id="671" name="テキスト ボックス 6"/>
          <p:cNvSpPr/>
          <p:nvPr/>
        </p:nvSpPr>
        <p:spPr>
          <a:xfrm>
            <a:off x="4930560" y="1855800"/>
            <a:ext cx="28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W</a:t>
            </a:r>
            <a:r>
              <a:rPr b="0" lang="ja-JP" sz="1800" spc="-1" strike="noStrike">
                <a:solidFill>
                  <a:srgbClr val="000000"/>
                </a:solidFill>
                <a:latin typeface="Corbel"/>
              </a:rPr>
              <a:t>　弱み　（</a:t>
            </a:r>
            <a:r>
              <a:rPr b="0" lang="en-US" sz="1800" spc="-1" strike="noStrike">
                <a:solidFill>
                  <a:srgbClr val="000000"/>
                </a:solidFill>
                <a:latin typeface="Corbel"/>
              </a:rPr>
              <a:t>Wesknesses)</a:t>
            </a:r>
            <a:endParaRPr b="0" lang="en-US" sz="1800" spc="-1" strike="noStrike">
              <a:solidFill>
                <a:srgbClr val="000000"/>
              </a:solidFill>
              <a:latin typeface="Corbel"/>
            </a:endParaRPr>
          </a:p>
        </p:txBody>
      </p:sp>
      <p:sp>
        <p:nvSpPr>
          <p:cNvPr id="672" name="テキスト ボックス 7"/>
          <p:cNvSpPr/>
          <p:nvPr/>
        </p:nvSpPr>
        <p:spPr>
          <a:xfrm>
            <a:off x="4955400" y="4098960"/>
            <a:ext cx="226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T</a:t>
            </a:r>
            <a:r>
              <a:rPr b="0" lang="ja-JP" sz="1800" spc="-1" strike="noStrike">
                <a:solidFill>
                  <a:srgbClr val="000000"/>
                </a:solidFill>
                <a:latin typeface="Corbel"/>
              </a:rPr>
              <a:t>　脅威　（</a:t>
            </a:r>
            <a:r>
              <a:rPr b="0" lang="en-US" sz="1800" spc="-1" strike="noStrike">
                <a:solidFill>
                  <a:srgbClr val="000000"/>
                </a:solidFill>
                <a:latin typeface="Corbel"/>
              </a:rPr>
              <a:t>Threats)</a:t>
            </a:r>
            <a:endParaRPr b="0" lang="en-US" sz="1800" spc="-1" strike="noStrike">
              <a:solidFill>
                <a:srgbClr val="000000"/>
              </a:solidFill>
              <a:latin typeface="Corbel"/>
            </a:endParaRPr>
          </a:p>
        </p:txBody>
      </p:sp>
      <p:sp>
        <p:nvSpPr>
          <p:cNvPr id="673" name="テキスト ボックス 8"/>
          <p:cNvSpPr/>
          <p:nvPr/>
        </p:nvSpPr>
        <p:spPr>
          <a:xfrm>
            <a:off x="2843280" y="1460520"/>
            <a:ext cx="445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良い（有利な）要素　　　　　　悪い（不利な）要素</a:t>
            </a:r>
            <a:endParaRPr b="0" lang="en-US" sz="2000" spc="-1" strike="noStrike">
              <a:solidFill>
                <a:srgbClr val="000000"/>
              </a:solidFill>
              <a:latin typeface="Corbel"/>
            </a:endParaRPr>
          </a:p>
        </p:txBody>
      </p:sp>
      <p:sp>
        <p:nvSpPr>
          <p:cNvPr id="674" name="テキスト ボックス 9"/>
          <p:cNvSpPr/>
          <p:nvPr/>
        </p:nvSpPr>
        <p:spPr>
          <a:xfrm>
            <a:off x="927720" y="2042640"/>
            <a:ext cx="485280" cy="4389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内部環境　　　　　　外部環境</a:t>
            </a:r>
            <a:endParaRPr b="0" lang="en-US" sz="2000" spc="-1" strike="noStrike">
              <a:solidFill>
                <a:srgbClr val="000000"/>
              </a:solidFill>
              <a:latin typeface="Corbel"/>
            </a:endParaRPr>
          </a:p>
        </p:txBody>
      </p:sp>
      <p:sp>
        <p:nvSpPr>
          <p:cNvPr id="675" name="スライド番号プレースホルダー 12"/>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85C7D-1517-466E-8CD6-6D1793466DAF}"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テキスト ボックス 2"/>
          <p:cNvSpPr/>
          <p:nvPr/>
        </p:nvSpPr>
        <p:spPr>
          <a:xfrm>
            <a:off x="1347840" y="720720"/>
            <a:ext cx="231444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６　事業ドメインの整理</a:t>
            </a:r>
            <a:endParaRPr b="0" lang="en-US" sz="2400" spc="-1" strike="noStrike">
              <a:solidFill>
                <a:srgbClr val="000000"/>
              </a:solidFill>
              <a:latin typeface="Corbel"/>
            </a:endParaRPr>
          </a:p>
        </p:txBody>
      </p:sp>
      <p:graphicFrame>
        <p:nvGraphicFramePr>
          <p:cNvPr id="677" name=""/>
          <p:cNvGraphicFramePr/>
          <p:nvPr/>
        </p:nvGraphicFramePr>
        <p:xfrm>
          <a:off x="468360" y="1300320"/>
          <a:ext cx="8174160" cy="5256000"/>
        </p:xfrm>
        <a:graphic>
          <a:graphicData uri="http://schemas.openxmlformats.org/drawingml/2006/table">
            <a:tbl>
              <a:tblPr/>
              <a:tblGrid>
                <a:gridCol w="2273400"/>
                <a:gridCol w="5900760"/>
              </a:tblGrid>
              <a:tr h="482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ドメイン軸</a:t>
                      </a:r>
                      <a:endParaRPr b="0" lang="en-US" sz="1800" spc="-1" strike="noStrike">
                        <a:solidFill>
                          <a:srgbClr val="000000"/>
                        </a:solidFill>
                        <a:latin typeface="Corbe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内容</a:t>
                      </a:r>
                      <a:endParaRPr b="0" lang="en-US" sz="1800" spc="-1" strike="noStrike">
                        <a:solidFill>
                          <a:srgbClr val="000000"/>
                        </a:solidFill>
                        <a:latin typeface="Corbe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57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顧客軸（誰に）</a:t>
                      </a:r>
                      <a:endParaRPr b="0" lang="en-US" sz="1800" spc="-1" strike="noStrike">
                        <a:solidFill>
                          <a:srgbClr val="000000"/>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誰に売るのか</a:t>
                      </a:r>
                      <a:endParaRPr b="0" lang="en-US" sz="1800" spc="-1" strike="noStrike">
                        <a:solidFill>
                          <a:srgbClr val="000000"/>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顧客は誰か</a:t>
                      </a:r>
                      <a:endParaRPr b="0" lang="en-US" sz="1800" spc="-1" strike="noStrike">
                        <a:solidFill>
                          <a:srgbClr val="000000"/>
                        </a:solidFill>
                        <a:latin typeface="Corbe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
                      </a:r>
                      <a:r>
                        <a:rPr b="0" lang="ja-JP" sz="1800" spc="-1" strike="noStrike">
                          <a:solidFill>
                            <a:srgbClr val="000000"/>
                          </a:solidFill>
                          <a:latin typeface="Corbel"/>
                        </a:rPr>
                        <a:t>中国国内に居住する</a:t>
                      </a:r>
                      <a:r>
                        <a:rPr b="0" lang="en-US" sz="1800" spc="-1" strike="noStrike">
                          <a:solidFill>
                            <a:srgbClr val="000000"/>
                          </a:solidFill>
                          <a:latin typeface="Corbel"/>
                        </a:rPr>
                        <a:t>18</a:t>
                      </a:r>
                      <a:r>
                        <a:rPr b="0" lang="ja-JP" sz="1800" spc="-1" strike="noStrike">
                          <a:solidFill>
                            <a:srgbClr val="000000"/>
                          </a:solidFill>
                          <a:latin typeface="Corbel"/>
                        </a:rPr>
                        <a:t>歳</a:t>
                      </a:r>
                      <a:r>
                        <a:rPr b="0" lang="en-US" sz="1800" spc="-1" strike="noStrike">
                          <a:solidFill>
                            <a:srgbClr val="000000"/>
                          </a:solidFill>
                          <a:latin typeface="Corbel"/>
                        </a:rPr>
                        <a:t>〜</a:t>
                      </a:r>
                      <a:r>
                        <a:rPr b="0" lang="en-US" sz="1800" spc="-1" strike="noStrike">
                          <a:solidFill>
                            <a:srgbClr val="000000"/>
                          </a:solidFill>
                          <a:latin typeface="Corbel"/>
                        </a:rPr>
                        <a:t>45</a:t>
                      </a:r>
                      <a:r>
                        <a:rPr b="0" lang="ja-JP" sz="1800" spc="-1" strike="noStrike">
                          <a:solidFill>
                            <a:srgbClr val="000000"/>
                          </a:solidFill>
                          <a:latin typeface="Corbel"/>
                        </a:rPr>
                        <a:t>歳の女性。</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所得レベルが上がり、消費意欲の高い女性でお肌の悩みを抱えながら、自分の肌に合った基礎化粧品が手に入らず解決できていない人たち</a:t>
                      </a:r>
                      <a:endParaRPr b="0" lang="en-US" sz="1800" spc="-1" strike="noStrike">
                        <a:solidFill>
                          <a:srgbClr val="000000"/>
                        </a:solidFill>
                        <a:latin typeface="Corbe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機能軸（何を）</a:t>
                      </a:r>
                      <a:endParaRPr b="0" lang="en-US" sz="1800" spc="-1" strike="noStrike">
                        <a:solidFill>
                          <a:srgbClr val="000000"/>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何（製品・サービス・機能）を提供するのか</a:t>
                      </a:r>
                      <a:endParaRPr b="0" lang="en-US" sz="1800" spc="-1" strike="noStrike">
                        <a:solidFill>
                          <a:srgbClr val="000000"/>
                        </a:solidFill>
                        <a:latin typeface="Corbe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
                      </a:r>
                      <a:r>
                        <a:rPr b="0" lang="ja-JP" sz="1800" spc="-1" strike="noStrike">
                          <a:solidFill>
                            <a:srgbClr val="000000"/>
                          </a:solidFill>
                          <a:latin typeface="Corbel"/>
                        </a:rPr>
                        <a:t>日本製の低刺激性の基礎化粧品</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中国の法律によって化粧水などの成分に含有量の制限があり、中国国内でも流通できるものだけを選んで販売</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
                      </a:r>
                      <a:r>
                        <a:rPr b="0" lang="ja-JP" sz="1800" spc="-1" strike="noStrike">
                          <a:solidFill>
                            <a:srgbClr val="000000"/>
                          </a:solidFill>
                          <a:latin typeface="Corbel"/>
                        </a:rPr>
                        <a:t>情報提供サービス</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お肌の状態に合わせた化粧品選びを、中国女性の立場に立って細かな情報までをサイト上で紹介</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
                      </a:r>
                      <a:r>
                        <a:rPr b="0" lang="ja-JP" sz="1800" spc="-1" strike="noStrike">
                          <a:solidFill>
                            <a:srgbClr val="000000"/>
                          </a:solidFill>
                          <a:latin typeface="Corbel"/>
                        </a:rPr>
                        <a:t>将来的には日本国内で委託製造した自社ブランド製品 </a:t>
                      </a:r>
                      <a:endParaRPr b="0" lang="en-US" sz="1800" spc="-1" strike="noStrike">
                        <a:solidFill>
                          <a:srgbClr val="000000"/>
                        </a:solidFill>
                        <a:latin typeface="Corbe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04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技術軸（どのように）</a:t>
                      </a:r>
                      <a:endParaRPr b="0" lang="en-US" sz="1800" spc="-1" strike="noStrike">
                        <a:solidFill>
                          <a:srgbClr val="000000"/>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どのような技術、能力を使うのか</a:t>
                      </a:r>
                      <a:endParaRPr b="0" lang="en-US" sz="1800" spc="-1" strike="noStrike">
                        <a:solidFill>
                          <a:srgbClr val="000000"/>
                        </a:solidFill>
                        <a:latin typeface="Corbe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
                      </a:r>
                      <a:r>
                        <a:rPr b="0" lang="ja-JP" sz="1800" spc="-1" strike="noStrike">
                          <a:solidFill>
                            <a:srgbClr val="000000"/>
                          </a:solidFill>
                          <a:latin typeface="Corbel"/>
                        </a:rPr>
                        <a:t>越境</a:t>
                      </a:r>
                      <a:r>
                        <a:rPr b="0" lang="en-US" sz="1800" spc="-1" strike="noStrike">
                          <a:solidFill>
                            <a:srgbClr val="000000"/>
                          </a:solidFill>
                          <a:latin typeface="Corbel"/>
                        </a:rPr>
                        <a:t>EC</a:t>
                      </a:r>
                      <a:r>
                        <a:rPr b="0" lang="ja-JP" sz="1800" spc="-1" strike="noStrike">
                          <a:solidFill>
                            <a:srgbClr val="000000"/>
                          </a:solidFill>
                          <a:latin typeface="Corbel"/>
                        </a:rPr>
                        <a:t>サイトの開設</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中国語でお肌の悩み別のオススメ化粧品とその使い方の解説を行い、購買意欲を高める</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rbel"/>
                        </a:rPr>
                        <a:t>アクセス数を増やすため</a:t>
                      </a:r>
                      <a:r>
                        <a:rPr b="0" lang="en-US" sz="1800" spc="-1" strike="noStrike">
                          <a:solidFill>
                            <a:srgbClr val="000000"/>
                          </a:solidFill>
                          <a:latin typeface="Corbel"/>
                        </a:rPr>
                        <a:t>SEO</a:t>
                      </a:r>
                      <a:r>
                        <a:rPr b="0" lang="ja-JP" sz="1800" spc="-1" strike="noStrike">
                          <a:solidFill>
                            <a:srgbClr val="000000"/>
                          </a:solidFill>
                          <a:latin typeface="Corbel"/>
                        </a:rPr>
                        <a:t>対策をするとともに購入者を通じて</a:t>
                      </a:r>
                      <a:r>
                        <a:rPr b="0" lang="en-US" sz="1800" spc="-1" strike="noStrike">
                          <a:solidFill>
                            <a:srgbClr val="000000"/>
                          </a:solidFill>
                          <a:latin typeface="Corbel"/>
                        </a:rPr>
                        <a:t>SNS</a:t>
                      </a:r>
                      <a:r>
                        <a:rPr b="0" lang="ja-JP" sz="1800" spc="-1" strike="noStrike">
                          <a:solidFill>
                            <a:srgbClr val="000000"/>
                          </a:solidFill>
                          <a:latin typeface="Corbel"/>
                        </a:rPr>
                        <a:t>で「いいね」の発信をサイトの知名度</a:t>
                      </a:r>
                      <a:r>
                        <a:rPr b="0" lang="en-US" sz="1800" spc="-1" strike="noStrike">
                          <a:solidFill>
                            <a:srgbClr val="000000"/>
                          </a:solidFill>
                          <a:latin typeface="Corbel"/>
                        </a:rPr>
                        <a:t>UP</a:t>
                      </a:r>
                      <a:endParaRPr b="0" lang="en-US" sz="1800" spc="-1" strike="noStrike">
                        <a:solidFill>
                          <a:srgbClr val="000000"/>
                        </a:solidFill>
                        <a:latin typeface="Corbe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8" name="スライド番号プレースホルダー 5"/>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CC5C9-5A06-4BD1-B79C-A7FE3FCEA502}"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正方形/長方形 3"/>
          <p:cNvSpPr/>
          <p:nvPr/>
        </p:nvSpPr>
        <p:spPr>
          <a:xfrm>
            <a:off x="720720" y="1300320"/>
            <a:ext cx="809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日本製の低刺激性の基礎化粧品とその使い分け情報をセット販売</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商品の機能は</a:t>
            </a:r>
            <a:endParaRPr b="0" lang="en-US" sz="2000" spc="-1" strike="noStrike">
              <a:solidFill>
                <a:srgbClr val="000000"/>
              </a:solidFill>
              <a:latin typeface="Corbe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お肌に潤いを与える</a:t>
            </a:r>
            <a:endParaRPr b="0" lang="en-US" sz="2000" spc="-1" strike="noStrike">
              <a:solidFill>
                <a:srgbClr val="000000"/>
              </a:solidFill>
              <a:latin typeface="Corbe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低刺激で肌荒れを防ぐ</a:t>
            </a:r>
            <a:endParaRPr b="0" lang="en-US" sz="2000" spc="-1" strike="noStrike">
              <a:solidFill>
                <a:srgbClr val="000000"/>
              </a:solidFill>
              <a:latin typeface="Corbe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肌にハリを与える</a:t>
            </a:r>
            <a:endParaRPr b="0" lang="en-US" sz="2000" spc="-1" strike="noStrike">
              <a:solidFill>
                <a:srgbClr val="000000"/>
              </a:solidFill>
              <a:latin typeface="Corbe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肌の肌理や状態を整える</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ですが、どんな肌の人にも有効なわけではありません。</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自分のお肌の状態を知り、適切な化粧品選びをすることが大切です。</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中国の法律によって化粧水などの成分に含有量の制限があるので、中国国内でも流通できるものだけを選んで販売します。</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また、中国の関税制度上、</a:t>
            </a:r>
            <a:r>
              <a:rPr b="0" lang="ja-JP" sz="2000" spc="-1" strike="noStrike" u="sng">
                <a:solidFill>
                  <a:srgbClr val="000000"/>
                </a:solidFill>
                <a:uFillTx/>
                <a:latin typeface="Corbel"/>
              </a:rPr>
              <a:t>化粧品の輸入関税率は</a:t>
            </a:r>
            <a:r>
              <a:rPr b="0" lang="en-US" sz="2000" spc="-1" strike="noStrike" u="sng">
                <a:solidFill>
                  <a:srgbClr val="000000"/>
                </a:solidFill>
                <a:uFillTx/>
                <a:latin typeface="ＭＳ ゴシック"/>
              </a:rPr>
              <a:t>47</a:t>
            </a:r>
            <a:r>
              <a:rPr b="0" lang="ja-JP" sz="2000" spc="-1" strike="noStrike" u="sng">
                <a:solidFill>
                  <a:srgbClr val="000000"/>
                </a:solidFill>
                <a:uFillTx/>
                <a:latin typeface="Corbel"/>
              </a:rPr>
              <a:t>％</a:t>
            </a:r>
            <a:r>
              <a:rPr b="0" lang="ja-JP" sz="2000" spc="-1" strike="noStrike">
                <a:solidFill>
                  <a:srgbClr val="000000"/>
                </a:solidFill>
                <a:latin typeface="Corbel"/>
              </a:rPr>
              <a:t>と高率ですが、</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スキンケアなどの</a:t>
            </a:r>
            <a:r>
              <a:rPr b="0" lang="ja-JP" sz="2000" spc="-1" strike="noStrike" u="sng">
                <a:solidFill>
                  <a:srgbClr val="ff0000"/>
                </a:solidFill>
                <a:uFillTx/>
                <a:latin typeface="Corbel"/>
              </a:rPr>
              <a:t>基礎化粧品の関税率は、</a:t>
            </a:r>
            <a:r>
              <a:rPr b="0" lang="en-US" sz="2000" spc="-1" strike="noStrike" u="sng">
                <a:solidFill>
                  <a:srgbClr val="ff0000"/>
                </a:solidFill>
                <a:uFillTx/>
                <a:latin typeface="ＭＳ ゴシック"/>
              </a:rPr>
              <a:t>11.9</a:t>
            </a:r>
            <a:r>
              <a:rPr b="0" lang="ja-JP" sz="2000" spc="-1" strike="noStrike" u="sng">
                <a:solidFill>
                  <a:srgbClr val="ff0000"/>
                </a:solidFill>
                <a:uFillTx/>
                <a:latin typeface="Corbel"/>
              </a:rPr>
              <a:t>％と低率</a:t>
            </a:r>
            <a:r>
              <a:rPr b="0" lang="ja-JP" sz="2000" spc="-1" strike="noStrike">
                <a:solidFill>
                  <a:srgbClr val="000000"/>
                </a:solidFill>
                <a:latin typeface="Corbel"/>
              </a:rPr>
              <a:t>なので、手に入れやすくなっています。</a:t>
            </a:r>
            <a:r>
              <a:rPr b="0" lang="en-US" sz="2000" spc="-1" strike="noStrike">
                <a:solidFill>
                  <a:srgbClr val="000000"/>
                </a:solidFill>
                <a:latin typeface="Corbel"/>
              </a:rPr>
              <a:t>(2016</a:t>
            </a:r>
            <a:r>
              <a:rPr b="0" lang="ja-JP" sz="2000" spc="-1" strike="noStrike">
                <a:solidFill>
                  <a:srgbClr val="000000"/>
                </a:solidFill>
                <a:latin typeface="Corbel"/>
              </a:rPr>
              <a:t>年</a:t>
            </a:r>
            <a:r>
              <a:rPr b="0" lang="en-US" sz="2000" spc="-1" strike="noStrike">
                <a:solidFill>
                  <a:srgbClr val="000000"/>
                </a:solidFill>
                <a:latin typeface="Corbel"/>
              </a:rPr>
              <a:t>12</a:t>
            </a:r>
            <a:r>
              <a:rPr b="0" lang="ja-JP" sz="2000" spc="-1" strike="noStrike">
                <a:solidFill>
                  <a:srgbClr val="000000"/>
                </a:solidFill>
                <a:latin typeface="Corbel"/>
              </a:rPr>
              <a:t>月現在）</a:t>
            </a:r>
            <a:endParaRPr b="0" lang="en-US" sz="2000" spc="-1" strike="noStrike">
              <a:solidFill>
                <a:srgbClr val="000000"/>
              </a:solidFill>
              <a:latin typeface="Corbel"/>
            </a:endParaRPr>
          </a:p>
        </p:txBody>
      </p:sp>
      <p:sp>
        <p:nvSpPr>
          <p:cNvPr id="680" name="テキスト ボックス 4"/>
          <p:cNvSpPr/>
          <p:nvPr/>
        </p:nvSpPr>
        <p:spPr>
          <a:xfrm>
            <a:off x="1400040" y="720720"/>
            <a:ext cx="298476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７</a:t>
            </a:r>
            <a:r>
              <a:rPr b="0" lang="en-US" sz="2400" spc="-1" strike="noStrike">
                <a:solidFill>
                  <a:srgbClr val="000000"/>
                </a:solidFill>
                <a:latin typeface="Corbel"/>
              </a:rPr>
              <a:t>−</a:t>
            </a:r>
            <a:r>
              <a:rPr b="0" lang="ja-JP" sz="2400" spc="-1" strike="noStrike">
                <a:solidFill>
                  <a:srgbClr val="000000"/>
                </a:solidFill>
                <a:latin typeface="Corbel"/>
              </a:rPr>
              <a:t>１　販売商品・サービス１</a:t>
            </a:r>
            <a:endParaRPr b="0" lang="en-US" sz="2400" spc="-1" strike="noStrike">
              <a:solidFill>
                <a:srgbClr val="000000"/>
              </a:solidFill>
              <a:latin typeface="Corbel"/>
            </a:endParaRPr>
          </a:p>
        </p:txBody>
      </p:sp>
      <p:sp>
        <p:nvSpPr>
          <p:cNvPr id="681" name="スライド番号プレースホルダー 7"/>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B81BB-0FD9-41A0-A290-9CFF58848241}"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正方形/長方形 3"/>
          <p:cNvSpPr/>
          <p:nvPr/>
        </p:nvSpPr>
        <p:spPr>
          <a:xfrm>
            <a:off x="720720" y="1300320"/>
            <a:ext cx="7643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品揃えの方針</a:t>
            </a:r>
            <a:endParaRPr b="0" lang="en-US" sz="18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流行に左右されるものより、品質に納得してもらい安心して使い続けられる製品を繰り返し購入してもらいます。</a:t>
            </a:r>
            <a:endParaRPr b="0" lang="en-US" sz="18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販売品目</a:t>
            </a:r>
            <a:endParaRPr b="0" lang="en-US" sz="18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肌を整える商品群（基礎化粧品）</a:t>
            </a:r>
            <a:endParaRPr b="0" lang="en-US" sz="18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フェイスパック、化粧水、乳液、メイク落とし</a:t>
            </a:r>
            <a:endParaRPr b="0" lang="en-US" sz="18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基礎化粧品のセット商品</a:t>
            </a:r>
            <a:endParaRPr b="0" lang="en-US" sz="18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関連商品としてファンデーション（高関税率商品）</a:t>
            </a:r>
            <a:endParaRPr b="0" lang="en-US" sz="18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情報サービス</a:t>
            </a:r>
            <a:endParaRPr b="0" lang="en-US" sz="18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輸入制限など中国語でしか入手できない情報でも、私たちの語学力で迅速にキャッチしてフォローします。</a:t>
            </a:r>
            <a:endParaRPr b="0" lang="en-US" sz="18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お肌の状態に合わせた化粧品選びを、中国女性の立場に立って細かな情報までをサイト上で紹介し、応援するところまでを商品として販売します。</a:t>
            </a:r>
            <a:endParaRPr b="0" lang="en-US" sz="1800" spc="-1" strike="noStrike">
              <a:solidFill>
                <a:srgbClr val="000000"/>
              </a:solidFill>
              <a:latin typeface="Corbel"/>
            </a:endParaRPr>
          </a:p>
        </p:txBody>
      </p:sp>
      <p:sp>
        <p:nvSpPr>
          <p:cNvPr id="683" name="テキスト ボックス 4"/>
          <p:cNvSpPr/>
          <p:nvPr/>
        </p:nvSpPr>
        <p:spPr>
          <a:xfrm>
            <a:off x="1400040" y="720720"/>
            <a:ext cx="298476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７</a:t>
            </a:r>
            <a:r>
              <a:rPr b="0" lang="en-US" sz="2400" spc="-1" strike="noStrike">
                <a:solidFill>
                  <a:srgbClr val="000000"/>
                </a:solidFill>
                <a:latin typeface="Corbel"/>
              </a:rPr>
              <a:t>−</a:t>
            </a:r>
            <a:r>
              <a:rPr b="0" lang="ja-JP" sz="2400" spc="-1" strike="noStrike">
                <a:solidFill>
                  <a:srgbClr val="000000"/>
                </a:solidFill>
                <a:latin typeface="Corbel"/>
              </a:rPr>
              <a:t>２　販売商品・サービス２</a:t>
            </a:r>
            <a:endParaRPr b="0" lang="en-US" sz="2400" spc="-1" strike="noStrike">
              <a:solidFill>
                <a:srgbClr val="000000"/>
              </a:solidFill>
              <a:latin typeface="Corbel"/>
            </a:endParaRPr>
          </a:p>
        </p:txBody>
      </p:sp>
      <p:sp>
        <p:nvSpPr>
          <p:cNvPr id="684" name="スライド番号プレースホルダー 5"/>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FE4EE-472B-4D71-9C5C-9F7D51BA04B4}"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テキスト ボックス 4"/>
          <p:cNvSpPr/>
          <p:nvPr/>
        </p:nvSpPr>
        <p:spPr>
          <a:xfrm>
            <a:off x="886320" y="173520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日本国内に</a:t>
            </a:r>
            <a:endParaRPr b="0" lang="en-US" sz="1800" spc="-1" strike="noStrike">
              <a:solidFill>
                <a:srgbClr val="000000"/>
              </a:solidFill>
              <a:latin typeface="Corbe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独自の</a:t>
            </a:r>
            <a:r>
              <a:rPr b="0" lang="en-US" sz="1800" spc="-1" strike="noStrike">
                <a:solidFill>
                  <a:srgbClr val="000000"/>
                </a:solidFill>
                <a:latin typeface="Corbel"/>
              </a:rPr>
              <a:t>EC</a:t>
            </a:r>
            <a:r>
              <a:rPr b="0" lang="ja-JP" sz="1800" spc="-1" strike="noStrike">
                <a:solidFill>
                  <a:srgbClr val="000000"/>
                </a:solidFill>
                <a:latin typeface="Corbel"/>
              </a:rPr>
              <a:t>サイト</a:t>
            </a:r>
            <a:endParaRPr b="0" lang="en-US" sz="1800" spc="-1" strike="noStrike">
              <a:solidFill>
                <a:srgbClr val="000000"/>
              </a:solidFill>
              <a:latin typeface="Corbe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を構築</a:t>
            </a:r>
            <a:endParaRPr b="0" lang="en-US" sz="1800" spc="-1" strike="noStrike">
              <a:solidFill>
                <a:srgbClr val="000000"/>
              </a:solidFill>
              <a:latin typeface="Corbel"/>
            </a:endParaRPr>
          </a:p>
        </p:txBody>
      </p:sp>
      <p:pic>
        <p:nvPicPr>
          <p:cNvPr id="686" name="正方形/長方形 5" descr=""/>
          <p:cNvPicPr/>
          <p:nvPr/>
        </p:nvPicPr>
        <p:blipFill>
          <a:blip r:embed="rId1"/>
          <a:stretch/>
        </p:blipFill>
        <p:spPr>
          <a:xfrm>
            <a:off x="2182680" y="1444680"/>
            <a:ext cx="1987560" cy="1523880"/>
          </a:xfrm>
          <a:prstGeom prst="rect">
            <a:avLst/>
          </a:prstGeom>
          <a:ln w="0">
            <a:noFill/>
          </a:ln>
        </p:spPr>
      </p:pic>
      <p:pic>
        <p:nvPicPr>
          <p:cNvPr id="687" name="フローチャート: 磁気ディスク 6" descr=""/>
          <p:cNvPicPr/>
          <p:nvPr/>
        </p:nvPicPr>
        <p:blipFill>
          <a:blip r:embed="rId2"/>
          <a:stretch/>
        </p:blipFill>
        <p:spPr>
          <a:xfrm>
            <a:off x="3713040" y="1962000"/>
            <a:ext cx="962280" cy="1000440"/>
          </a:xfrm>
          <a:prstGeom prst="rect">
            <a:avLst/>
          </a:prstGeom>
          <a:ln w="0">
            <a:noFill/>
          </a:ln>
        </p:spPr>
      </p:pic>
      <p:pic>
        <p:nvPicPr>
          <p:cNvPr id="688" name="直方体 9" descr=""/>
          <p:cNvPicPr/>
          <p:nvPr/>
        </p:nvPicPr>
        <p:blipFill>
          <a:blip r:embed="rId3"/>
          <a:stretch/>
        </p:blipFill>
        <p:spPr>
          <a:xfrm>
            <a:off x="3359160" y="1957320"/>
            <a:ext cx="895320" cy="1054080"/>
          </a:xfrm>
          <a:prstGeom prst="rect">
            <a:avLst/>
          </a:prstGeom>
          <a:ln w="0">
            <a:noFill/>
          </a:ln>
        </p:spPr>
      </p:pic>
      <p:pic>
        <p:nvPicPr>
          <p:cNvPr id="689" name="正方形/長方形 10" descr=""/>
          <p:cNvPicPr/>
          <p:nvPr/>
        </p:nvPicPr>
        <p:blipFill>
          <a:blip r:embed="rId4"/>
          <a:stretch/>
        </p:blipFill>
        <p:spPr>
          <a:xfrm>
            <a:off x="3389400" y="2157480"/>
            <a:ext cx="744480" cy="585720"/>
          </a:xfrm>
          <a:prstGeom prst="rect">
            <a:avLst/>
          </a:prstGeom>
          <a:ln w="0">
            <a:noFill/>
          </a:ln>
        </p:spPr>
      </p:pic>
      <p:pic>
        <p:nvPicPr>
          <p:cNvPr id="690" name="直線矢印コネクタ 12" descr=""/>
          <p:cNvPicPr/>
          <p:nvPr/>
        </p:nvPicPr>
        <p:blipFill>
          <a:blip r:embed="rId5"/>
          <a:stretch/>
        </p:blipFill>
        <p:spPr>
          <a:xfrm>
            <a:off x="3852720" y="1865160"/>
            <a:ext cx="2298960" cy="408240"/>
          </a:xfrm>
          <a:prstGeom prst="rect">
            <a:avLst/>
          </a:prstGeom>
          <a:ln w="0">
            <a:noFill/>
          </a:ln>
        </p:spPr>
      </p:pic>
      <p:pic>
        <p:nvPicPr>
          <p:cNvPr id="691" name="正方形/長方形 13" descr=""/>
          <p:cNvPicPr/>
          <p:nvPr/>
        </p:nvPicPr>
        <p:blipFill>
          <a:blip r:embed="rId6"/>
          <a:stretch/>
        </p:blipFill>
        <p:spPr>
          <a:xfrm>
            <a:off x="4919760" y="1170000"/>
            <a:ext cx="1011240" cy="2006640"/>
          </a:xfrm>
          <a:prstGeom prst="rect">
            <a:avLst/>
          </a:prstGeom>
          <a:ln w="0">
            <a:noFill/>
          </a:ln>
        </p:spPr>
      </p:pic>
      <p:pic>
        <p:nvPicPr>
          <p:cNvPr id="692" name="円/楕円 15" descr=""/>
          <p:cNvPicPr/>
          <p:nvPr/>
        </p:nvPicPr>
        <p:blipFill>
          <a:blip r:embed="rId7"/>
          <a:stretch/>
        </p:blipFill>
        <p:spPr>
          <a:xfrm>
            <a:off x="6095880" y="1249200"/>
            <a:ext cx="1036800" cy="1049400"/>
          </a:xfrm>
          <a:prstGeom prst="rect">
            <a:avLst/>
          </a:prstGeom>
          <a:ln w="0">
            <a:noFill/>
          </a:ln>
        </p:spPr>
      </p:pic>
      <p:pic>
        <p:nvPicPr>
          <p:cNvPr id="693" name="台形 16" descr=""/>
          <p:cNvPicPr/>
          <p:nvPr/>
        </p:nvPicPr>
        <p:blipFill>
          <a:blip r:embed="rId8"/>
          <a:stretch/>
        </p:blipFill>
        <p:spPr>
          <a:xfrm>
            <a:off x="6046920" y="1743120"/>
            <a:ext cx="1128600" cy="1231920"/>
          </a:xfrm>
          <a:prstGeom prst="rect">
            <a:avLst/>
          </a:prstGeom>
          <a:ln w="0">
            <a:noFill/>
          </a:ln>
        </p:spPr>
      </p:pic>
      <p:sp>
        <p:nvSpPr>
          <p:cNvPr id="694" name="テキスト ボックス 17"/>
          <p:cNvSpPr/>
          <p:nvPr/>
        </p:nvSpPr>
        <p:spPr>
          <a:xfrm>
            <a:off x="6967440" y="1592280"/>
            <a:ext cx="137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中国に住む消費者</a:t>
            </a:r>
            <a:endParaRPr b="0" lang="en-US" sz="1800" spc="-1" strike="noStrike">
              <a:solidFill>
                <a:srgbClr val="000000"/>
              </a:solidFill>
              <a:latin typeface="Corbe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中国語を使う消費者</a:t>
            </a:r>
            <a:endParaRPr b="0" lang="en-US" sz="1800" spc="-1" strike="noStrike">
              <a:solidFill>
                <a:srgbClr val="000000"/>
              </a:solidFill>
              <a:latin typeface="Corbel"/>
            </a:endParaRPr>
          </a:p>
        </p:txBody>
      </p:sp>
      <p:sp>
        <p:nvSpPr>
          <p:cNvPr id="695" name="正方形/長方形 18"/>
          <p:cNvSpPr/>
          <p:nvPr/>
        </p:nvSpPr>
        <p:spPr>
          <a:xfrm>
            <a:off x="716040" y="2989440"/>
            <a:ext cx="779760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EC</a:t>
            </a:r>
            <a:r>
              <a:rPr b="0" lang="ja-JP" sz="2000" spc="-1" strike="noStrike">
                <a:solidFill>
                  <a:srgbClr val="000000"/>
                </a:solidFill>
                <a:latin typeface="Corbel"/>
              </a:rPr>
              <a:t>サイトを使って、２４時間注文を受け付け、顧客がいつでもどこでも注文できる体制を整えま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サイトは日本国内に置く越境</a:t>
            </a:r>
            <a:r>
              <a:rPr b="0" lang="en-US" sz="2000" spc="-1" strike="noStrike">
                <a:solidFill>
                  <a:srgbClr val="000000"/>
                </a:solidFill>
                <a:latin typeface="Corbel"/>
              </a:rPr>
              <a:t>EC</a:t>
            </a:r>
            <a:r>
              <a:rPr b="0" lang="ja-JP" sz="2000" spc="-1" strike="noStrike">
                <a:solidFill>
                  <a:srgbClr val="000000"/>
                </a:solidFill>
                <a:latin typeface="Corbel"/>
              </a:rPr>
              <a:t>サイト方式とし、個人輸入の形態で商品を購入する仕組みで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商品仕入れは卸売ルートから行います。最初は小ロットで仕入れ価格も高いですが、実績を重ねて利益率を向上させる予定で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サイト上では中国語でお肌の悩み別のオススメ化粧品とその使い方の解説を行い、商品選びの参考にしてもらい購買意欲を高めます。</a:t>
            </a:r>
            <a:endParaRPr b="0" lang="en-US" sz="2000" spc="-1" strike="noStrike">
              <a:solidFill>
                <a:srgbClr val="000000"/>
              </a:solidFill>
              <a:latin typeface="Corbel"/>
            </a:endParaRPr>
          </a:p>
        </p:txBody>
      </p:sp>
      <p:sp>
        <p:nvSpPr>
          <p:cNvPr id="696" name="テキスト ボックス 20"/>
          <p:cNvSpPr/>
          <p:nvPr/>
        </p:nvSpPr>
        <p:spPr>
          <a:xfrm>
            <a:off x="1770120" y="720720"/>
            <a:ext cx="428472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８　越境</a:t>
            </a:r>
            <a:r>
              <a:rPr b="0" lang="en-US" sz="2400" spc="-1" strike="noStrike">
                <a:solidFill>
                  <a:srgbClr val="000000"/>
                </a:solidFill>
                <a:latin typeface="Corbel"/>
              </a:rPr>
              <a:t>EC</a:t>
            </a:r>
            <a:r>
              <a:rPr b="0" lang="ja-JP" sz="2400" spc="-1" strike="noStrike">
                <a:solidFill>
                  <a:srgbClr val="000000"/>
                </a:solidFill>
                <a:latin typeface="Corbel"/>
              </a:rPr>
              <a:t>サイトを使ったビジネスの仕組み</a:t>
            </a:r>
            <a:endParaRPr b="0" lang="en-US" sz="2400" spc="-1" strike="noStrike">
              <a:solidFill>
                <a:srgbClr val="000000"/>
              </a:solidFill>
              <a:latin typeface="Corbel"/>
            </a:endParaRPr>
          </a:p>
        </p:txBody>
      </p:sp>
      <p:sp>
        <p:nvSpPr>
          <p:cNvPr id="697" name="スライド番号プレースホルダー 22"/>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2430B-CA31-438D-A830-9B09BF73B400}"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
        <p:nvSpPr>
          <p:cNvPr id="698" name="テキスト ボックス 1"/>
          <p:cNvSpPr/>
          <p:nvPr/>
        </p:nvSpPr>
        <p:spPr>
          <a:xfrm>
            <a:off x="3695400" y="238752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orbel"/>
              </a:rPr>
              <a:t>サーバー</a:t>
            </a: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テキスト ボックス 4"/>
          <p:cNvSpPr/>
          <p:nvPr/>
        </p:nvSpPr>
        <p:spPr>
          <a:xfrm>
            <a:off x="886320" y="227664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日本国内に</a:t>
            </a:r>
            <a:endParaRPr b="0" lang="en-US" sz="1800" spc="-1" strike="noStrike">
              <a:solidFill>
                <a:srgbClr val="000000"/>
              </a:solidFill>
              <a:latin typeface="Corbe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独自の</a:t>
            </a:r>
            <a:r>
              <a:rPr b="0" lang="en-US" sz="1800" spc="-1" strike="noStrike">
                <a:solidFill>
                  <a:srgbClr val="000000"/>
                </a:solidFill>
                <a:latin typeface="Corbel"/>
              </a:rPr>
              <a:t>EC</a:t>
            </a:r>
            <a:r>
              <a:rPr b="0" lang="ja-JP" sz="1800" spc="-1" strike="noStrike">
                <a:solidFill>
                  <a:srgbClr val="000000"/>
                </a:solidFill>
                <a:latin typeface="Corbel"/>
              </a:rPr>
              <a:t>サイト</a:t>
            </a:r>
            <a:endParaRPr b="0" lang="en-US" sz="1800" spc="-1" strike="noStrike">
              <a:solidFill>
                <a:srgbClr val="000000"/>
              </a:solidFill>
              <a:latin typeface="Corbe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を構築</a:t>
            </a:r>
            <a:endParaRPr b="0" lang="en-US" sz="1800" spc="-1" strike="noStrike">
              <a:solidFill>
                <a:srgbClr val="000000"/>
              </a:solidFill>
              <a:latin typeface="Corbel"/>
            </a:endParaRPr>
          </a:p>
        </p:txBody>
      </p:sp>
      <p:pic>
        <p:nvPicPr>
          <p:cNvPr id="700" name="正方形/長方形 5" descr=""/>
          <p:cNvPicPr/>
          <p:nvPr/>
        </p:nvPicPr>
        <p:blipFill>
          <a:blip r:embed="rId1"/>
          <a:stretch/>
        </p:blipFill>
        <p:spPr>
          <a:xfrm>
            <a:off x="2182680" y="1987560"/>
            <a:ext cx="1987560" cy="1523880"/>
          </a:xfrm>
          <a:prstGeom prst="rect">
            <a:avLst/>
          </a:prstGeom>
          <a:ln w="0">
            <a:noFill/>
          </a:ln>
        </p:spPr>
      </p:pic>
      <p:pic>
        <p:nvPicPr>
          <p:cNvPr id="701" name="フローチャート: 磁気ディスク 6" descr=""/>
          <p:cNvPicPr/>
          <p:nvPr/>
        </p:nvPicPr>
        <p:blipFill>
          <a:blip r:embed="rId2"/>
          <a:stretch/>
        </p:blipFill>
        <p:spPr>
          <a:xfrm>
            <a:off x="3713040" y="2498760"/>
            <a:ext cx="962280" cy="1006560"/>
          </a:xfrm>
          <a:prstGeom prst="rect">
            <a:avLst/>
          </a:prstGeom>
          <a:ln w="0">
            <a:noFill/>
          </a:ln>
        </p:spPr>
      </p:pic>
      <p:pic>
        <p:nvPicPr>
          <p:cNvPr id="702" name="直方体 9" descr=""/>
          <p:cNvPicPr/>
          <p:nvPr/>
        </p:nvPicPr>
        <p:blipFill>
          <a:blip r:embed="rId3"/>
          <a:stretch/>
        </p:blipFill>
        <p:spPr>
          <a:xfrm>
            <a:off x="3359160" y="2494080"/>
            <a:ext cx="895320" cy="1060200"/>
          </a:xfrm>
          <a:prstGeom prst="rect">
            <a:avLst/>
          </a:prstGeom>
          <a:ln w="0">
            <a:noFill/>
          </a:ln>
        </p:spPr>
      </p:pic>
      <p:pic>
        <p:nvPicPr>
          <p:cNvPr id="703" name="正方形/長方形 10" descr=""/>
          <p:cNvPicPr/>
          <p:nvPr/>
        </p:nvPicPr>
        <p:blipFill>
          <a:blip r:embed="rId4"/>
          <a:stretch/>
        </p:blipFill>
        <p:spPr>
          <a:xfrm>
            <a:off x="3389400" y="2700360"/>
            <a:ext cx="744480" cy="585720"/>
          </a:xfrm>
          <a:prstGeom prst="rect">
            <a:avLst/>
          </a:prstGeom>
          <a:ln w="0">
            <a:noFill/>
          </a:ln>
        </p:spPr>
      </p:pic>
      <p:pic>
        <p:nvPicPr>
          <p:cNvPr id="704" name="直線矢印コネクタ 12" descr=""/>
          <p:cNvPicPr/>
          <p:nvPr/>
        </p:nvPicPr>
        <p:blipFill>
          <a:blip r:embed="rId5"/>
          <a:stretch/>
        </p:blipFill>
        <p:spPr>
          <a:xfrm>
            <a:off x="3852720" y="2408400"/>
            <a:ext cx="2298960" cy="407880"/>
          </a:xfrm>
          <a:prstGeom prst="rect">
            <a:avLst/>
          </a:prstGeom>
          <a:ln w="0">
            <a:noFill/>
          </a:ln>
        </p:spPr>
      </p:pic>
      <p:pic>
        <p:nvPicPr>
          <p:cNvPr id="705" name="正方形/長方形 13" descr=""/>
          <p:cNvPicPr/>
          <p:nvPr/>
        </p:nvPicPr>
        <p:blipFill>
          <a:blip r:embed="rId6"/>
          <a:stretch/>
        </p:blipFill>
        <p:spPr>
          <a:xfrm>
            <a:off x="4919760" y="1712880"/>
            <a:ext cx="1011240" cy="2005200"/>
          </a:xfrm>
          <a:prstGeom prst="rect">
            <a:avLst/>
          </a:prstGeom>
          <a:ln w="0">
            <a:noFill/>
          </a:ln>
        </p:spPr>
      </p:pic>
      <p:pic>
        <p:nvPicPr>
          <p:cNvPr id="706" name="円/楕円 15" descr=""/>
          <p:cNvPicPr/>
          <p:nvPr/>
        </p:nvPicPr>
        <p:blipFill>
          <a:blip r:embed="rId7"/>
          <a:stretch/>
        </p:blipFill>
        <p:spPr>
          <a:xfrm>
            <a:off x="6095880" y="1768320"/>
            <a:ext cx="1036800" cy="1047960"/>
          </a:xfrm>
          <a:prstGeom prst="rect">
            <a:avLst/>
          </a:prstGeom>
          <a:ln w="0">
            <a:noFill/>
          </a:ln>
        </p:spPr>
      </p:pic>
      <p:pic>
        <p:nvPicPr>
          <p:cNvPr id="707" name="台形 16" descr=""/>
          <p:cNvPicPr/>
          <p:nvPr/>
        </p:nvPicPr>
        <p:blipFill>
          <a:blip r:embed="rId8"/>
          <a:stretch/>
        </p:blipFill>
        <p:spPr>
          <a:xfrm>
            <a:off x="6046920" y="2286000"/>
            <a:ext cx="1128600" cy="1231920"/>
          </a:xfrm>
          <a:prstGeom prst="rect">
            <a:avLst/>
          </a:prstGeom>
          <a:ln w="0">
            <a:noFill/>
          </a:ln>
        </p:spPr>
      </p:pic>
      <p:sp>
        <p:nvSpPr>
          <p:cNvPr id="708" name="テキスト ボックス 17"/>
          <p:cNvSpPr/>
          <p:nvPr/>
        </p:nvSpPr>
        <p:spPr>
          <a:xfrm>
            <a:off x="6967440" y="2133720"/>
            <a:ext cx="137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中国に住む消費者</a:t>
            </a:r>
            <a:endParaRPr b="0" lang="en-US" sz="1800" spc="-1" strike="noStrike">
              <a:solidFill>
                <a:srgbClr val="000000"/>
              </a:solidFill>
              <a:latin typeface="Corbe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Corbel"/>
              </a:rPr>
              <a:t>中国語を使う消費者</a:t>
            </a:r>
            <a:endParaRPr b="0" lang="en-US" sz="1800" spc="-1" strike="noStrike">
              <a:solidFill>
                <a:srgbClr val="000000"/>
              </a:solidFill>
              <a:latin typeface="Corbel"/>
            </a:endParaRPr>
          </a:p>
        </p:txBody>
      </p:sp>
      <p:sp>
        <p:nvSpPr>
          <p:cNvPr id="709" name="正方形/長方形 18"/>
          <p:cNvSpPr/>
          <p:nvPr/>
        </p:nvSpPr>
        <p:spPr>
          <a:xfrm>
            <a:off x="728640" y="4175280"/>
            <a:ext cx="821232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EC</a:t>
            </a:r>
            <a:r>
              <a:rPr b="0" lang="ja-JP" sz="2000" spc="-1" strike="noStrike">
                <a:solidFill>
                  <a:srgbClr val="000000"/>
                </a:solidFill>
                <a:latin typeface="Corbel"/>
              </a:rPr>
              <a:t>サイへのアクセス数を増やすため広告宣伝費に</a:t>
            </a:r>
            <a:r>
              <a:rPr b="0" lang="en-US" sz="2000" spc="-1" strike="noStrike">
                <a:solidFill>
                  <a:srgbClr val="000000"/>
                </a:solidFill>
                <a:latin typeface="Corbel"/>
              </a:rPr>
              <a:t>SEO</a:t>
            </a:r>
            <a:r>
              <a:rPr b="0" lang="ja-JP" sz="2000" spc="-1" strike="noStrike">
                <a:solidFill>
                  <a:srgbClr val="000000"/>
                </a:solidFill>
                <a:latin typeface="Corbel"/>
              </a:rPr>
              <a:t>対策費を計上し、中国国内からの検索で上位に表示されるよう販促費を投入しま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中国国内では、公式サイト情報以外に、微信（ウェイシン：</a:t>
            </a:r>
            <a:r>
              <a:rPr b="0" lang="en-US" sz="2000" spc="-1" strike="noStrike">
                <a:solidFill>
                  <a:srgbClr val="000000"/>
                </a:solidFill>
                <a:latin typeface="Corbel"/>
              </a:rPr>
              <a:t>WeChat)</a:t>
            </a:r>
            <a:r>
              <a:rPr b="0" lang="ja-JP" sz="2000" spc="-1" strike="noStrike">
                <a:solidFill>
                  <a:srgbClr val="000000"/>
                </a:solidFill>
                <a:latin typeface="Corbel"/>
              </a:rPr>
              <a:t>、微博（ウェイボー：</a:t>
            </a:r>
            <a:r>
              <a:rPr b="0" lang="en-US" sz="2000" spc="-1" strike="noStrike">
                <a:solidFill>
                  <a:srgbClr val="000000"/>
                </a:solidFill>
                <a:latin typeface="Corbel"/>
              </a:rPr>
              <a:t>weibo</a:t>
            </a:r>
            <a:r>
              <a:rPr b="0" lang="ja-JP" sz="2000" spc="-1" strike="noStrike">
                <a:solidFill>
                  <a:srgbClr val="000000"/>
                </a:solidFill>
                <a:latin typeface="Corbel"/>
              </a:rPr>
              <a:t>）といった</a:t>
            </a:r>
            <a:r>
              <a:rPr b="0" lang="en-US" sz="2000" spc="-1" strike="noStrike">
                <a:solidFill>
                  <a:srgbClr val="000000"/>
                </a:solidFill>
                <a:latin typeface="Corbel"/>
              </a:rPr>
              <a:t>SNS</a:t>
            </a:r>
            <a:r>
              <a:rPr b="0" lang="ja-JP" sz="2000" spc="-1" strike="noStrike">
                <a:solidFill>
                  <a:srgbClr val="000000"/>
                </a:solidFill>
                <a:latin typeface="Corbel"/>
              </a:rPr>
              <a:t>などによる口コミが重要なので、購入者を通じて「いいね」の発信をしてもらいながら、サイトの知名度の普及を図ります。</a:t>
            </a:r>
            <a:endParaRPr b="0" lang="en-US" sz="2000" spc="-1" strike="noStrike">
              <a:solidFill>
                <a:srgbClr val="000000"/>
              </a:solidFill>
              <a:latin typeface="Corbel"/>
            </a:endParaRPr>
          </a:p>
        </p:txBody>
      </p:sp>
      <p:sp>
        <p:nvSpPr>
          <p:cNvPr id="710" name="テキスト ボックス 20"/>
          <p:cNvSpPr/>
          <p:nvPr/>
        </p:nvSpPr>
        <p:spPr>
          <a:xfrm>
            <a:off x="1285920" y="488880"/>
            <a:ext cx="213156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９　販売促進の仕組み</a:t>
            </a:r>
            <a:endParaRPr b="0" lang="en-US" sz="2400" spc="-1" strike="noStrike">
              <a:solidFill>
                <a:srgbClr val="000000"/>
              </a:solidFill>
              <a:latin typeface="Corbel"/>
            </a:endParaRPr>
          </a:p>
        </p:txBody>
      </p:sp>
      <p:pic>
        <p:nvPicPr>
          <p:cNvPr id="711" name="フローチャート: 複数書類 2" descr=""/>
          <p:cNvPicPr/>
          <p:nvPr/>
        </p:nvPicPr>
        <p:blipFill>
          <a:blip r:embed="rId9"/>
          <a:stretch/>
        </p:blipFill>
        <p:spPr>
          <a:xfrm>
            <a:off x="5962680" y="963720"/>
            <a:ext cx="1724040" cy="1315800"/>
          </a:xfrm>
          <a:prstGeom prst="rect">
            <a:avLst/>
          </a:prstGeom>
          <a:ln w="0">
            <a:noFill/>
          </a:ln>
        </p:spPr>
      </p:pic>
      <p:pic>
        <p:nvPicPr>
          <p:cNvPr id="712" name="直線矢印コネクタ 7" descr=""/>
          <p:cNvPicPr/>
          <p:nvPr/>
        </p:nvPicPr>
        <p:blipFill>
          <a:blip r:embed="rId10"/>
          <a:stretch/>
        </p:blipFill>
        <p:spPr>
          <a:xfrm>
            <a:off x="6370560" y="1743120"/>
            <a:ext cx="554040" cy="469800"/>
          </a:xfrm>
          <a:prstGeom prst="rect">
            <a:avLst/>
          </a:prstGeom>
          <a:ln w="0">
            <a:noFill/>
          </a:ln>
        </p:spPr>
      </p:pic>
      <p:pic>
        <p:nvPicPr>
          <p:cNvPr id="713" name="フローチャート: 複数書類 19" descr=""/>
          <p:cNvPicPr/>
          <p:nvPr/>
        </p:nvPicPr>
        <p:blipFill>
          <a:blip r:embed="rId11"/>
          <a:stretch/>
        </p:blipFill>
        <p:spPr>
          <a:xfrm>
            <a:off x="5505480" y="3187800"/>
            <a:ext cx="1724040" cy="1317600"/>
          </a:xfrm>
          <a:prstGeom prst="rect">
            <a:avLst/>
          </a:prstGeom>
          <a:ln w="0">
            <a:noFill/>
          </a:ln>
        </p:spPr>
      </p:pic>
      <p:pic>
        <p:nvPicPr>
          <p:cNvPr id="714" name="直線矢印コネクタ 21" descr=""/>
          <p:cNvPicPr/>
          <p:nvPr/>
        </p:nvPicPr>
        <p:blipFill>
          <a:blip r:embed="rId12"/>
          <a:stretch/>
        </p:blipFill>
        <p:spPr>
          <a:xfrm>
            <a:off x="5967360" y="2236680"/>
            <a:ext cx="525600" cy="1360440"/>
          </a:xfrm>
          <a:prstGeom prst="rect">
            <a:avLst/>
          </a:prstGeom>
          <a:ln w="0">
            <a:noFill/>
          </a:ln>
        </p:spPr>
      </p:pic>
      <p:pic>
        <p:nvPicPr>
          <p:cNvPr id="715" name="直線矢印コネクタ 22" descr=""/>
          <p:cNvPicPr/>
          <p:nvPr/>
        </p:nvPicPr>
        <p:blipFill>
          <a:blip r:embed="rId13"/>
          <a:stretch/>
        </p:blipFill>
        <p:spPr>
          <a:xfrm>
            <a:off x="3054240" y="2998800"/>
            <a:ext cx="2865600" cy="957240"/>
          </a:xfrm>
          <a:prstGeom prst="rect">
            <a:avLst/>
          </a:prstGeom>
          <a:ln w="0">
            <a:noFill/>
          </a:ln>
        </p:spPr>
      </p:pic>
      <p:pic>
        <p:nvPicPr>
          <p:cNvPr id="716" name="直線矢印コネクタ 24" descr=""/>
          <p:cNvPicPr/>
          <p:nvPr/>
        </p:nvPicPr>
        <p:blipFill>
          <a:blip r:embed="rId14"/>
          <a:stretch/>
        </p:blipFill>
        <p:spPr>
          <a:xfrm>
            <a:off x="3054240" y="1328760"/>
            <a:ext cx="3322800" cy="1060560"/>
          </a:xfrm>
          <a:prstGeom prst="rect">
            <a:avLst/>
          </a:prstGeom>
          <a:ln w="0">
            <a:noFill/>
          </a:ln>
        </p:spPr>
      </p:pic>
      <p:sp>
        <p:nvSpPr>
          <p:cNvPr id="717" name="スライド番号プレースホルダー 28"/>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E0449-B896-492F-9A34-2841DEF470F6}"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
        <p:nvSpPr>
          <p:cNvPr id="718" name="テキスト ボックス 23"/>
          <p:cNvSpPr/>
          <p:nvPr/>
        </p:nvSpPr>
        <p:spPr>
          <a:xfrm>
            <a:off x="3750840" y="296856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orbel"/>
              </a:rPr>
              <a:t>サーバー</a:t>
            </a:r>
            <a:endParaRPr b="0" lang="en-US" sz="1200" spc="-1" strike="noStrike">
              <a:solidFill>
                <a:srgbClr val="000000"/>
              </a:solidFill>
              <a:latin typeface="Corbel"/>
            </a:endParaRPr>
          </a:p>
        </p:txBody>
      </p:sp>
      <p:sp>
        <p:nvSpPr>
          <p:cNvPr id="719" name="テキスト ボックス 3"/>
          <p:cNvSpPr/>
          <p:nvPr/>
        </p:nvSpPr>
        <p:spPr>
          <a:xfrm>
            <a:off x="6023160" y="18669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orbel"/>
              </a:rPr>
              <a:t>口コミ</a:t>
            </a:r>
            <a:endParaRPr b="0" lang="en-US" sz="1200" spc="-1" strike="noStrike">
              <a:solidFill>
                <a:srgbClr val="000000"/>
              </a:solidFill>
              <a:latin typeface="Corbel"/>
            </a:endParaRPr>
          </a:p>
        </p:txBody>
      </p:sp>
      <p:sp>
        <p:nvSpPr>
          <p:cNvPr id="720" name="テキスト ボックス 25"/>
          <p:cNvSpPr/>
          <p:nvPr/>
        </p:nvSpPr>
        <p:spPr>
          <a:xfrm>
            <a:off x="5731200" y="284472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orbel"/>
              </a:rPr>
              <a:t>口コミ</a:t>
            </a: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テキスト ボックス 3"/>
          <p:cNvSpPr/>
          <p:nvPr/>
        </p:nvSpPr>
        <p:spPr>
          <a:xfrm>
            <a:off x="2160000" y="720720"/>
            <a:ext cx="469188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１０　マネタイズ（事業から収益が得られる仕組み）</a:t>
            </a:r>
            <a:endParaRPr b="0" lang="en-US" sz="2400" spc="-1" strike="noStrike">
              <a:solidFill>
                <a:srgbClr val="000000"/>
              </a:solidFill>
              <a:latin typeface="Corbel"/>
            </a:endParaRPr>
          </a:p>
        </p:txBody>
      </p:sp>
      <p:pic>
        <p:nvPicPr>
          <p:cNvPr id="722" name="正方形/長方形 1" descr=""/>
          <p:cNvPicPr/>
          <p:nvPr/>
        </p:nvPicPr>
        <p:blipFill>
          <a:blip r:embed="rId1"/>
          <a:stretch/>
        </p:blipFill>
        <p:spPr>
          <a:xfrm>
            <a:off x="353880" y="1494000"/>
            <a:ext cx="2979720" cy="5235480"/>
          </a:xfrm>
          <a:prstGeom prst="rect">
            <a:avLst/>
          </a:prstGeom>
          <a:ln w="0">
            <a:noFill/>
          </a:ln>
        </p:spPr>
      </p:pic>
      <p:pic>
        <p:nvPicPr>
          <p:cNvPr id="723" name="正方形/長方形 6" descr=""/>
          <p:cNvPicPr/>
          <p:nvPr/>
        </p:nvPicPr>
        <p:blipFill>
          <a:blip r:embed="rId2"/>
          <a:stretch/>
        </p:blipFill>
        <p:spPr>
          <a:xfrm>
            <a:off x="5956200" y="1542960"/>
            <a:ext cx="2979720" cy="5023080"/>
          </a:xfrm>
          <a:prstGeom prst="rect">
            <a:avLst/>
          </a:prstGeom>
          <a:ln w="0">
            <a:noFill/>
          </a:ln>
        </p:spPr>
      </p:pic>
      <p:pic>
        <p:nvPicPr>
          <p:cNvPr id="724" name="正方形/長方形 7" descr=""/>
          <p:cNvPicPr/>
          <p:nvPr/>
        </p:nvPicPr>
        <p:blipFill>
          <a:blip r:embed="rId3"/>
          <a:stretch/>
        </p:blipFill>
        <p:spPr>
          <a:xfrm>
            <a:off x="5956200" y="4780080"/>
            <a:ext cx="2979720" cy="1974600"/>
          </a:xfrm>
          <a:prstGeom prst="rect">
            <a:avLst/>
          </a:prstGeom>
          <a:ln w="0">
            <a:noFill/>
          </a:ln>
        </p:spPr>
      </p:pic>
      <p:pic>
        <p:nvPicPr>
          <p:cNvPr id="725" name="正方形/長方形 8" descr=""/>
          <p:cNvPicPr/>
          <p:nvPr/>
        </p:nvPicPr>
        <p:blipFill>
          <a:blip r:embed="rId4"/>
          <a:stretch/>
        </p:blipFill>
        <p:spPr>
          <a:xfrm>
            <a:off x="5979960" y="2541600"/>
            <a:ext cx="2955960" cy="2755800"/>
          </a:xfrm>
          <a:prstGeom prst="rect">
            <a:avLst/>
          </a:prstGeom>
          <a:ln w="0">
            <a:noFill/>
          </a:ln>
        </p:spPr>
      </p:pic>
      <p:sp>
        <p:nvSpPr>
          <p:cNvPr id="726" name="テキスト ボックス 9"/>
          <p:cNvSpPr/>
          <p:nvPr/>
        </p:nvSpPr>
        <p:spPr>
          <a:xfrm>
            <a:off x="6463080" y="1839960"/>
            <a:ext cx="1817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利益</a:t>
            </a:r>
            <a:endParaRPr b="0" lang="en-US" sz="2400" spc="-1" strike="noStrike">
              <a:solidFill>
                <a:srgbClr val="000000"/>
              </a:solidFill>
              <a:latin typeface="Corbe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3,422,000</a:t>
            </a:r>
            <a:r>
              <a:rPr b="0" lang="ja-JP" sz="2400" spc="-1" strike="noStrike">
                <a:solidFill>
                  <a:srgbClr val="000000"/>
                </a:solidFill>
                <a:latin typeface="Corbel"/>
              </a:rPr>
              <a:t>円</a:t>
            </a:r>
            <a:endParaRPr b="0" lang="en-US" sz="2400" spc="-1" strike="noStrike">
              <a:solidFill>
                <a:srgbClr val="000000"/>
              </a:solidFill>
              <a:latin typeface="Corbel"/>
            </a:endParaRPr>
          </a:p>
        </p:txBody>
      </p:sp>
      <p:sp>
        <p:nvSpPr>
          <p:cNvPr id="727" name="テキスト ボックス 10"/>
          <p:cNvSpPr/>
          <p:nvPr/>
        </p:nvSpPr>
        <p:spPr>
          <a:xfrm>
            <a:off x="3130560" y="1746360"/>
            <a:ext cx="2914560" cy="527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売上の算定の基礎</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客単価（</a:t>
            </a:r>
            <a:r>
              <a:rPr b="0" lang="en-US" sz="2000" spc="-1" strike="noStrike">
                <a:solidFill>
                  <a:srgbClr val="000000"/>
                </a:solidFill>
                <a:latin typeface="Corbel"/>
              </a:rPr>
              <a:t>A</a:t>
            </a:r>
            <a:r>
              <a:rPr b="0" lang="ja-JP" sz="2000" spc="-1" strike="noStrike">
                <a:solidFill>
                  <a:srgbClr val="000000"/>
                </a:solidFill>
                <a:latin typeface="Corbel"/>
              </a:rPr>
              <a:t>）</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　　　　　　</a:t>
            </a:r>
            <a:r>
              <a:rPr b="0" lang="en-US" sz="2000" spc="-1" strike="noStrike">
                <a:solidFill>
                  <a:srgbClr val="000000"/>
                </a:solidFill>
                <a:latin typeface="Corbel"/>
              </a:rPr>
              <a:t>15,800 </a:t>
            </a:r>
            <a:r>
              <a:rPr b="0" lang="ja-JP" sz="2000" spc="-1" strike="noStrike">
                <a:solidFill>
                  <a:srgbClr val="000000"/>
                </a:solidFill>
                <a:latin typeface="Corbel"/>
              </a:rPr>
              <a:t>円</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客単価の内訳</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a:t>
            </a:r>
            <a:r>
              <a:rPr b="0" lang="ja-JP" sz="2000" spc="-1" strike="noStrike">
                <a:solidFill>
                  <a:srgbClr val="000000"/>
                </a:solidFill>
                <a:latin typeface="Corbel"/>
              </a:rPr>
              <a:t>商品単価</a:t>
            </a:r>
            <a:r>
              <a:rPr b="0" lang="en-US" sz="2000" spc="-1" strike="noStrike">
                <a:solidFill>
                  <a:srgbClr val="000000"/>
                </a:solidFill>
                <a:latin typeface="Corbel"/>
              </a:rPr>
              <a:t> </a:t>
            </a:r>
            <a:r>
              <a:rPr b="0" lang="en-US" sz="2000" spc="-1" strike="noStrike">
                <a:solidFill>
                  <a:srgbClr val="000000"/>
                </a:solidFill>
                <a:latin typeface="Corbel"/>
              </a:rPr>
              <a:t>× </a:t>
            </a:r>
            <a:r>
              <a:rPr b="0" lang="ja-JP" sz="2000" spc="-1" strike="noStrike">
                <a:solidFill>
                  <a:srgbClr val="000000"/>
                </a:solidFill>
                <a:latin typeface="Corbel"/>
              </a:rPr>
              <a:t>買上点数）</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　　　　　　</a:t>
            </a:r>
            <a:r>
              <a:rPr b="0" lang="en-US" sz="2000" spc="-1" strike="noStrike">
                <a:solidFill>
                  <a:srgbClr val="000000"/>
                </a:solidFill>
                <a:latin typeface="Corbel"/>
              </a:rPr>
              <a:t>2,860</a:t>
            </a:r>
            <a:r>
              <a:rPr b="0" lang="ja-JP" sz="2000" spc="-1" strike="noStrike">
                <a:solidFill>
                  <a:srgbClr val="000000"/>
                </a:solidFill>
                <a:latin typeface="Corbel"/>
              </a:rPr>
              <a:t>円</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1</a:t>
            </a:r>
            <a:r>
              <a:rPr b="0" lang="ja-JP" sz="2000" spc="-1" strike="noStrike">
                <a:solidFill>
                  <a:srgbClr val="000000"/>
                </a:solidFill>
                <a:latin typeface="Corbel"/>
              </a:rPr>
              <a:t>日の客数（</a:t>
            </a:r>
            <a:r>
              <a:rPr b="0" lang="en-US" sz="2000" spc="-1" strike="noStrike">
                <a:solidFill>
                  <a:srgbClr val="000000"/>
                </a:solidFill>
                <a:latin typeface="Corbel"/>
              </a:rPr>
              <a:t>B</a:t>
            </a:r>
            <a:r>
              <a:rPr b="0" lang="ja-JP" sz="2000" spc="-1" strike="noStrike">
                <a:solidFill>
                  <a:srgbClr val="000000"/>
                </a:solidFill>
                <a:latin typeface="Corbel"/>
              </a:rPr>
              <a:t>）</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　　　　</a:t>
            </a:r>
            <a:r>
              <a:rPr b="0" lang="en-US" sz="2000" spc="-1" strike="noStrike">
                <a:solidFill>
                  <a:srgbClr val="000000"/>
                </a:solidFill>
                <a:latin typeface="Corbel"/>
              </a:rPr>
              <a:t>  </a:t>
            </a:r>
            <a:r>
              <a:rPr b="0" lang="ja-JP" sz="2000" spc="-1" strike="noStrike">
                <a:solidFill>
                  <a:srgbClr val="000000"/>
                </a:solidFill>
                <a:latin typeface="Corbel"/>
              </a:rPr>
              <a:t>　</a:t>
            </a:r>
            <a:r>
              <a:rPr b="0" lang="en-US" sz="2000" spc="-1" strike="noStrike">
                <a:solidFill>
                  <a:srgbClr val="000000"/>
                </a:solidFill>
                <a:latin typeface="Corbel"/>
              </a:rPr>
              <a:t>10</a:t>
            </a:r>
            <a:r>
              <a:rPr b="0" lang="ja-JP" sz="2000" spc="-1" strike="noStrike">
                <a:solidFill>
                  <a:srgbClr val="000000"/>
                </a:solidFill>
                <a:latin typeface="Corbel"/>
              </a:rPr>
              <a:t>　人</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1</a:t>
            </a:r>
            <a:r>
              <a:rPr b="0" lang="ja-JP" sz="2000" spc="-1" strike="noStrike">
                <a:solidFill>
                  <a:srgbClr val="000000"/>
                </a:solidFill>
                <a:latin typeface="Corbel"/>
              </a:rPr>
              <a:t>日の売上（</a:t>
            </a:r>
            <a:r>
              <a:rPr b="0" lang="en-US" sz="2000" spc="-1" strike="noStrike">
                <a:solidFill>
                  <a:srgbClr val="000000"/>
                </a:solidFill>
                <a:latin typeface="Corbel"/>
              </a:rPr>
              <a:t>C)</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a:t>
            </a:r>
            <a:r>
              <a:rPr b="0" lang="en-US" sz="2000" spc="-1" strike="noStrike">
                <a:solidFill>
                  <a:srgbClr val="000000"/>
                </a:solidFill>
                <a:latin typeface="Corbel"/>
              </a:rPr>
              <a:t>A × B)</a:t>
            </a:r>
            <a:r>
              <a:rPr b="0" lang="ja-JP" sz="2000" spc="-1" strike="noStrike">
                <a:solidFill>
                  <a:srgbClr val="000000"/>
                </a:solidFill>
                <a:latin typeface="Corbel"/>
              </a:rPr>
              <a:t>　　　　　　</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　</a:t>
            </a:r>
            <a:r>
              <a:rPr b="0" lang="en-US" sz="2000" spc="-1" strike="noStrike">
                <a:solidFill>
                  <a:srgbClr val="000000"/>
                </a:solidFill>
                <a:latin typeface="Corbel"/>
              </a:rPr>
              <a:t>15,800</a:t>
            </a:r>
            <a:r>
              <a:rPr b="0" lang="ja-JP" sz="2000" spc="-1" strike="noStrike">
                <a:solidFill>
                  <a:srgbClr val="000000"/>
                </a:solidFill>
                <a:latin typeface="Corbel"/>
              </a:rPr>
              <a:t>*</a:t>
            </a:r>
            <a:r>
              <a:rPr b="0" lang="en-US" sz="2000" spc="-1" strike="noStrike">
                <a:solidFill>
                  <a:srgbClr val="000000"/>
                </a:solidFill>
                <a:latin typeface="Corbel"/>
              </a:rPr>
              <a:t>10</a:t>
            </a:r>
            <a:r>
              <a:rPr b="0" lang="ja-JP" sz="2000" spc="-1" strike="noStrike">
                <a:solidFill>
                  <a:srgbClr val="000000"/>
                </a:solidFill>
                <a:latin typeface="Corbel"/>
              </a:rPr>
              <a:t>＝</a:t>
            </a:r>
            <a:r>
              <a:rPr b="0" lang="en-US" sz="2000" spc="-1" strike="noStrike">
                <a:solidFill>
                  <a:srgbClr val="000000"/>
                </a:solidFill>
                <a:latin typeface="Corbel"/>
              </a:rPr>
              <a:t>158,000</a:t>
            </a:r>
            <a:r>
              <a:rPr b="0" lang="ja-JP" sz="2000" spc="-1" strike="noStrike">
                <a:solidFill>
                  <a:srgbClr val="000000"/>
                </a:solidFill>
                <a:latin typeface="Corbel"/>
              </a:rPr>
              <a:t>円</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１年間の売上（</a:t>
            </a:r>
            <a:r>
              <a:rPr b="0" lang="en-US" sz="2000" spc="-1" strike="noStrike">
                <a:solidFill>
                  <a:srgbClr val="000000"/>
                </a:solidFill>
                <a:latin typeface="Corbel"/>
              </a:rPr>
              <a:t>D)</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a:t>
            </a:r>
            <a:r>
              <a:rPr b="0" lang="en-US" sz="2000" spc="-1" strike="noStrike">
                <a:solidFill>
                  <a:srgbClr val="000000"/>
                </a:solidFill>
                <a:latin typeface="Corbel"/>
              </a:rPr>
              <a:t>C × </a:t>
            </a:r>
            <a:r>
              <a:rPr b="0" lang="ja-JP" sz="2000" spc="-1" strike="noStrike">
                <a:solidFill>
                  <a:srgbClr val="000000"/>
                </a:solidFill>
                <a:latin typeface="Corbel"/>
              </a:rPr>
              <a:t>営業日数）</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 </a:t>
            </a:r>
            <a:r>
              <a:rPr b="0" lang="ja-JP" sz="2000" spc="-1" strike="noStrike">
                <a:solidFill>
                  <a:srgbClr val="000000"/>
                </a:solidFill>
                <a:latin typeface="Corbel"/>
              </a:rPr>
              <a:t>　　　　　</a:t>
            </a:r>
            <a:r>
              <a:rPr b="0" lang="en-US" sz="2000" spc="-1" strike="noStrike">
                <a:solidFill>
                  <a:srgbClr val="000000"/>
                </a:solidFill>
                <a:latin typeface="Corbel"/>
              </a:rPr>
              <a:t>57,100,000</a:t>
            </a:r>
            <a:r>
              <a:rPr b="0" lang="ja-JP" sz="2000" spc="-1" strike="noStrike">
                <a:solidFill>
                  <a:srgbClr val="000000"/>
                </a:solidFill>
                <a:latin typeface="Corbel"/>
              </a:rPr>
              <a:t>円</a:t>
            </a:r>
            <a:endParaRPr b="0" lang="en-US" sz="20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
        <p:nvSpPr>
          <p:cNvPr id="728" name="スライド番号プレースホルダー 4"/>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941D3-9B2A-4BA7-B19F-CE407F0816A5}"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テキスト ボックス 3"/>
          <p:cNvSpPr/>
          <p:nvPr/>
        </p:nvSpPr>
        <p:spPr>
          <a:xfrm>
            <a:off x="1098360" y="720720"/>
            <a:ext cx="158292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１１　事業試算</a:t>
            </a:r>
            <a:endParaRPr b="0" lang="en-US" sz="2400" spc="-1" strike="noStrike">
              <a:solidFill>
                <a:srgbClr val="000000"/>
              </a:solidFill>
              <a:latin typeface="Corbel"/>
            </a:endParaRPr>
          </a:p>
        </p:txBody>
      </p:sp>
      <p:pic>
        <p:nvPicPr>
          <p:cNvPr id="730" name="図 8" descr=""/>
          <p:cNvPicPr/>
          <p:nvPr/>
        </p:nvPicPr>
        <p:blipFill>
          <a:blip r:embed="rId1"/>
          <a:stretch/>
        </p:blipFill>
        <p:spPr>
          <a:xfrm>
            <a:off x="720720" y="1343160"/>
            <a:ext cx="8120160" cy="4481280"/>
          </a:xfrm>
          <a:prstGeom prst="rect">
            <a:avLst/>
          </a:prstGeom>
          <a:ln w="0">
            <a:noFill/>
          </a:ln>
        </p:spPr>
      </p:pic>
      <p:sp>
        <p:nvSpPr>
          <p:cNvPr id="731" name="スライド番号プレースホルダー 10"/>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60D31-6D44-4F02-882E-0B4FD1083F46}"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テキスト ボックス 3"/>
          <p:cNvSpPr/>
          <p:nvPr/>
        </p:nvSpPr>
        <p:spPr>
          <a:xfrm>
            <a:off x="870120" y="623880"/>
            <a:ext cx="7262640" cy="45972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ＭＳ ゴシック"/>
              </a:rPr>
              <a:t>１２</a:t>
            </a:r>
            <a:r>
              <a:rPr b="0" lang="ja-JP" sz="2400" spc="-1" strike="noStrike">
                <a:solidFill>
                  <a:srgbClr val="000000"/>
                </a:solidFill>
                <a:latin typeface="Corbel"/>
              </a:rPr>
              <a:t>　</a:t>
            </a:r>
            <a:r>
              <a:rPr b="1" lang="ja-JP" sz="2400" spc="-1" strike="noStrike">
                <a:solidFill>
                  <a:srgbClr val="000000"/>
                </a:solidFill>
                <a:latin typeface="Corbel"/>
              </a:rPr>
              <a:t>将来の計画・展望</a:t>
            </a:r>
            <a:endParaRPr b="0" lang="en-US" sz="2400" spc="-1" strike="noStrike">
              <a:solidFill>
                <a:srgbClr val="000000"/>
              </a:solidFill>
              <a:latin typeface="Corbel"/>
            </a:endParaRPr>
          </a:p>
        </p:txBody>
      </p:sp>
      <p:sp>
        <p:nvSpPr>
          <p:cNvPr id="733" name="テキスト ボックス 5"/>
          <p:cNvSpPr/>
          <p:nvPr/>
        </p:nvSpPr>
        <p:spPr>
          <a:xfrm flipH="1">
            <a:off x="893160" y="1708200"/>
            <a:ext cx="7978680" cy="265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中国の人たちに美をお届けすることは、人に自信を与え、その人の人生を明るくするようなもので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女性が輝くようになれば、世界が輝くようになると思いま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日本にはたくさんの化粧品製造業者があり、一緒にレシピを考えながら小ロットでも製造してもらうことができま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当面は既製品を仕入れて販売する予定ですが、将来的には自社ブランド製品を創造したいで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中国女性の好む色や香りを選べるのは、中国出身の私達だからできることです。例えばジャスミンの香りの化粧品のように。そんなオリジナル製品で心を豊かにし、幸福の輪を広げたいと思いま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安全・安心」なお客様に愛される製品作りを心がけるとともに、きれいなお肌のために貢献したいで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
        <p:nvSpPr>
          <p:cNvPr id="734" name="テキスト ボックス 4"/>
          <p:cNvSpPr/>
          <p:nvPr/>
        </p:nvSpPr>
        <p:spPr>
          <a:xfrm>
            <a:off x="4361400" y="12016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Corbel"/>
              </a:rPr>
              <a:t>自社ブランド製品の開発・販売をします</a:t>
            </a:r>
            <a:endParaRPr b="0" lang="en-US" sz="3200" spc="-1" strike="noStrike">
              <a:solidFill>
                <a:srgbClr val="000000"/>
              </a:solidFill>
              <a:latin typeface="Corbel"/>
            </a:endParaRPr>
          </a:p>
        </p:txBody>
      </p:sp>
      <p:sp>
        <p:nvSpPr>
          <p:cNvPr id="735" name="スライド番号プレースホルダー 7"/>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A2BC7-44B5-40A2-A542-4B697398746E}"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スライド番号プレースホルダー 3"/>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3AB18-F253-4484-BCDA-79E20B3434DC}"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
        <p:nvSpPr>
          <p:cNvPr id="737" name="テキスト ボックス 4"/>
          <p:cNvSpPr/>
          <p:nvPr/>
        </p:nvSpPr>
        <p:spPr>
          <a:xfrm>
            <a:off x="4435560" y="295416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400" spc="-1" strike="noStrike">
                <a:solidFill>
                  <a:srgbClr val="000000"/>
                </a:solidFill>
                <a:latin typeface="Corbel"/>
              </a:rPr>
              <a:t>ご清聴ありがとうございました。</a:t>
            </a:r>
            <a:endParaRPr b="0" lang="en-US" sz="4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テキスト ボックス 3"/>
          <p:cNvSpPr/>
          <p:nvPr/>
        </p:nvSpPr>
        <p:spPr>
          <a:xfrm>
            <a:off x="720720" y="720720"/>
            <a:ext cx="6703920" cy="45972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１　はじめに（企画を思い立った</a:t>
            </a:r>
            <a:r>
              <a:rPr b="0" lang="en-US" sz="2400" spc="-1" strike="noStrike">
                <a:solidFill>
                  <a:srgbClr val="000000"/>
                </a:solidFill>
                <a:latin typeface="Corbel"/>
              </a:rPr>
              <a:t>動機</a:t>
            </a:r>
            <a:r>
              <a:rPr b="0" lang="ja-JP" sz="2400" spc="-1" strike="noStrike">
                <a:solidFill>
                  <a:srgbClr val="000000"/>
                </a:solidFill>
                <a:latin typeface="Corbel"/>
              </a:rPr>
              <a:t>）</a:t>
            </a:r>
            <a:endParaRPr b="0" lang="en-US" sz="2400" spc="-1" strike="noStrike">
              <a:solidFill>
                <a:srgbClr val="000000"/>
              </a:solidFill>
              <a:latin typeface="Corbel"/>
            </a:endParaRPr>
          </a:p>
        </p:txBody>
      </p:sp>
      <p:sp>
        <p:nvSpPr>
          <p:cNvPr id="619" name="テキスト ボックス 6"/>
          <p:cNvSpPr/>
          <p:nvPr/>
        </p:nvSpPr>
        <p:spPr>
          <a:xfrm>
            <a:off x="893880" y="1665360"/>
            <a:ext cx="41097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ＭＳ ゴシック"/>
              </a:rPr>
              <a:t>グループメンバーは全員中国人留学生で、５人中４人が女性であり、日本に来てから日本製化粧品の大ファンになりました。</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ＭＳ ゴシック"/>
              </a:rPr>
              <a:t>帰国する際はお土産にフェイスパックなどをリクエストされることが多く、日本製化粧品の人気の高さを実感しました。</a:t>
            </a:r>
            <a:endParaRPr b="0" lang="en-US" sz="2000" spc="-1" strike="noStrike">
              <a:solidFill>
                <a:srgbClr val="000000"/>
              </a:solidFill>
              <a:latin typeface="Corbel"/>
            </a:endParaRPr>
          </a:p>
        </p:txBody>
      </p:sp>
      <p:sp>
        <p:nvSpPr>
          <p:cNvPr id="620" name="正方形/長方形 7"/>
          <p:cNvSpPr/>
          <p:nvPr/>
        </p:nvSpPr>
        <p:spPr>
          <a:xfrm>
            <a:off x="5099760" y="4446720"/>
            <a:ext cx="272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rbel"/>
              </a:rPr>
              <a:t>Photo by Facial mask.jpg -wikipedia</a:t>
            </a:r>
            <a:endParaRPr b="0" lang="en-US" sz="1200" spc="-1" strike="noStrike">
              <a:solidFill>
                <a:srgbClr val="000000"/>
              </a:solidFill>
              <a:latin typeface="Corbel"/>
            </a:endParaRPr>
          </a:p>
        </p:txBody>
      </p:sp>
      <p:pic>
        <p:nvPicPr>
          <p:cNvPr id="621" name="図 8" descr=""/>
          <p:cNvPicPr/>
          <p:nvPr/>
        </p:nvPicPr>
        <p:blipFill>
          <a:blip r:embed="rId1"/>
          <a:stretch/>
        </p:blipFill>
        <p:spPr>
          <a:xfrm>
            <a:off x="5176800" y="1747800"/>
            <a:ext cx="2959200" cy="2698920"/>
          </a:xfrm>
          <a:prstGeom prst="rect">
            <a:avLst/>
          </a:prstGeom>
          <a:ln w="0">
            <a:noFill/>
          </a:ln>
        </p:spPr>
      </p:pic>
      <p:sp>
        <p:nvSpPr>
          <p:cNvPr id="622" name="テキスト ボックス 9"/>
          <p:cNvSpPr/>
          <p:nvPr/>
        </p:nvSpPr>
        <p:spPr>
          <a:xfrm>
            <a:off x="860400" y="4600440"/>
            <a:ext cx="778824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ＭＳ ゴシック"/>
              </a:rPr>
              <a:t>その一方で、中国では日本製化粧品について十分な情報がなく、お肌</a:t>
            </a:r>
            <a:r>
              <a:rPr b="0" lang="ja-JP" sz="2000" spc="-1" strike="noStrike">
                <a:solidFill>
                  <a:srgbClr val="000000"/>
                </a:solidFill>
                <a:latin typeface="ＭＳ ゴシック"/>
              </a:rPr>
              <a:t>の悩みが解決できない人が多くいることに気づきました。</a:t>
            </a:r>
            <a:endParaRPr b="0" lang="en-US" sz="2000" spc="-1" strike="noStrike">
              <a:solidFill>
                <a:srgbClr val="000000"/>
              </a:solidFill>
              <a:latin typeface="Corbel"/>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ＭＳ ゴシック"/>
              </a:rPr>
              <a:t>正しい知識も含めて伝えることで、</a:t>
            </a:r>
            <a:r>
              <a:rPr b="0" lang="ja-JP" sz="2000" spc="-1" strike="noStrike">
                <a:solidFill>
                  <a:srgbClr val="000000"/>
                </a:solidFill>
                <a:latin typeface="Corbel"/>
              </a:rPr>
              <a:t>中国女性に</a:t>
            </a:r>
            <a:r>
              <a:rPr b="0" lang="ja-JP" sz="2000" spc="-1" strike="noStrike">
                <a:solidFill>
                  <a:srgbClr val="000000"/>
                </a:solidFill>
                <a:latin typeface="ＭＳ ゴシック"/>
              </a:rPr>
              <a:t>もっと美しくなって欲しいと考え、今回のビジネスプランを考えました。</a:t>
            </a:r>
            <a:endParaRPr b="0" lang="en-US" sz="2000" spc="-1" strike="noStrike">
              <a:solidFill>
                <a:srgbClr val="000000"/>
              </a:solidFill>
              <a:latin typeface="Corbel"/>
            </a:endParaRPr>
          </a:p>
        </p:txBody>
      </p:sp>
      <p:sp>
        <p:nvSpPr>
          <p:cNvPr id="623" name="スライド番号プレースホルダー 11"/>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89A24-ECBD-42AD-A007-83F540E1FA51}"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テキスト ボックス 3"/>
          <p:cNvSpPr/>
          <p:nvPr/>
        </p:nvSpPr>
        <p:spPr>
          <a:xfrm>
            <a:off x="2099160" y="720720"/>
            <a:ext cx="481356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２　事業内容（取扱品・主製品またはサービスなど）</a:t>
            </a:r>
            <a:endParaRPr b="0" lang="en-US" sz="2400" spc="-1" strike="noStrike">
              <a:solidFill>
                <a:srgbClr val="000000"/>
              </a:solidFill>
              <a:latin typeface="Corbel"/>
            </a:endParaRPr>
          </a:p>
        </p:txBody>
      </p:sp>
      <p:sp>
        <p:nvSpPr>
          <p:cNvPr id="625" name="テキスト ボックス 6"/>
          <p:cNvSpPr/>
          <p:nvPr/>
        </p:nvSpPr>
        <p:spPr>
          <a:xfrm>
            <a:off x="820800" y="1338120"/>
            <a:ext cx="75690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私たちのビジネスプランは日本製の低刺激性の基礎化粧品の通信販売ビジネス（越境</a:t>
            </a:r>
            <a:r>
              <a:rPr b="0" lang="en-US" sz="2000" spc="-1" strike="noStrike">
                <a:solidFill>
                  <a:srgbClr val="000000"/>
                </a:solidFill>
                <a:latin typeface="Corbel"/>
              </a:rPr>
              <a:t>EC</a:t>
            </a:r>
            <a:r>
              <a:rPr b="0" lang="ja-JP" sz="2000" spc="-1" strike="noStrike">
                <a:solidFill>
                  <a:srgbClr val="000000"/>
                </a:solidFill>
                <a:latin typeface="Corbel"/>
              </a:rPr>
              <a:t>サイトの構築）で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中国女性の立場に立って情報提供し、商品をお勧めしま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中国の法律によって化粧水などの成分に含有量の制限があるので、中国国内でも流通できるものだけを選んで販売します。</a:t>
            </a:r>
            <a:endParaRPr b="0" lang="en-US" sz="2000" spc="-1" strike="noStrike">
              <a:solidFill>
                <a:srgbClr val="000000"/>
              </a:solidFill>
              <a:latin typeface="Corbel"/>
            </a:endParaRPr>
          </a:p>
        </p:txBody>
      </p:sp>
      <p:sp>
        <p:nvSpPr>
          <p:cNvPr id="626" name="正方形/長方形 7"/>
          <p:cNvSpPr/>
          <p:nvPr/>
        </p:nvSpPr>
        <p:spPr>
          <a:xfrm>
            <a:off x="3310200" y="6048360"/>
            <a:ext cx="27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rbel"/>
              </a:rPr>
              <a:t>Photo by Cosmetics.JPG-wikipedhia</a:t>
            </a:r>
            <a:endParaRPr b="0" lang="en-US" sz="1200" spc="-1" strike="noStrike">
              <a:solidFill>
                <a:srgbClr val="000000"/>
              </a:solidFill>
              <a:latin typeface="Corbel"/>
            </a:endParaRPr>
          </a:p>
        </p:txBody>
      </p:sp>
      <p:pic>
        <p:nvPicPr>
          <p:cNvPr id="627" name="図 8" descr=""/>
          <p:cNvPicPr/>
          <p:nvPr/>
        </p:nvPicPr>
        <p:blipFill>
          <a:blip r:embed="rId1"/>
          <a:stretch/>
        </p:blipFill>
        <p:spPr>
          <a:xfrm>
            <a:off x="2833560" y="3535200"/>
            <a:ext cx="3543480" cy="2576520"/>
          </a:xfrm>
          <a:prstGeom prst="rect">
            <a:avLst/>
          </a:prstGeom>
          <a:ln w="0">
            <a:noFill/>
          </a:ln>
        </p:spPr>
      </p:pic>
      <p:sp>
        <p:nvSpPr>
          <p:cNvPr id="628" name="スライド番号プレースホルダー 10"/>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F0C66-E1D7-4AEB-9852-1348611A9057}"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テキスト ボックス 3"/>
          <p:cNvSpPr/>
          <p:nvPr/>
        </p:nvSpPr>
        <p:spPr>
          <a:xfrm>
            <a:off x="2734560" y="720720"/>
            <a:ext cx="357012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３ </a:t>
            </a:r>
            <a:r>
              <a:rPr b="0" lang="en-US" sz="2400" spc="-1" strike="noStrike">
                <a:solidFill>
                  <a:srgbClr val="000000"/>
                </a:solidFill>
                <a:latin typeface="Corbel"/>
              </a:rPr>
              <a:t>–</a:t>
            </a:r>
            <a:r>
              <a:rPr b="0" lang="ja-JP" sz="2400" spc="-1" strike="noStrike">
                <a:solidFill>
                  <a:srgbClr val="000000"/>
                </a:solidFill>
                <a:latin typeface="Corbel"/>
              </a:rPr>
              <a:t> １　ビジネス環境分析</a:t>
            </a:r>
            <a:r>
              <a:rPr b="0" lang="en-US" sz="2400" spc="-1" strike="noStrike">
                <a:solidFill>
                  <a:srgbClr val="000000"/>
                </a:solidFill>
                <a:latin typeface="Corbel"/>
              </a:rPr>
              <a:t>(</a:t>
            </a:r>
            <a:r>
              <a:rPr b="0" lang="ja-JP" sz="2400" spc="-1" strike="noStrike">
                <a:solidFill>
                  <a:srgbClr val="000000"/>
                </a:solidFill>
                <a:latin typeface="Corbel"/>
              </a:rPr>
              <a:t>外部環境分析・市場動向</a:t>
            </a:r>
            <a:r>
              <a:rPr b="0" lang="en-US" sz="2400" spc="-1" strike="noStrike">
                <a:solidFill>
                  <a:srgbClr val="000000"/>
                </a:solidFill>
                <a:latin typeface="Corbel"/>
              </a:rPr>
              <a:t>)</a:t>
            </a:r>
            <a:endParaRPr b="0" lang="en-US" sz="2400" spc="-1" strike="noStrike">
              <a:solidFill>
                <a:srgbClr val="000000"/>
              </a:solidFill>
              <a:latin typeface="Corbel"/>
            </a:endParaRPr>
          </a:p>
        </p:txBody>
      </p:sp>
      <p:sp>
        <p:nvSpPr>
          <p:cNvPr id="630" name="テキスト ボックス 4"/>
          <p:cNvSpPr/>
          <p:nvPr/>
        </p:nvSpPr>
        <p:spPr>
          <a:xfrm>
            <a:off x="787320" y="1181160"/>
            <a:ext cx="796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orbel"/>
              </a:rPr>
              <a:t>広い国土の中国の消費者は通販が大好き</a:t>
            </a:r>
            <a:endParaRPr b="0" lang="en-US" sz="2800" spc="-1" strike="noStrike">
              <a:solidFill>
                <a:srgbClr val="000000"/>
              </a:solidFill>
              <a:latin typeface="Corbel"/>
            </a:endParaRPr>
          </a:p>
        </p:txBody>
      </p:sp>
      <p:sp>
        <p:nvSpPr>
          <p:cNvPr id="631" name="テキスト ボックス 2"/>
          <p:cNvSpPr/>
          <p:nvPr/>
        </p:nvSpPr>
        <p:spPr>
          <a:xfrm>
            <a:off x="901800" y="5081760"/>
            <a:ext cx="730224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ＭＳ ゴシック"/>
              </a:rPr>
              <a:t>2016</a:t>
            </a:r>
            <a:r>
              <a:rPr b="0" lang="ja-JP" sz="2000" spc="-1" strike="noStrike">
                <a:solidFill>
                  <a:srgbClr val="000000"/>
                </a:solidFill>
                <a:latin typeface="ＭＳ ゴシック"/>
              </a:rPr>
              <a:t>年</a:t>
            </a:r>
            <a:r>
              <a:rPr b="0" lang="ja-JP" sz="2000" spc="-1" strike="noStrike">
                <a:solidFill>
                  <a:srgbClr val="000000"/>
                </a:solidFill>
                <a:latin typeface="Corbel"/>
              </a:rPr>
              <a:t>の中国のインターネット小売市場は</a:t>
            </a:r>
            <a:r>
              <a:rPr b="0" lang="en-US" sz="2000" spc="-1" strike="noStrike">
                <a:solidFill>
                  <a:srgbClr val="000000"/>
                </a:solidFill>
                <a:latin typeface="ＭＳ ゴシック"/>
              </a:rPr>
              <a:t>5</a:t>
            </a:r>
            <a:r>
              <a:rPr b="0" lang="ja-JP" sz="2000" spc="-1" strike="noStrike">
                <a:solidFill>
                  <a:srgbClr val="000000"/>
                </a:solidFill>
                <a:latin typeface="ＭＳ ゴシック"/>
              </a:rPr>
              <a:t>兆</a:t>
            </a:r>
            <a:r>
              <a:rPr b="0" lang="en-US" sz="2000" spc="-1" strike="noStrike">
                <a:solidFill>
                  <a:srgbClr val="000000"/>
                </a:solidFill>
                <a:latin typeface="ＭＳ ゴシック"/>
              </a:rPr>
              <a:t>2000</a:t>
            </a:r>
            <a:r>
              <a:rPr b="0" lang="ja-JP" sz="2000" spc="-1" strike="noStrike">
                <a:solidFill>
                  <a:srgbClr val="000000"/>
                </a:solidFill>
                <a:latin typeface="Corbel"/>
              </a:rPr>
              <a:t>億元</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約</a:t>
            </a:r>
            <a:r>
              <a:rPr b="0" lang="en-US" sz="2000" spc="-1" strike="noStrike">
                <a:solidFill>
                  <a:srgbClr val="000000"/>
                </a:solidFill>
                <a:latin typeface="ＭＳ ゴシック"/>
              </a:rPr>
              <a:t>86</a:t>
            </a:r>
            <a:r>
              <a:rPr b="0" lang="ja-JP" sz="2000" spc="-1" strike="noStrike">
                <a:solidFill>
                  <a:srgbClr val="000000"/>
                </a:solidFill>
                <a:latin typeface="ＭＳ ゴシック"/>
              </a:rPr>
              <a:t>兆</a:t>
            </a:r>
            <a:r>
              <a:rPr b="0" lang="en-US" sz="2000" spc="-1" strike="noStrike">
                <a:solidFill>
                  <a:srgbClr val="000000"/>
                </a:solidFill>
                <a:latin typeface="ＭＳ ゴシック"/>
              </a:rPr>
              <a:t>2600</a:t>
            </a:r>
            <a:r>
              <a:rPr b="0" lang="ja-JP" sz="2000" spc="-1" strike="noStrike">
                <a:solidFill>
                  <a:srgbClr val="000000"/>
                </a:solidFill>
                <a:latin typeface="Corbel"/>
              </a:rPr>
              <a:t>億円）規模</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第一財経商業データセンター（</a:t>
            </a:r>
            <a:r>
              <a:rPr b="0" lang="en-US" sz="2000" spc="-1" strike="noStrike">
                <a:solidFill>
                  <a:srgbClr val="000000"/>
                </a:solidFill>
                <a:latin typeface="Corbel"/>
              </a:rPr>
              <a:t>CBNData</a:t>
            </a:r>
            <a:r>
              <a:rPr b="0" lang="ja-JP" sz="2000" spc="-1" strike="noStrike">
                <a:solidFill>
                  <a:srgbClr val="000000"/>
                </a:solidFill>
                <a:latin typeface="Corbel"/>
              </a:rPr>
              <a:t>）の調査結果）</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中国の小売総額の</a:t>
            </a:r>
            <a:r>
              <a:rPr b="0" lang="en-US" sz="2000" spc="-1" strike="noStrike">
                <a:solidFill>
                  <a:srgbClr val="000000"/>
                </a:solidFill>
                <a:latin typeface="ＭＳ ゴシック"/>
              </a:rPr>
              <a:t>15</a:t>
            </a:r>
            <a:r>
              <a:rPr b="0" lang="ja-JP" sz="2000" spc="-1" strike="noStrike">
                <a:solidFill>
                  <a:srgbClr val="000000"/>
                </a:solidFill>
                <a:latin typeface="ＭＳ ゴシック"/>
              </a:rPr>
              <a:t>.</a:t>
            </a:r>
            <a:r>
              <a:rPr b="0" lang="en-US" sz="2000" spc="-1" strike="noStrike">
                <a:solidFill>
                  <a:srgbClr val="000000"/>
                </a:solidFill>
                <a:latin typeface="ＭＳ ゴシック"/>
              </a:rPr>
              <a:t>9</a:t>
            </a:r>
            <a:r>
              <a:rPr b="0" lang="ja-JP" sz="2000" spc="-1" strike="noStrike">
                <a:solidFill>
                  <a:srgbClr val="000000"/>
                </a:solidFill>
                <a:latin typeface="ＭＳ ゴシック"/>
              </a:rPr>
              <a:t>％</a:t>
            </a:r>
            <a:r>
              <a:rPr b="0" lang="ja-JP" sz="2000" spc="-1" strike="noStrike">
                <a:solidFill>
                  <a:srgbClr val="000000"/>
                </a:solidFill>
                <a:latin typeface="Corbel"/>
              </a:rPr>
              <a:t>をネット通販が占めています。</a:t>
            </a:r>
            <a:endParaRPr b="0" lang="en-US" sz="2000" spc="-1" strike="noStrike">
              <a:solidFill>
                <a:srgbClr val="000000"/>
              </a:solidFill>
              <a:latin typeface="Corbel"/>
            </a:endParaRPr>
          </a:p>
        </p:txBody>
      </p:sp>
      <p:pic>
        <p:nvPicPr>
          <p:cNvPr id="632" name="図 8" descr=""/>
          <p:cNvPicPr/>
          <p:nvPr/>
        </p:nvPicPr>
        <p:blipFill>
          <a:blip r:embed="rId1"/>
          <a:stretch/>
        </p:blipFill>
        <p:spPr>
          <a:xfrm>
            <a:off x="863640" y="1714680"/>
            <a:ext cx="7416720" cy="3225600"/>
          </a:xfrm>
          <a:prstGeom prst="rect">
            <a:avLst/>
          </a:prstGeom>
          <a:ln w="0">
            <a:noFill/>
          </a:ln>
        </p:spPr>
      </p:pic>
      <p:sp>
        <p:nvSpPr>
          <p:cNvPr id="633" name="テキスト ボックス 9"/>
          <p:cNvSpPr/>
          <p:nvPr/>
        </p:nvSpPr>
        <p:spPr>
          <a:xfrm>
            <a:off x="906480" y="4881600"/>
            <a:ext cx="776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Corbel"/>
              </a:rPr>
              <a:t>出典：平成 </a:t>
            </a:r>
            <a:r>
              <a:rPr b="0" lang="en-US" sz="1000" spc="-1" strike="noStrike">
                <a:solidFill>
                  <a:srgbClr val="000000"/>
                </a:solidFill>
                <a:latin typeface="Corbel"/>
              </a:rPr>
              <a:t>26 </a:t>
            </a:r>
            <a:r>
              <a:rPr b="0" lang="ja-JP" sz="1000" spc="-1" strike="noStrike">
                <a:solidFill>
                  <a:srgbClr val="000000"/>
                </a:solidFill>
                <a:latin typeface="Corbel"/>
              </a:rPr>
              <a:t>年度我が国経済社会の情報化・サービス化に係る基盤整備（電子商取引に関する市場調査）報告書（経済産業省）</a:t>
            </a:r>
            <a:endParaRPr b="0" lang="en-US" sz="1000" spc="-1" strike="noStrike">
              <a:solidFill>
                <a:srgbClr val="000000"/>
              </a:solidFill>
              <a:latin typeface="Corbel"/>
            </a:endParaRPr>
          </a:p>
        </p:txBody>
      </p:sp>
      <p:sp>
        <p:nvSpPr>
          <p:cNvPr id="634" name="スライド番号プレースホルダー 11"/>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B1826-59EA-40B7-ADF2-296606FB197D}"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テキスト ボックス 3"/>
          <p:cNvSpPr/>
          <p:nvPr/>
        </p:nvSpPr>
        <p:spPr>
          <a:xfrm>
            <a:off x="2688480" y="720720"/>
            <a:ext cx="357012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３ </a:t>
            </a:r>
            <a:r>
              <a:rPr b="0" lang="en-US" sz="2400" spc="-1" strike="noStrike">
                <a:solidFill>
                  <a:srgbClr val="000000"/>
                </a:solidFill>
                <a:latin typeface="Corbel"/>
              </a:rPr>
              <a:t>–</a:t>
            </a:r>
            <a:r>
              <a:rPr b="0" lang="ja-JP" sz="2400" spc="-1" strike="noStrike">
                <a:solidFill>
                  <a:srgbClr val="000000"/>
                </a:solidFill>
                <a:latin typeface="Corbel"/>
              </a:rPr>
              <a:t> ２　ビジネス環境分析</a:t>
            </a:r>
            <a:r>
              <a:rPr b="0" lang="en-US" sz="2400" spc="-1" strike="noStrike">
                <a:solidFill>
                  <a:srgbClr val="000000"/>
                </a:solidFill>
                <a:latin typeface="Corbel"/>
              </a:rPr>
              <a:t>(</a:t>
            </a:r>
            <a:r>
              <a:rPr b="0" lang="ja-JP" sz="2400" spc="-1" strike="noStrike">
                <a:solidFill>
                  <a:srgbClr val="000000"/>
                </a:solidFill>
                <a:latin typeface="Corbel"/>
              </a:rPr>
              <a:t>外部環境分析・市場動向</a:t>
            </a:r>
            <a:r>
              <a:rPr b="0" lang="en-US" sz="2400" spc="-1" strike="noStrike">
                <a:solidFill>
                  <a:srgbClr val="000000"/>
                </a:solidFill>
                <a:latin typeface="Corbel"/>
              </a:rPr>
              <a:t>)</a:t>
            </a:r>
            <a:endParaRPr b="0" lang="en-US" sz="2400" spc="-1" strike="noStrike">
              <a:solidFill>
                <a:srgbClr val="000000"/>
              </a:solidFill>
              <a:latin typeface="Corbel"/>
            </a:endParaRPr>
          </a:p>
        </p:txBody>
      </p:sp>
      <p:sp>
        <p:nvSpPr>
          <p:cNvPr id="636" name="テキスト ボックス 4"/>
          <p:cNvSpPr/>
          <p:nvPr/>
        </p:nvSpPr>
        <p:spPr>
          <a:xfrm>
            <a:off x="787320" y="1181160"/>
            <a:ext cx="796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orbel"/>
              </a:rPr>
              <a:t>中国の消費者は国境を越えた買い物が好き</a:t>
            </a:r>
            <a:endParaRPr b="0" lang="en-US" sz="2800" spc="-1" strike="noStrike">
              <a:solidFill>
                <a:srgbClr val="000000"/>
              </a:solidFill>
              <a:latin typeface="Corbel"/>
            </a:endParaRPr>
          </a:p>
        </p:txBody>
      </p:sp>
      <p:pic>
        <p:nvPicPr>
          <p:cNvPr id="637" name="図 6" descr=""/>
          <p:cNvPicPr/>
          <p:nvPr/>
        </p:nvPicPr>
        <p:blipFill>
          <a:blip r:embed="rId1"/>
          <a:stretch/>
        </p:blipFill>
        <p:spPr>
          <a:xfrm>
            <a:off x="825480" y="1943280"/>
            <a:ext cx="7480440" cy="2958840"/>
          </a:xfrm>
          <a:prstGeom prst="rect">
            <a:avLst/>
          </a:prstGeom>
          <a:ln w="0">
            <a:noFill/>
          </a:ln>
        </p:spPr>
      </p:pic>
      <p:sp>
        <p:nvSpPr>
          <p:cNvPr id="638" name="テキスト ボックス 7"/>
          <p:cNvSpPr/>
          <p:nvPr/>
        </p:nvSpPr>
        <p:spPr>
          <a:xfrm>
            <a:off x="998640" y="4889520"/>
            <a:ext cx="77644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100" spc="-1" strike="noStrike">
                <a:solidFill>
                  <a:srgbClr val="000000"/>
                </a:solidFill>
                <a:latin typeface="Corbel"/>
              </a:rPr>
              <a:t>出典：平成 </a:t>
            </a:r>
            <a:r>
              <a:rPr b="0" lang="en-US" sz="1100" spc="-1" strike="noStrike">
                <a:solidFill>
                  <a:srgbClr val="000000"/>
                </a:solidFill>
                <a:latin typeface="Corbel"/>
              </a:rPr>
              <a:t>26 </a:t>
            </a:r>
            <a:r>
              <a:rPr b="0" lang="ja-JP" sz="1100" spc="-1" strike="noStrike">
                <a:solidFill>
                  <a:srgbClr val="000000"/>
                </a:solidFill>
                <a:latin typeface="Corbel"/>
              </a:rPr>
              <a:t>年度我が国経済社会の情報化・サービス化に係る基盤整備（電子商取引に関する市場調査）報告書（</a:t>
            </a:r>
            <a:endParaRPr b="0" lang="en-US" sz="1100" spc="-1" strike="noStrike">
              <a:solidFill>
                <a:srgbClr val="000000"/>
              </a:solidFill>
              <a:latin typeface="Corbe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100" spc="-1" strike="noStrike">
                <a:solidFill>
                  <a:srgbClr val="000000"/>
                </a:solidFill>
                <a:latin typeface="Corbel"/>
              </a:rPr>
              <a:t>　　　経済産業省）</a:t>
            </a:r>
            <a:endParaRPr b="0" lang="en-US" sz="1100" spc="-1" strike="noStrike">
              <a:solidFill>
                <a:srgbClr val="000000"/>
              </a:solidFill>
              <a:latin typeface="Corbel"/>
            </a:endParaRPr>
          </a:p>
        </p:txBody>
      </p:sp>
      <p:sp>
        <p:nvSpPr>
          <p:cNvPr id="639" name="テキスト ボックス 8"/>
          <p:cNvSpPr/>
          <p:nvPr/>
        </p:nvSpPr>
        <p:spPr>
          <a:xfrm>
            <a:off x="825480" y="5437080"/>
            <a:ext cx="735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国境を越えた通販（越境</a:t>
            </a:r>
            <a:r>
              <a:rPr b="0" lang="en-US" sz="2000" spc="-1" strike="noStrike">
                <a:solidFill>
                  <a:srgbClr val="000000"/>
                </a:solidFill>
                <a:latin typeface="Corbel"/>
              </a:rPr>
              <a:t>EC)</a:t>
            </a:r>
            <a:r>
              <a:rPr b="0" lang="ja-JP" sz="2000" spc="-1" strike="noStrike">
                <a:solidFill>
                  <a:srgbClr val="000000"/>
                </a:solidFill>
                <a:latin typeface="Corbel"/>
              </a:rPr>
              <a:t>を積極的に使う傾向がとても強いのが中国の消費者の特徴です。</a:t>
            </a:r>
            <a:endParaRPr b="0" lang="en-US" sz="2000" spc="-1" strike="noStrike">
              <a:solidFill>
                <a:srgbClr val="000000"/>
              </a:solidFill>
              <a:latin typeface="Corbel"/>
            </a:endParaRPr>
          </a:p>
        </p:txBody>
      </p:sp>
      <p:sp>
        <p:nvSpPr>
          <p:cNvPr id="640" name="スライド番号プレースホルダー 10"/>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E02DE-2358-4221-A926-4EF93C2C01A3}"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テキスト ボックス 3"/>
          <p:cNvSpPr/>
          <p:nvPr/>
        </p:nvSpPr>
        <p:spPr>
          <a:xfrm>
            <a:off x="2688480" y="720720"/>
            <a:ext cx="357012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３ </a:t>
            </a:r>
            <a:r>
              <a:rPr b="0" lang="en-US" sz="2400" spc="-1" strike="noStrike">
                <a:solidFill>
                  <a:srgbClr val="000000"/>
                </a:solidFill>
                <a:latin typeface="Corbel"/>
              </a:rPr>
              <a:t>–</a:t>
            </a:r>
            <a:r>
              <a:rPr b="0" lang="ja-JP" sz="2400" spc="-1" strike="noStrike">
                <a:solidFill>
                  <a:srgbClr val="000000"/>
                </a:solidFill>
                <a:latin typeface="Corbel"/>
              </a:rPr>
              <a:t> ３　ビジネス環境分析</a:t>
            </a:r>
            <a:r>
              <a:rPr b="0" lang="en-US" sz="2400" spc="-1" strike="noStrike">
                <a:solidFill>
                  <a:srgbClr val="000000"/>
                </a:solidFill>
                <a:latin typeface="Corbel"/>
              </a:rPr>
              <a:t>(</a:t>
            </a:r>
            <a:r>
              <a:rPr b="0" lang="ja-JP" sz="2400" spc="-1" strike="noStrike">
                <a:solidFill>
                  <a:srgbClr val="000000"/>
                </a:solidFill>
                <a:latin typeface="Corbel"/>
              </a:rPr>
              <a:t>外部環境分析・市場動向</a:t>
            </a:r>
            <a:r>
              <a:rPr b="0" lang="en-US" sz="2400" spc="-1" strike="noStrike">
                <a:solidFill>
                  <a:srgbClr val="000000"/>
                </a:solidFill>
                <a:latin typeface="Corbel"/>
              </a:rPr>
              <a:t>)</a:t>
            </a:r>
            <a:endParaRPr b="0" lang="en-US" sz="2400" spc="-1" strike="noStrike">
              <a:solidFill>
                <a:srgbClr val="000000"/>
              </a:solidFill>
              <a:latin typeface="Corbel"/>
            </a:endParaRPr>
          </a:p>
        </p:txBody>
      </p:sp>
      <p:sp>
        <p:nvSpPr>
          <p:cNvPr id="642" name="テキスト ボックス 4"/>
          <p:cNvSpPr/>
          <p:nvPr/>
        </p:nvSpPr>
        <p:spPr>
          <a:xfrm>
            <a:off x="787320" y="1274760"/>
            <a:ext cx="796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orbel"/>
              </a:rPr>
              <a:t>中国での化粧品の需要は増加中</a:t>
            </a:r>
            <a:endParaRPr b="0" lang="en-US" sz="2800" spc="-1" strike="noStrike">
              <a:solidFill>
                <a:srgbClr val="000000"/>
              </a:solidFill>
              <a:latin typeface="Corbel"/>
            </a:endParaRPr>
          </a:p>
        </p:txBody>
      </p:sp>
      <p:sp>
        <p:nvSpPr>
          <p:cNvPr id="643" name="テキスト ボックス 2"/>
          <p:cNvSpPr/>
          <p:nvPr/>
        </p:nvSpPr>
        <p:spPr>
          <a:xfrm>
            <a:off x="800280" y="2009880"/>
            <a:ext cx="419544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化粧品市場の動向）</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中国化粧品市場は、国民の可処分所得の増加や美容意識の高まりにより、</a:t>
            </a:r>
            <a:r>
              <a:rPr b="0" lang="en-US" sz="2000" spc="-1" strike="noStrike">
                <a:solidFill>
                  <a:srgbClr val="000000"/>
                </a:solidFill>
                <a:latin typeface="ＭＳ ゴシック"/>
              </a:rPr>
              <a:t>10</a:t>
            </a:r>
            <a:r>
              <a:rPr b="0" lang="ja-JP" sz="2000" spc="-1" strike="noStrike">
                <a:solidFill>
                  <a:srgbClr val="000000"/>
                </a:solidFill>
                <a:latin typeface="Corbel"/>
              </a:rPr>
              <a:t>％程度の成長率で推移しており、</a:t>
            </a:r>
            <a:r>
              <a:rPr b="0" lang="en-US" sz="2000" spc="-1" strike="noStrike">
                <a:solidFill>
                  <a:srgbClr val="000000"/>
                </a:solidFill>
                <a:latin typeface="Corbel"/>
              </a:rPr>
              <a:t>2015</a:t>
            </a:r>
            <a:r>
              <a:rPr b="0" lang="ja-JP" sz="2000" spc="-1" strike="noStrike">
                <a:solidFill>
                  <a:srgbClr val="000000"/>
                </a:solidFill>
                <a:latin typeface="Corbel"/>
              </a:rPr>
              <a:t>年には</a:t>
            </a:r>
            <a:r>
              <a:rPr b="0" lang="en-US" sz="2000" spc="-1" strike="noStrike">
                <a:solidFill>
                  <a:srgbClr val="000000"/>
                </a:solidFill>
                <a:latin typeface="Corbel"/>
              </a:rPr>
              <a:t>38.4</a:t>
            </a:r>
            <a:r>
              <a:rPr b="0" lang="ja-JP" sz="2000" spc="-1" strike="noStrike">
                <a:solidFill>
                  <a:srgbClr val="000000"/>
                </a:solidFill>
                <a:latin typeface="Corbel"/>
              </a:rPr>
              <a:t>十億ドル（約４兆</a:t>
            </a:r>
            <a:r>
              <a:rPr b="0" lang="en-US" sz="2000" spc="-1" strike="noStrike">
                <a:solidFill>
                  <a:srgbClr val="000000"/>
                </a:solidFill>
                <a:latin typeface="Corbel"/>
              </a:rPr>
              <a:t>1,160</a:t>
            </a:r>
            <a:r>
              <a:rPr b="0" lang="ja-JP" sz="2000" spc="-1" strike="noStrike">
                <a:solidFill>
                  <a:srgbClr val="000000"/>
                </a:solidFill>
                <a:latin typeface="Corbel"/>
              </a:rPr>
              <a:t>億円）（みずほ銀行調査）</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流通チャネルでは百貨店に次ぐ第２のチャネルとなり、自然派・オーガニック系のブランドや保湿効果をうたったフェイスパックが流行しています。</a:t>
            </a:r>
            <a:endParaRPr b="0" lang="en-US" sz="2000" spc="-1" strike="noStrike">
              <a:solidFill>
                <a:srgbClr val="000000"/>
              </a:solidFill>
              <a:latin typeface="Corbel"/>
            </a:endParaRPr>
          </a:p>
        </p:txBody>
      </p:sp>
      <p:sp>
        <p:nvSpPr>
          <p:cNvPr id="644" name="スライド番号プレースホルダー 9"/>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85CBE-875C-4D6D-B693-152B379AEDCF}"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pic>
        <p:nvPicPr>
          <p:cNvPr id="645" name="図 11" descr=""/>
          <p:cNvPicPr/>
          <p:nvPr/>
        </p:nvPicPr>
        <p:blipFill>
          <a:blip r:embed="rId1"/>
          <a:stretch/>
        </p:blipFill>
        <p:spPr>
          <a:xfrm>
            <a:off x="4924440" y="2133720"/>
            <a:ext cx="3301920" cy="41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テキスト ボックス 3"/>
          <p:cNvSpPr/>
          <p:nvPr/>
        </p:nvSpPr>
        <p:spPr>
          <a:xfrm>
            <a:off x="2688480" y="720720"/>
            <a:ext cx="357012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３ </a:t>
            </a:r>
            <a:r>
              <a:rPr b="0" lang="en-US" sz="2400" spc="-1" strike="noStrike">
                <a:solidFill>
                  <a:srgbClr val="000000"/>
                </a:solidFill>
                <a:latin typeface="Corbel"/>
              </a:rPr>
              <a:t>–</a:t>
            </a:r>
            <a:r>
              <a:rPr b="0" lang="ja-JP" sz="2400" spc="-1" strike="noStrike">
                <a:solidFill>
                  <a:srgbClr val="000000"/>
                </a:solidFill>
                <a:latin typeface="Corbel"/>
              </a:rPr>
              <a:t> ４　ビジネス環境分析</a:t>
            </a:r>
            <a:r>
              <a:rPr b="0" lang="en-US" sz="2400" spc="-1" strike="noStrike">
                <a:solidFill>
                  <a:srgbClr val="000000"/>
                </a:solidFill>
                <a:latin typeface="Corbel"/>
              </a:rPr>
              <a:t>(</a:t>
            </a:r>
            <a:r>
              <a:rPr b="0" lang="ja-JP" sz="2400" spc="-1" strike="noStrike">
                <a:solidFill>
                  <a:srgbClr val="000000"/>
                </a:solidFill>
                <a:latin typeface="Corbel"/>
              </a:rPr>
              <a:t>外部環境分析・市場動向</a:t>
            </a:r>
            <a:r>
              <a:rPr b="0" lang="en-US" sz="2400" spc="-1" strike="noStrike">
                <a:solidFill>
                  <a:srgbClr val="000000"/>
                </a:solidFill>
                <a:latin typeface="Corbel"/>
              </a:rPr>
              <a:t>)</a:t>
            </a:r>
            <a:endParaRPr b="0" lang="en-US" sz="2400" spc="-1" strike="noStrike">
              <a:solidFill>
                <a:srgbClr val="000000"/>
              </a:solidFill>
              <a:latin typeface="Corbel"/>
            </a:endParaRPr>
          </a:p>
        </p:txBody>
      </p:sp>
      <p:sp>
        <p:nvSpPr>
          <p:cNvPr id="647" name="テキスト ボックス 4"/>
          <p:cNvSpPr/>
          <p:nvPr/>
        </p:nvSpPr>
        <p:spPr>
          <a:xfrm>
            <a:off x="787320" y="1249200"/>
            <a:ext cx="796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orbel"/>
              </a:rPr>
              <a:t>基礎化粧品を求める層に女性人口が集中</a:t>
            </a:r>
            <a:endParaRPr b="0" lang="en-US" sz="2800" spc="-1" strike="noStrike">
              <a:solidFill>
                <a:srgbClr val="000000"/>
              </a:solidFill>
              <a:latin typeface="Corbel"/>
            </a:endParaRPr>
          </a:p>
        </p:txBody>
      </p:sp>
      <p:sp>
        <p:nvSpPr>
          <p:cNvPr id="648" name="テキスト ボックス 2"/>
          <p:cNvSpPr/>
          <p:nvPr/>
        </p:nvSpPr>
        <p:spPr>
          <a:xfrm>
            <a:off x="800280" y="2009880"/>
            <a:ext cx="76294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女性の年齢によって使う基礎化粧品は様々に変わります。そのため、中高年齢になるまで必要とする機能が変わり、全体では不動の消費力があります。</a:t>
            </a:r>
            <a:endParaRPr b="0" lang="en-US" sz="2000" spc="-1" strike="noStrike">
              <a:solidFill>
                <a:srgbClr val="000000"/>
              </a:solidFill>
              <a:latin typeface="Corbel"/>
            </a:endParaRPr>
          </a:p>
        </p:txBody>
      </p:sp>
      <p:sp>
        <p:nvSpPr>
          <p:cNvPr id="649" name="テキスト ボックス 7"/>
          <p:cNvSpPr/>
          <p:nvPr/>
        </p:nvSpPr>
        <p:spPr>
          <a:xfrm>
            <a:off x="800280" y="3168720"/>
            <a:ext cx="3995640" cy="265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ＭＳ ゴシック"/>
              </a:rPr>
              <a:t>2016</a:t>
            </a:r>
            <a:r>
              <a:rPr b="0" lang="ja-JP" sz="2000" spc="-1" strike="noStrike">
                <a:solidFill>
                  <a:srgbClr val="000000"/>
                </a:solidFill>
                <a:latin typeface="ＭＳ ゴシック"/>
              </a:rPr>
              <a:t>年</a:t>
            </a:r>
            <a:r>
              <a:rPr b="0" lang="ja-JP" sz="2000" spc="-1" strike="noStrike">
                <a:solidFill>
                  <a:srgbClr val="000000"/>
                </a:solidFill>
                <a:latin typeface="Corbel"/>
              </a:rPr>
              <a:t>の中国の人口ピラミッド</a:t>
            </a:r>
            <a:endParaRPr b="0" lang="en-US" sz="2000" spc="-1" strike="noStrike">
              <a:solidFill>
                <a:srgbClr val="000000"/>
              </a:solidFill>
              <a:latin typeface="Corbel"/>
            </a:endParaRPr>
          </a:p>
          <a:p>
            <a:pPr>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お肌の曲がり角の</a:t>
            </a:r>
            <a:r>
              <a:rPr b="0" lang="en-US" sz="2000" spc="-1" strike="noStrike">
                <a:solidFill>
                  <a:srgbClr val="000000"/>
                </a:solidFill>
                <a:latin typeface="ＭＳ ゴシック"/>
              </a:rPr>
              <a:t>25</a:t>
            </a:r>
            <a:r>
              <a:rPr b="0" lang="ja-JP" sz="2000" spc="-1" strike="noStrike">
                <a:solidFill>
                  <a:srgbClr val="000000"/>
                </a:solidFill>
                <a:latin typeface="Corbel"/>
              </a:rPr>
              <a:t>歳</a:t>
            </a:r>
            <a:endParaRPr b="0" lang="en-US" sz="2000" spc="-1" strike="noStrike">
              <a:solidFill>
                <a:srgbClr val="000000"/>
              </a:solidFill>
              <a:latin typeface="Corbel"/>
            </a:endParaRPr>
          </a:p>
          <a:p>
            <a:pPr>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更年期が始まる</a:t>
            </a:r>
            <a:r>
              <a:rPr b="0" lang="en-US" sz="2000" spc="-1" strike="noStrike">
                <a:solidFill>
                  <a:srgbClr val="000000"/>
                </a:solidFill>
                <a:latin typeface="ＭＳ ゴシック"/>
              </a:rPr>
              <a:t>45</a:t>
            </a:r>
            <a:r>
              <a:rPr b="0" lang="ja-JP" sz="2000" spc="-1" strike="noStrike">
                <a:solidFill>
                  <a:srgbClr val="000000"/>
                </a:solidFill>
                <a:latin typeface="Corbel"/>
              </a:rPr>
              <a:t>歳</a:t>
            </a:r>
            <a:endParaRPr b="0" lang="en-US" sz="2000" spc="-1" strike="noStrike">
              <a:solidFill>
                <a:srgbClr val="000000"/>
              </a:solidFill>
              <a:latin typeface="Corbel"/>
            </a:endParaRPr>
          </a:p>
          <a:p>
            <a:pPr>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加齢によるお肌の悩みの</a:t>
            </a:r>
            <a:r>
              <a:rPr b="0" lang="en-US" sz="2000" spc="-1" strike="noStrike">
                <a:solidFill>
                  <a:srgbClr val="000000"/>
                </a:solidFill>
                <a:latin typeface="ＭＳ ゴシック"/>
              </a:rPr>
              <a:t>60</a:t>
            </a:r>
            <a:r>
              <a:rPr b="0" lang="ja-JP" sz="2000" spc="-1" strike="noStrike">
                <a:solidFill>
                  <a:srgbClr val="000000"/>
                </a:solidFill>
                <a:latin typeface="Corbel"/>
              </a:rPr>
              <a:t>歳</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がそれぞれの年代層のピークで</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基礎化粧品の切り替え時期に当たる人たちが多いことが特徴で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grpSp>
        <p:nvGrpSpPr>
          <p:cNvPr id="650" name="図形グループ 1"/>
          <p:cNvGrpSpPr/>
          <p:nvPr/>
        </p:nvGrpSpPr>
        <p:grpSpPr>
          <a:xfrm>
            <a:off x="4986360" y="2876400"/>
            <a:ext cx="3368520" cy="3397320"/>
            <a:chOff x="4986360" y="2876400"/>
            <a:chExt cx="3368520" cy="3397320"/>
          </a:xfrm>
        </p:grpSpPr>
        <p:pic>
          <p:nvPicPr>
            <p:cNvPr id="651" name="図 6" descr=""/>
            <p:cNvPicPr/>
            <p:nvPr/>
          </p:nvPicPr>
          <p:blipFill>
            <a:blip r:embed="rId1"/>
            <a:stretch/>
          </p:blipFill>
          <p:spPr>
            <a:xfrm>
              <a:off x="4986360" y="2876400"/>
              <a:ext cx="3368520" cy="3397320"/>
            </a:xfrm>
            <a:prstGeom prst="rect">
              <a:avLst/>
            </a:prstGeom>
            <a:ln w="0">
              <a:noFill/>
            </a:ln>
          </p:spPr>
        </p:pic>
        <p:pic>
          <p:nvPicPr>
            <p:cNvPr id="652" name="円/楕円 8" descr=""/>
            <p:cNvPicPr/>
            <p:nvPr/>
          </p:nvPicPr>
          <p:blipFill>
            <a:blip r:embed="rId2"/>
            <a:stretch/>
          </p:blipFill>
          <p:spPr>
            <a:xfrm>
              <a:off x="7089120" y="5065920"/>
              <a:ext cx="554760" cy="524160"/>
            </a:xfrm>
            <a:prstGeom prst="rect">
              <a:avLst/>
            </a:prstGeom>
            <a:ln w="0">
              <a:noFill/>
            </a:ln>
          </p:spPr>
        </p:pic>
        <p:pic>
          <p:nvPicPr>
            <p:cNvPr id="653" name="円/楕円 9" descr=""/>
            <p:cNvPicPr/>
            <p:nvPr/>
          </p:nvPicPr>
          <p:blipFill>
            <a:blip r:embed="rId3"/>
            <a:stretch/>
          </p:blipFill>
          <p:spPr>
            <a:xfrm>
              <a:off x="7131960" y="4498920"/>
              <a:ext cx="560880" cy="524160"/>
            </a:xfrm>
            <a:prstGeom prst="rect">
              <a:avLst/>
            </a:prstGeom>
            <a:ln w="0">
              <a:noFill/>
            </a:ln>
          </p:spPr>
        </p:pic>
        <p:pic>
          <p:nvPicPr>
            <p:cNvPr id="654" name="直線コネクタ 11" descr=""/>
            <p:cNvPicPr/>
            <p:nvPr/>
          </p:nvPicPr>
          <p:blipFill>
            <a:blip r:embed="rId4"/>
            <a:stretch/>
          </p:blipFill>
          <p:spPr>
            <a:xfrm>
              <a:off x="5327280" y="4681800"/>
              <a:ext cx="1938600" cy="158400"/>
            </a:xfrm>
            <a:prstGeom prst="rect">
              <a:avLst/>
            </a:prstGeom>
            <a:ln w="0">
              <a:noFill/>
            </a:ln>
          </p:spPr>
        </p:pic>
        <p:pic>
          <p:nvPicPr>
            <p:cNvPr id="655" name="直線コネクタ 13" descr=""/>
            <p:cNvPicPr/>
            <p:nvPr/>
          </p:nvPicPr>
          <p:blipFill>
            <a:blip r:embed="rId5"/>
            <a:stretch/>
          </p:blipFill>
          <p:spPr>
            <a:xfrm>
              <a:off x="5278320" y="5261040"/>
              <a:ext cx="1938600" cy="152280"/>
            </a:xfrm>
            <a:prstGeom prst="rect">
              <a:avLst/>
            </a:prstGeom>
            <a:ln w="0">
              <a:noFill/>
            </a:ln>
          </p:spPr>
        </p:pic>
        <p:pic>
          <p:nvPicPr>
            <p:cNvPr id="656" name="円/楕円 14" descr=""/>
            <p:cNvPicPr/>
            <p:nvPr/>
          </p:nvPicPr>
          <p:blipFill>
            <a:blip r:embed="rId6"/>
            <a:stretch/>
          </p:blipFill>
          <p:spPr>
            <a:xfrm>
              <a:off x="6912360" y="4035600"/>
              <a:ext cx="554760" cy="524160"/>
            </a:xfrm>
            <a:prstGeom prst="rect">
              <a:avLst/>
            </a:prstGeom>
            <a:ln w="0">
              <a:noFill/>
            </a:ln>
          </p:spPr>
        </p:pic>
        <p:pic>
          <p:nvPicPr>
            <p:cNvPr id="657" name="直線コネクタ 15" descr=""/>
            <p:cNvPicPr/>
            <p:nvPr/>
          </p:nvPicPr>
          <p:blipFill>
            <a:blip r:embed="rId7"/>
            <a:stretch/>
          </p:blipFill>
          <p:spPr>
            <a:xfrm>
              <a:off x="5223600" y="4212360"/>
              <a:ext cx="1785960" cy="158400"/>
            </a:xfrm>
            <a:prstGeom prst="rect">
              <a:avLst/>
            </a:prstGeom>
            <a:ln w="0">
              <a:noFill/>
            </a:ln>
          </p:spPr>
        </p:pic>
      </p:grpSp>
      <p:sp>
        <p:nvSpPr>
          <p:cNvPr id="658" name="スライド番号プレースホルダー 18"/>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FC8D3-191B-4935-9D04-F7103347298C}"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
        <p:nvSpPr>
          <p:cNvPr id="659" name="テキスト ボックス 5"/>
          <p:cNvSpPr/>
          <p:nvPr/>
        </p:nvSpPr>
        <p:spPr>
          <a:xfrm>
            <a:off x="4986360" y="6227640"/>
            <a:ext cx="3443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Corbel"/>
              </a:rPr>
              <a:t>出典：</a:t>
            </a:r>
            <a:r>
              <a:rPr b="0" lang="en-US" sz="800" spc="-1" strike="noStrike">
                <a:solidFill>
                  <a:srgbClr val="000000"/>
                </a:solidFill>
                <a:latin typeface="Corbel"/>
              </a:rPr>
              <a:t>https://populationpyramid.net/ja/%E4%B8%AD%E8%8F%AF%E4%BA%BA%E6%B0%91%E5%85%B1%E5%92%8C%E5%9B%BD/2016/</a:t>
            </a:r>
            <a:endParaRPr b="0" lang="en-US" sz="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正方形/長方形 3"/>
          <p:cNvSpPr/>
          <p:nvPr/>
        </p:nvSpPr>
        <p:spPr>
          <a:xfrm>
            <a:off x="932040" y="1720800"/>
            <a:ext cx="7584840" cy="4117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中国の化粧品マーケティング専門雑誌の調査では</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輸入化粧品を使ったことがある人が</a:t>
            </a:r>
            <a:r>
              <a:rPr b="0" lang="en-US" sz="2000" spc="-1" strike="noStrike">
                <a:solidFill>
                  <a:srgbClr val="000000"/>
                </a:solidFill>
                <a:latin typeface="ＭＳ ゴシック"/>
              </a:rPr>
              <a:t>58.78</a:t>
            </a:r>
            <a:r>
              <a:rPr b="0" lang="ja-JP" sz="2000" spc="-1" strike="noStrike">
                <a:solidFill>
                  <a:srgbClr val="000000"/>
                </a:solidFill>
                <a:latin typeface="Corbel"/>
              </a:rPr>
              <a:t>％</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輸入化粧品をいつも使っているが</a:t>
            </a:r>
            <a:r>
              <a:rPr b="0" lang="en-US" sz="2000" spc="-1" strike="noStrike">
                <a:solidFill>
                  <a:srgbClr val="000000"/>
                </a:solidFill>
                <a:latin typeface="ＭＳ ゴシック"/>
              </a:rPr>
              <a:t>34.69</a:t>
            </a:r>
            <a:r>
              <a:rPr b="0" lang="ja-JP" sz="2000" spc="-1" strike="noStrike">
                <a:solidFill>
                  <a:srgbClr val="000000"/>
                </a:solidFill>
                <a:latin typeface="Corbel"/>
              </a:rPr>
              <a:t>％</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と輸入化粧品が普及していま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中国への輸入化粧品の価格は中国国内の化粧品より高く、</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販売価格帯は約</a:t>
            </a:r>
            <a:r>
              <a:rPr b="0" lang="en-US" sz="2000" spc="-1" strike="noStrike">
                <a:solidFill>
                  <a:srgbClr val="000000"/>
                </a:solidFill>
                <a:latin typeface="ＭＳ ゴシック"/>
              </a:rPr>
              <a:t>3,000</a:t>
            </a:r>
            <a:r>
              <a:rPr b="0" lang="ja-JP" sz="2000" spc="-1" strike="noStrike">
                <a:solidFill>
                  <a:srgbClr val="000000"/>
                </a:solidFill>
                <a:latin typeface="Corbel"/>
              </a:rPr>
              <a:t>円</a:t>
            </a:r>
            <a:r>
              <a:rPr b="0" lang="en-US" sz="2000" spc="-1" strike="noStrike">
                <a:solidFill>
                  <a:srgbClr val="000000"/>
                </a:solidFill>
                <a:latin typeface="Corbel"/>
              </a:rPr>
              <a:t>〜</a:t>
            </a:r>
            <a:r>
              <a:rPr b="0" lang="en-US" sz="2000" spc="-1" strike="noStrike">
                <a:solidFill>
                  <a:srgbClr val="000000"/>
                </a:solidFill>
                <a:latin typeface="ＭＳ ゴシック"/>
              </a:rPr>
              <a:t>4,000</a:t>
            </a:r>
            <a:r>
              <a:rPr b="0" lang="ja-JP" sz="2000" spc="-1" strike="noStrike">
                <a:solidFill>
                  <a:srgbClr val="000000"/>
                </a:solidFill>
                <a:latin typeface="Corbel"/>
              </a:rPr>
              <a:t>円がメインと言われています。</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輸入化粧品に対する要望</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富裕層をより多くお得意様にすること</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優れた品質</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トレンドと流行の発信</a:t>
            </a:r>
            <a:endParaRPr b="0" lang="en-US" sz="2000" spc="-1" strike="noStrike">
              <a:solidFill>
                <a:srgbClr val="000000"/>
              </a:solidFill>
              <a:latin typeface="Corbe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を中国の化粧品業界が期待している事が浮き彫りとなりました。</a:t>
            </a:r>
            <a:endParaRPr b="0" lang="en-US" sz="2000" spc="-1" strike="noStrike">
              <a:solidFill>
                <a:srgbClr val="000000"/>
              </a:solidFill>
              <a:latin typeface="Corbel"/>
            </a:endParaRPr>
          </a:p>
        </p:txBody>
      </p:sp>
      <p:sp>
        <p:nvSpPr>
          <p:cNvPr id="661" name="テキスト ボックス 5"/>
          <p:cNvSpPr/>
          <p:nvPr/>
        </p:nvSpPr>
        <p:spPr>
          <a:xfrm>
            <a:off x="2688480" y="720720"/>
            <a:ext cx="357012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３ </a:t>
            </a:r>
            <a:r>
              <a:rPr b="0" lang="en-US" sz="2400" spc="-1" strike="noStrike">
                <a:solidFill>
                  <a:srgbClr val="000000"/>
                </a:solidFill>
                <a:latin typeface="Corbel"/>
              </a:rPr>
              <a:t>–</a:t>
            </a:r>
            <a:r>
              <a:rPr b="0" lang="ja-JP" sz="2400" spc="-1" strike="noStrike">
                <a:solidFill>
                  <a:srgbClr val="000000"/>
                </a:solidFill>
                <a:latin typeface="Corbel"/>
              </a:rPr>
              <a:t> ５　ビジネス環境分析</a:t>
            </a:r>
            <a:r>
              <a:rPr b="0" lang="en-US" sz="2400" spc="-1" strike="noStrike">
                <a:solidFill>
                  <a:srgbClr val="000000"/>
                </a:solidFill>
                <a:latin typeface="Corbel"/>
              </a:rPr>
              <a:t>(</a:t>
            </a:r>
            <a:r>
              <a:rPr b="0" lang="ja-JP" sz="2400" spc="-1" strike="noStrike">
                <a:solidFill>
                  <a:srgbClr val="000000"/>
                </a:solidFill>
                <a:latin typeface="Corbel"/>
              </a:rPr>
              <a:t>外部環境分析・市場動向</a:t>
            </a:r>
            <a:r>
              <a:rPr b="0" lang="en-US" sz="2400" spc="-1" strike="noStrike">
                <a:solidFill>
                  <a:srgbClr val="000000"/>
                </a:solidFill>
                <a:latin typeface="Corbel"/>
              </a:rPr>
              <a:t>)</a:t>
            </a:r>
            <a:endParaRPr b="0" lang="en-US" sz="2400" spc="-1" strike="noStrike">
              <a:solidFill>
                <a:srgbClr val="000000"/>
              </a:solidFill>
              <a:latin typeface="Corbel"/>
            </a:endParaRPr>
          </a:p>
        </p:txBody>
      </p:sp>
      <p:sp>
        <p:nvSpPr>
          <p:cNvPr id="662" name="テキスト ボックス 6"/>
          <p:cNvSpPr/>
          <p:nvPr/>
        </p:nvSpPr>
        <p:spPr>
          <a:xfrm>
            <a:off x="787320" y="1181160"/>
            <a:ext cx="813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orbel"/>
              </a:rPr>
              <a:t>消費者は高品質な商品と情報を求めている</a:t>
            </a:r>
            <a:endParaRPr b="0" lang="en-US" sz="2800" spc="-1" strike="noStrike">
              <a:solidFill>
                <a:srgbClr val="000000"/>
              </a:solidFill>
              <a:latin typeface="Corbel"/>
            </a:endParaRPr>
          </a:p>
        </p:txBody>
      </p:sp>
      <p:sp>
        <p:nvSpPr>
          <p:cNvPr id="663" name="スライド番号プレースホルダー 9"/>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40CA2-09FD-416E-9032-DC43BC34C7F6}"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テキスト ボックス 3"/>
          <p:cNvSpPr/>
          <p:nvPr/>
        </p:nvSpPr>
        <p:spPr>
          <a:xfrm>
            <a:off x="2808720" y="720720"/>
            <a:ext cx="3021480" cy="45972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400" spc="-1" strike="noStrike">
                <a:solidFill>
                  <a:srgbClr val="000000"/>
                </a:solidFill>
                <a:latin typeface="Corbel"/>
              </a:rPr>
              <a:t>４ 　ビジネス環境分析</a:t>
            </a:r>
            <a:r>
              <a:rPr b="0" lang="en-US" sz="2400" spc="-1" strike="noStrike">
                <a:solidFill>
                  <a:srgbClr val="000000"/>
                </a:solidFill>
                <a:latin typeface="Corbel"/>
              </a:rPr>
              <a:t>(</a:t>
            </a:r>
            <a:r>
              <a:rPr b="0" lang="ja-JP" sz="2400" spc="-1" strike="noStrike">
                <a:solidFill>
                  <a:srgbClr val="000000"/>
                </a:solidFill>
                <a:latin typeface="Corbel"/>
              </a:rPr>
              <a:t>内部環境分析・経営資源</a:t>
            </a:r>
            <a:r>
              <a:rPr b="0" lang="en-US" sz="2400" spc="-1" strike="noStrike">
                <a:solidFill>
                  <a:srgbClr val="000000"/>
                </a:solidFill>
                <a:latin typeface="Corbel"/>
              </a:rPr>
              <a:t>)</a:t>
            </a:r>
            <a:endParaRPr b="0" lang="en-US" sz="2400" spc="-1" strike="noStrike">
              <a:solidFill>
                <a:srgbClr val="000000"/>
              </a:solidFill>
              <a:latin typeface="Corbel"/>
            </a:endParaRPr>
          </a:p>
        </p:txBody>
      </p:sp>
      <p:sp>
        <p:nvSpPr>
          <p:cNvPr id="665" name="テキスト ボックス 4"/>
          <p:cNvSpPr/>
          <p:nvPr/>
        </p:nvSpPr>
        <p:spPr>
          <a:xfrm>
            <a:off x="720720" y="1038240"/>
            <a:ext cx="8110440" cy="3502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Corbel"/>
              </a:rPr>
              <a:t>私たちの強み</a:t>
            </a:r>
            <a:endParaRPr b="0" lang="en-US" sz="3200" spc="-1" strike="noStrike">
              <a:solidFill>
                <a:srgbClr val="000000"/>
              </a:solidFill>
              <a:latin typeface="Corbel"/>
            </a:endParaRPr>
          </a:p>
          <a:p>
            <a:pPr>
              <a:lnSpc>
                <a:spcPct val="13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グループメンバーは全員中国人留学生です。</a:t>
            </a:r>
            <a:endParaRPr b="0" lang="en-US" sz="2000" spc="-1" strike="noStrike">
              <a:solidFill>
                <a:srgbClr val="000000"/>
              </a:solidFill>
              <a:latin typeface="Corbel"/>
            </a:endParaRPr>
          </a:p>
          <a:p>
            <a:pPr>
              <a:lnSpc>
                <a:spcPct val="13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クリエイティブビジネス経営学科で経営学を学んでいます。</a:t>
            </a:r>
            <a:endParaRPr b="0" lang="en-US" sz="2000" spc="-1" strike="noStrike">
              <a:solidFill>
                <a:srgbClr val="000000"/>
              </a:solidFill>
              <a:latin typeface="Corbel"/>
            </a:endParaRPr>
          </a:p>
          <a:p>
            <a:pPr>
              <a:lnSpc>
                <a:spcPct val="13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５人中４人が女性で、日本で</a:t>
            </a:r>
            <a:r>
              <a:rPr b="0" lang="en-US" sz="2000" spc="-1" strike="noStrike">
                <a:solidFill>
                  <a:srgbClr val="000000"/>
                </a:solidFill>
                <a:latin typeface="Corbel"/>
              </a:rPr>
              <a:t>6</a:t>
            </a:r>
            <a:r>
              <a:rPr b="0" lang="ja-JP" sz="2000" spc="-1" strike="noStrike">
                <a:solidFill>
                  <a:srgbClr val="000000"/>
                </a:solidFill>
                <a:latin typeface="Corbel"/>
              </a:rPr>
              <a:t>年間の生活経験があります。</a:t>
            </a:r>
            <a:endParaRPr b="0" lang="en-US" sz="2000" spc="-1" strike="noStrike">
              <a:solidFill>
                <a:srgbClr val="000000"/>
              </a:solidFill>
              <a:latin typeface="Corbel"/>
            </a:endParaRPr>
          </a:p>
          <a:p>
            <a:pPr>
              <a:lnSpc>
                <a:spcPct val="13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メンバーの一人は日本の化粧品販売会社に就職が決まっており、日本の化粧品の良さをよく理解しています。</a:t>
            </a:r>
            <a:endParaRPr b="0" lang="en-US" sz="2000" spc="-1" strike="noStrike">
              <a:solidFill>
                <a:srgbClr val="000000"/>
              </a:solidFill>
              <a:latin typeface="Corbel"/>
            </a:endParaRPr>
          </a:p>
          <a:p>
            <a:pPr>
              <a:lnSpc>
                <a:spcPct val="13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自分たちの経験からお肌のタイプが近い中国女性にどんな化粧品に合うかをよく知ってます。</a:t>
            </a:r>
            <a:endParaRPr b="0" lang="en-US" sz="2000" spc="-1" strike="noStrike">
              <a:solidFill>
                <a:srgbClr val="000000"/>
              </a:solidFill>
              <a:latin typeface="Corbel"/>
            </a:endParaRPr>
          </a:p>
          <a:p>
            <a:pPr>
              <a:lnSpc>
                <a:spcPct val="13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メンバーは中国語だけではなく英語、朝鮮語も使えるので中国国内に住む少数民族の人たちにも対応することができます。</a:t>
            </a:r>
            <a:endParaRPr b="0" lang="en-US" sz="2000" spc="-1" strike="noStrike">
              <a:solidFill>
                <a:srgbClr val="000000"/>
              </a:solidFill>
              <a:latin typeface="Corbel"/>
            </a:endParaRPr>
          </a:p>
          <a:p>
            <a:pPr>
              <a:lnSpc>
                <a:spcPct val="13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Corbel"/>
              </a:rPr>
              <a:t>微信（ウェイシン：</a:t>
            </a:r>
            <a:r>
              <a:rPr b="0" lang="en-US" sz="2000" spc="-1" strike="noStrike">
                <a:solidFill>
                  <a:srgbClr val="000000"/>
                </a:solidFill>
                <a:latin typeface="Corbel"/>
              </a:rPr>
              <a:t>WeChat)</a:t>
            </a:r>
            <a:r>
              <a:rPr b="0" lang="ja-JP" sz="2000" spc="-1" strike="noStrike">
                <a:solidFill>
                  <a:srgbClr val="000000"/>
                </a:solidFill>
                <a:latin typeface="Corbel"/>
              </a:rPr>
              <a:t>、微博（ウェイボー：</a:t>
            </a:r>
            <a:r>
              <a:rPr b="0" lang="en-US" sz="2000" spc="-1" strike="noStrike">
                <a:solidFill>
                  <a:srgbClr val="000000"/>
                </a:solidFill>
                <a:latin typeface="Corbel"/>
              </a:rPr>
              <a:t>weibo</a:t>
            </a:r>
            <a:r>
              <a:rPr b="0" lang="ja-JP" sz="2000" spc="-1" strike="noStrike">
                <a:solidFill>
                  <a:srgbClr val="000000"/>
                </a:solidFill>
                <a:latin typeface="Corbel"/>
              </a:rPr>
              <a:t>）といった</a:t>
            </a:r>
            <a:r>
              <a:rPr b="0" lang="en-US" sz="2000" spc="-1" strike="noStrike">
                <a:solidFill>
                  <a:srgbClr val="000000"/>
                </a:solidFill>
                <a:latin typeface="Corbel"/>
              </a:rPr>
              <a:t>SNS</a:t>
            </a:r>
            <a:r>
              <a:rPr b="0" lang="ja-JP" sz="2000" spc="-1" strike="noStrike">
                <a:solidFill>
                  <a:srgbClr val="000000"/>
                </a:solidFill>
                <a:latin typeface="Corbel"/>
              </a:rPr>
              <a:t>の使い方に精通しています。</a:t>
            </a:r>
            <a:endParaRPr b="0" lang="en-US" sz="2000" spc="-1" strike="noStrike">
              <a:solidFill>
                <a:srgbClr val="000000"/>
              </a:solidFill>
              <a:latin typeface="Corbel"/>
            </a:endParaRPr>
          </a:p>
        </p:txBody>
      </p:sp>
      <p:sp>
        <p:nvSpPr>
          <p:cNvPr id="666" name="スライド番号プレースホルダー 7"/>
          <p:cNvSpPr/>
          <p:nvPr/>
        </p:nvSpPr>
        <p:spPr>
          <a:xfrm>
            <a:off x="7715160" y="0"/>
            <a:ext cx="142884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10E7D-7821-4F7F-80C1-0F6850941953}" type="slidenum">
              <a:rPr b="0" lang="ja-JP" sz="1200" spc="-1" strike="noStrike">
                <a:solidFill>
                  <a:srgbClr val="6e4113"/>
                </a:solidFill>
                <a:latin typeface="Corbel"/>
              </a:rPr>
              <a:t>&lt;number&gt;</a:t>
            </a:fld>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6T01:41:00Z</dcterms:created>
  <dc:creator>板橋 義也</dc:creator>
  <dc:description/>
  <dc:language>en-US</dc:language>
  <cp:lastModifiedBy>sakuma</cp:lastModifiedBy>
  <cp:lastPrinted>2016-09-01T07:12:30Z</cp:lastPrinted>
  <dcterms:modified xsi:type="dcterms:W3CDTF">2017-01-16T10:21:39Z</dcterms:modified>
  <cp:revision>43</cp:revision>
  <dc:subject/>
  <dc:title>スマトフォンアプリケーション 開発企画書</dc:title>
</cp:coreProperties>
</file>